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9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notesSlides/_rels/notesSlide2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media/image26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wmf" ContentType="image/x-wmf"/>
  <Override PartName="/ppt/media/image14.png" ContentType="image/png"/>
  <Override PartName="/ppt/media/image24.png" ContentType="image/png"/>
  <Override PartName="/ppt/media/image20.png" ContentType="image/png"/>
  <Override PartName="/ppt/media/image18.png" ContentType="image/png"/>
  <Override PartName="/ppt/media/image11.png" ContentType="image/png"/>
  <Override PartName="/ppt/media/image38.png" ContentType="image/png"/>
  <Override PartName="/ppt/media/image13.png" ContentType="image/png"/>
  <Override PartName="/ppt/media/image40.png" ContentType="image/png"/>
  <Override PartName="/ppt/media/image8.wmf" ContentType="image/x-wmf"/>
  <Override PartName="/ppt/media/image33.png" ContentType="image/png"/>
  <Override PartName="/ppt/media/image12.png" ContentType="image/png"/>
  <Override PartName="/ppt/media/image35.wmf" ContentType="image/x-wmf"/>
  <Override PartName="/ppt/media/image3.jpeg" ContentType="image/jpeg"/>
  <Override PartName="/ppt/media/image15.png" ContentType="image/png"/>
  <Override PartName="/ppt/media/image39.png" ContentType="image/png"/>
  <Override PartName="/ppt/media/image9.png" ContentType="image/png"/>
  <Override PartName="/ppt/media/image37.wmf" ContentType="image/x-wmf"/>
  <Override PartName="/ppt/media/image36.png" ContentType="image/png"/>
  <Override PartName="/ppt/media/image6.png" ContentType="image/png"/>
  <Override PartName="/ppt/media/image1.png" ContentType="image/png"/>
  <Override PartName="/ppt/media/image29.wmf" ContentType="image/x-wmf"/>
  <Override PartName="/ppt/media/image31.png" ContentType="image/png"/>
  <Override PartName="/ppt/media/image10.png" ContentType="image/png"/>
  <Override PartName="/ppt/media/image5.png" ContentType="image/png"/>
  <Override PartName="/ppt/media/image7.jpeg" ContentType="image/jpeg"/>
  <Override PartName="/ppt/media/image28.png" ContentType="image/png"/>
  <Override PartName="/ppt/media/image34.png" ContentType="image/png"/>
  <Override PartName="/ppt/media/image4.png" ContentType="image/png"/>
  <Override PartName="/ppt/media/image30.wmf" ContentType="image/x-wmf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</p:sldMasterIdLst>
  <p:notesMasterIdLst>
    <p:notesMasterId r:id="rId41"/>
  </p:notesMasterIdLst>
  <p:sldIdLst>
    <p:sldId id="256" r:id="rId42"/>
    <p:sldId id="257" r:id="rId43"/>
    <p:sldId id="258" r:id="rId44"/>
    <p:sldId id="259" r:id="rId45"/>
    <p:sldId id="260" r:id="rId46"/>
    <p:sldId id="261" r:id="rId47"/>
    <p:sldId id="262" r:id="rId48"/>
    <p:sldId id="263" r:id="rId49"/>
    <p:sldId id="264" r:id="rId50"/>
    <p:sldId id="265" r:id="rId51"/>
    <p:sldId id="266" r:id="rId52"/>
    <p:sldId id="267" r:id="rId53"/>
    <p:sldId id="268" r:id="rId54"/>
    <p:sldId id="269" r:id="rId55"/>
    <p:sldId id="270" r:id="rId56"/>
    <p:sldId id="271" r:id="rId57"/>
    <p:sldId id="272" r:id="rId58"/>
    <p:sldId id="273" r:id="rId59"/>
    <p:sldId id="274" r:id="rId60"/>
    <p:sldId id="275" r:id="rId61"/>
    <p:sldId id="276" r:id="rId62"/>
    <p:sldId id="277" r:id="rId63"/>
    <p:sldId id="278" r:id="rId64"/>
    <p:sldId id="279" r:id="rId65"/>
    <p:sldId id="280" r:id="rId66"/>
    <p:sldId id="281" r:id="rId67"/>
    <p:sldId id="282" r:id="rId68"/>
    <p:sldId id="283" r:id="rId69"/>
    <p:sldId id="284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notesMaster" Target="notesMasters/notesMaster1.xml"/><Relationship Id="rId42" Type="http://schemas.openxmlformats.org/officeDocument/2006/relationships/slide" Target="slides/slide1.xml"/><Relationship Id="rId43" Type="http://schemas.openxmlformats.org/officeDocument/2006/relationships/slide" Target="slides/slide2.xml"/><Relationship Id="rId44" Type="http://schemas.openxmlformats.org/officeDocument/2006/relationships/slide" Target="slides/slide3.xml"/><Relationship Id="rId45" Type="http://schemas.openxmlformats.org/officeDocument/2006/relationships/slide" Target="slides/slide4.xml"/><Relationship Id="rId46" Type="http://schemas.openxmlformats.org/officeDocument/2006/relationships/slide" Target="slides/slide5.xml"/><Relationship Id="rId47" Type="http://schemas.openxmlformats.org/officeDocument/2006/relationships/slide" Target="slides/slide6.xml"/><Relationship Id="rId48" Type="http://schemas.openxmlformats.org/officeDocument/2006/relationships/slide" Target="slides/slide7.xml"/><Relationship Id="rId49" Type="http://schemas.openxmlformats.org/officeDocument/2006/relationships/slide" Target="slides/slide8.xml"/><Relationship Id="rId50" Type="http://schemas.openxmlformats.org/officeDocument/2006/relationships/slide" Target="slides/slide9.xml"/><Relationship Id="rId51" Type="http://schemas.openxmlformats.org/officeDocument/2006/relationships/slide" Target="slides/slide10.xml"/><Relationship Id="rId52" Type="http://schemas.openxmlformats.org/officeDocument/2006/relationships/slide" Target="slides/slide11.xml"/><Relationship Id="rId53" Type="http://schemas.openxmlformats.org/officeDocument/2006/relationships/slide" Target="slides/slide12.xml"/><Relationship Id="rId54" Type="http://schemas.openxmlformats.org/officeDocument/2006/relationships/slide" Target="slides/slide13.xml"/><Relationship Id="rId55" Type="http://schemas.openxmlformats.org/officeDocument/2006/relationships/slide" Target="slides/slide14.xml"/><Relationship Id="rId56" Type="http://schemas.openxmlformats.org/officeDocument/2006/relationships/slide" Target="slides/slide15.xml"/><Relationship Id="rId57" Type="http://schemas.openxmlformats.org/officeDocument/2006/relationships/slide" Target="slides/slide16.xml"/><Relationship Id="rId58" Type="http://schemas.openxmlformats.org/officeDocument/2006/relationships/slide" Target="slides/slide17.xml"/><Relationship Id="rId59" Type="http://schemas.openxmlformats.org/officeDocument/2006/relationships/slide" Target="slides/slide18.xml"/><Relationship Id="rId60" Type="http://schemas.openxmlformats.org/officeDocument/2006/relationships/slide" Target="slides/slide19.xml"/><Relationship Id="rId61" Type="http://schemas.openxmlformats.org/officeDocument/2006/relationships/slide" Target="slides/slide20.xml"/><Relationship Id="rId62" Type="http://schemas.openxmlformats.org/officeDocument/2006/relationships/slide" Target="slides/slide21.xml"/><Relationship Id="rId63" Type="http://schemas.openxmlformats.org/officeDocument/2006/relationships/slide" Target="slides/slide22.xml"/><Relationship Id="rId64" Type="http://schemas.openxmlformats.org/officeDocument/2006/relationships/slide" Target="slides/slide23.xml"/><Relationship Id="rId65" Type="http://schemas.openxmlformats.org/officeDocument/2006/relationships/slide" Target="slides/slide24.xml"/><Relationship Id="rId66" Type="http://schemas.openxmlformats.org/officeDocument/2006/relationships/slide" Target="slides/slide25.xml"/><Relationship Id="rId67" Type="http://schemas.openxmlformats.org/officeDocument/2006/relationships/slide" Target="slides/slide26.xml"/><Relationship Id="rId68" Type="http://schemas.openxmlformats.org/officeDocument/2006/relationships/slide" Target="slides/slide27.xml"/><Relationship Id="rId69" Type="http://schemas.openxmlformats.org/officeDocument/2006/relationships/slide" Target="slides/slide28.xml"/><Relationship Id="rId70" Type="http://schemas.openxmlformats.org/officeDocument/2006/relationships/slide" Target="slides/slide29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 type="dt" idx="10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PlaceHolder 5"/>
          <p:cNvSpPr>
            <a:spLocks noGrp="1"/>
          </p:cNvSpPr>
          <p:nvPr>
            <p:ph type="ftr" idx="10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PlaceHolder 6"/>
          <p:cNvSpPr>
            <a:spLocks noGrp="1"/>
          </p:cNvSpPr>
          <p:nvPr>
            <p:ph type="sldNum" idx="10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EC87E-CCEB-480D-AA0C-531716F8EA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F5302-4739-4A92-A825-C0F7D2B5CC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8727B-196C-4E61-8EDE-928D37CE29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B3865-5443-4A4C-86D3-193BDA6A08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EDC63-0AC0-4973-BBBC-8C2D12D6D6CE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D67A-F4C4-493B-BBA2-CA53DA109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FA2B-1627-438D-BCD2-525A747E2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C6DC338-CE5B-47B2-892B-45EBC0471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D49D-E3E6-423B-A2CE-B1A6941F7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FD0052D-B63B-4883-B3A3-D43C01A95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D5DB953-D13A-40AD-B8B8-317C7D834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A66F014-0EA8-43F0-B1EE-E4FD8D927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508C305-E249-451E-A4FD-1D0E8DC88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EFFB40C-432F-4CF0-B338-FE2978DF4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CCACAB0-0BD4-4015-96FB-0E634E25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A805173-9852-4F6B-95CC-814F2D82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991BEF3-ADF3-485C-80E0-64A58C7D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4EF8B0D-7ACB-4136-B7EC-B200FE50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58C97C3-E4AB-4EA6-AE19-64A54F3E8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9920-2690-4CC9-99A9-72A6F7A15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DD97D1F-8B66-4176-936D-DF97FFBC9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1D6F27-1D87-4EE8-BA84-D47CF2B5A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CB438D-8A06-4BA5-BEB5-EC84AB470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9C3785-9717-410F-9640-AD66308F6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722489-2B61-4951-B755-C209C3B77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59D24C-433C-41D4-8E35-0703900B5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33F268-9BC8-4FBA-A5D2-962DE625A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4111B2-2468-49B0-9B8D-821818A6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EEA6CA-A9AC-440A-B629-7EB8E35B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950377-21C5-497D-8A84-30870214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2A07F-5148-4289-A791-20CCDD3E0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D95192-825D-4558-935F-8613F9026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0A3949-FE29-4013-9357-CFF7567D6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8CD2F9-15A9-4287-94E5-D9F6CB419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C21969-CA1F-456E-AEF8-968605330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AB44D8-EDFF-4660-B0A7-A8DCF897E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C3932E-223E-4E66-8A9C-42E85F14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7D2C43-9146-43D2-9FC8-A6C376495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2FCFC0-F645-4C36-B95B-EF86BBEC5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B55A4F-55F4-4B8E-944A-A2E42CE0E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EEF641-503C-4A04-B313-63E2677A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349DE-8D31-4957-BAC9-73A61344C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29DF9F-EDA3-4F77-B384-89D5D60A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6F6CAD-5E63-4D52-883C-0489BFA9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3785C7-ECF1-4269-B898-A99B4D89C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94B727-72D4-4917-AA14-6DA4589A3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AD3C84-3342-49C5-9012-4CB6F4AE5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E50A0C1-71BC-4514-B77A-DBE2DE8FD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E2B6F52-AAED-48BA-B5A4-51FABD057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77EA132-2BF9-4C94-9107-7E26A1D3A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9D05F9C-88BA-4C60-8C4C-8AA850815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41663B4-2F2E-45AD-8313-0286191CA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6EAC4-C546-409B-BFA9-2F1E68BE2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629E64C-2EFB-4243-A9DE-8238CA155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3B570FE-F1DB-4A69-87CE-6992BCC2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A175B09-65D8-49DE-95E0-CC8CD9FA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329279E-D0E7-42D1-A313-1D6477EC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98D0789-E0DA-4A05-B85D-920B2A950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08EA05E-6CE0-45BE-B7BB-9DE6970BA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1AC4E6F-EE21-4CC8-A41D-1440B8A18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29050-E16F-4166-8D3B-3EEDC3144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C552B-71AC-49C8-9E74-B821FE1A7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E3208-2E40-4E97-ABAF-D16150301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E995F7-E2D0-4258-AA1E-277180AFB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33376D-D26A-49EF-8761-CC682FD46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EFF284-4EE9-4644-A301-D1429CEDA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4E970C-2AA8-4DAE-9F6C-2DE6958C7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FF1578-159E-4450-A271-8A3DCC8FE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74A22D-1CC9-432F-B1D5-80E127FDB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2C1E8B-CDC9-4083-AC35-0691C0A1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787D31-D670-435F-AE49-7CAAB0A7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735FF8-1DFF-4130-AE40-6449712D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130D8-1349-443F-BCBD-FDD12C52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C97B00-5FDB-449B-A66C-9F8D3F036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287552-AEEB-418B-AD60-17EA03AE3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861C22-DDA1-4139-94D1-B2D358562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24772E-C083-47AD-82BA-E2D569E05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61E391-FD53-428E-BD81-21F1D5357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B6828F-3D6F-4A7A-B0C6-49FE7916C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56BCCE-56E0-473E-A4B8-21AEB4FFA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33049E-F43B-48E7-A8D9-01A058433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72A625-00D3-4B62-A88E-A161D70E3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71289B-C4D6-431A-9900-019FB713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976B-2762-4FD8-B275-DB8D39B7F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3271C-0BC4-47E2-9EDF-645B1C36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EF681F-339B-4DB6-A5DF-59EA27A1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0F65A3-AAD5-448C-A35E-6D9BA0F8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DCBE6D-3058-4343-9474-4F1EDA1D4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E8D27C-FF87-4CC5-A122-82CDB8360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8C4006-AA82-408F-8FE8-D3BFD556F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8069D5-55D0-4138-8849-F81BD4821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087E36-C0C9-42A8-8414-692573215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D41D16-12BA-4D10-A8F2-137F18DB1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8460CA-87E2-4AA7-A613-C95A5EB88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DA2ACC-5E0B-4B23-883C-9D646CFF6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81EC5-CCAF-4EF0-B683-E2406CF6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FAB7D8-7426-4A5D-8340-4334EB4DD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FCF384-4FB8-41E4-825C-42CD880D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5661BD-8678-4395-8AE1-3E1B4E01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3A9B53-600B-41C7-8084-4371D64F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0C8FE6-1631-432C-BFF8-D0BA2B22B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6CE69A-1405-4821-8C21-C2F149FBE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F10E03-F310-45DF-9464-5F1E5CB82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A6D75F-D393-4E13-9B84-FDD704443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EA9964-1154-48CB-83FC-84DDEC90E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33CB1C-EDAE-4DFA-B8DE-27E2FB43D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24DF1-2913-40FE-87D5-7E894DC3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772519-DFA5-4ED9-A616-B4A999070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7B1610-2357-4BB9-A02E-E2912649E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D55615-705C-4038-8F3C-A4A8311DB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0A3052-D3CC-4583-B542-79D13F21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1AA498-A707-4C90-9897-1AFBE2B6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D789A4-969B-4C1C-976C-7B61D928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0A8B6F-4D91-46B2-A382-75D432954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11D1C6-C94D-4C1E-A3CE-4F2620614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B62A6B-C297-4062-9C63-98E631A63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95E06B-DFF0-4EAA-807A-41071F2CA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6C4C9-41F9-4763-86E2-D3C80BE80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7B1780-7460-4A27-95C5-329125773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69E310-4484-439B-9F4F-15C606D1E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67439B-74BB-4B9E-9FE4-044A691D9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06C28A-679E-4D3F-9CD8-E8E59D235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519168-7BBC-4B63-BC17-0AD73C4B5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E5D9EE-2E8B-4A2B-8E87-1E20C788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2A8803-9376-4285-AFBD-FAE6D627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6DB5ED-0E6C-4EF8-8AB7-F3A454BC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5EB911-9A76-4C4C-B76A-21AAD2529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4E3E67-4CBA-41C3-858A-69305A5C3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3197A-B176-43AF-8EFF-8679150B0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B881B6-90B8-41B6-8D9B-CA17B0779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A62686-9F98-4BDF-A713-CBDDE2B3A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892DBE-F5E5-4602-AB52-FBFA71D21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3E23AC-0962-4BA8-ACBE-1D354D120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A55B2B-9F83-4F70-AED9-3EA9F5FB5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33DDC8-666E-4941-9E6F-F8AAD7796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BF2B78-F8B5-477A-B2F0-2A2C21138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7E8533-DECA-4C38-872C-C91502FC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BE507C-2A8B-4969-8F8B-CEE10F2C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8CFB2C-91D3-44C5-8038-F234DB66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A076C-9DD1-427E-9F4D-8B4F55A11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FA9197-C906-40A1-A323-D40A34D56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6FD751-E686-447A-9B27-A976BFC81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12A2D7-6083-4304-A9CE-A88B3F81B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710451-F4AC-416F-8185-83DF5BDC1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878D68-882E-4B46-AA3C-FF6AB1962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A61986-1770-4E51-A2A9-7CAF5F96E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A3B8D3-F1E9-4859-8DF2-D4251FE79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6A25AA-8915-4B87-97E8-7AEF8A2EA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091D85-C22A-414C-8E0E-95082214A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A24315-D85F-4508-A7BC-3C59A148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210BE-8E3B-4B81-9896-82B763BDA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EA8845-2C28-4D57-84C9-EE436E5A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78AC26-5403-4700-BCD6-ED1D81FB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DF7075-B189-4CB8-8236-1AAF16E83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1D4B3B-62E6-46D7-A151-47F14FC24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D5BE8C-242D-40F0-942F-4929BB47F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1C94CE-CDBF-4D11-9117-E479B1439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13E6FB-FC5E-4F9F-AC90-136F21A4A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94E61A-33E7-45F1-84E5-F3270DAC0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EEC22B-0AFF-4420-8BAE-AC0FCCF6B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9D10F7-70EB-4CBB-8941-DDFB217C1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1AF66-67FA-48CD-A130-4BDDC8C8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86A1CC-99E6-42A8-9A20-4C10A001C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6DBA3B-9E5C-4632-8C2A-A89D9C52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B2B567-231C-4DB7-AA8D-2159D054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5A4EDA-003C-487F-AE3B-4C50C04E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A3C21A-2964-4121-B4A4-AE6E3B2A8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E1D31C-7C59-45F9-B8EB-F4322680D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59DEBF-98F3-4CCC-8975-F5D0EBA6E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2A8D1B-7E45-4B96-83AA-9ACE619EB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098B1D-F8D3-4CE7-9F01-A8A9E6221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8E48A5-5AF8-468B-A9B3-3D069106E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8398D-8023-4E2F-A2D8-09459DEDC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E5CEF3-75E5-49DD-8D11-BC9981118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61463E-0327-4B36-ABFB-A1C70CB31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1A42BB-00CD-4D6B-AA87-80B71DE31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69F319-BFE9-4789-A46F-AA906A4D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C6EC4A-2E0E-4F48-8D17-1EDB5B70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0B8494-4923-4720-82F6-FF7C0EB1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9BE804-ED79-4057-928A-E8336E167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F48CB4-2DD6-43A4-9FE9-4CBCEA8CC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001E85-DBED-464A-B90E-CCA24C6DD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BF3DE9-6C1B-4C5A-BDD5-082EAE154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4CA70-9722-40B1-9524-1648EB42B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1B6A0B-E4FB-415B-AC78-8EE6C8041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60CFEC-320C-480F-A4B2-D9E1856B7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58751F-F8A6-4EA7-A902-D6407E479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F69BE5-F774-41C4-AF29-CD86F306E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60ABCC-1797-4A5F-8F0E-35D2CC4E1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A67E0F-3992-42E2-982B-3434E96D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0F3108-76A8-4A76-8510-C8208CA2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89D6C9-62D5-479C-AD46-ABE43730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611265-AE84-4D35-9258-1AD188A70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71B450-16E5-44BC-854C-A3B8D51B4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9D67-2FA4-4295-B078-17A461C15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028A5-D728-4DBB-BE41-91ACEEB2D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3F18DD-6DB6-4C96-980A-3E50E6BA6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48516C5-2350-43E8-AE23-40FC08B47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3205CA5-3AB7-4032-A3B4-56EA4A6B0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BFA616A-CB51-4011-9627-26C0139D5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A46383-10E6-4129-A5A4-7EA4F417A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8D5A38E-3A6C-4037-98CD-1681FB87A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0C38918-81FE-4D9C-BE17-8D84B1B91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3CACB7B-B5F6-4624-9747-5AC913EF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852E9FC-F1A3-452F-B372-7F6F8096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3D31F7A-BA03-42DF-AF18-CC0EFB2A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50268-23EC-4EDB-980F-ABE71031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4ADDB8D-620C-49EA-B473-E262FF23C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B2CE2D0-8AE4-4E81-9D6F-6DF574B4E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4068FC5-6592-496B-8664-135D3F535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8EF1AEF-2E03-45F2-AE0D-7D3EBB4BB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C89206D-EF57-448A-B925-E1F2BDE23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4CE574F-B752-40A3-B59C-3CEA3F836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8E1136B-FF41-4862-86B8-49E9DA8D5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FBB42F4-C548-45F7-9BB6-F279C2054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89679B4-19A0-44EA-A64A-35B9BC5D3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817DEE9-AA7B-4B6B-86AD-1DC6C1ED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A7786-B89A-47FE-8C55-A8572EBA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9703F5D-11D0-41D7-9628-00167AA2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6505AF9-9D0C-4AF1-9674-4E752139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41A2AC4-762A-4012-A97B-DC8DF30B7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D2BCA46-05D6-4893-9C7F-11EDA2DE5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E4E8B7D-AC4C-4D39-910D-385D55684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DD4E4CE-705E-4EA2-AF59-748ACABDB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D6A024E-CC14-4082-9DDE-EF6782AB8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3280F21-D02D-49DA-8BC3-AC0412745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8B7C28D-0346-4DC1-A80B-351242590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6F676E4-D926-4164-8E53-0187651F1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E0720-6548-4623-A86B-2782C7C1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BCA10D4-EC70-4A76-914A-F7BA9A905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4885B1A-1552-4C83-BADF-A15B60C6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D684D07-11B0-4728-A56F-5C921189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4CB9676-A2A9-42F7-ACD6-2A8795BF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487AEB4-3A46-4118-8602-5E85E0A20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BE2CE98-FD16-4192-A5C7-D72BEECA6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D55AF43-97EE-48AE-887A-8749649B6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37DAA9A-4FA9-4BA6-9434-60D8DC66B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A2BAA3D-7E0D-40D9-A070-1232C896F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32E350C-0D74-44BD-BD27-014904A95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3364F-BDF9-4309-8FB4-23552B611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C572A09-1382-4740-B76A-4C0C83F36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C8209D1-E5E5-40DB-9E29-7D473D570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7BCEC46-181D-43EF-A4EC-1651AA92E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F8DB370-3BD2-49D9-9280-85F3323A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038DD05-51A1-4668-A4E4-C3ACDD53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0798520-33CB-4712-8906-708EB1E4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2C760E3-646A-4F3A-AB1A-E7D2D67B1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0CF174C-8CCD-44F1-B1D7-87744DB14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58C46D4-80C6-4250-AF63-49C8731DD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CCE498C-2669-4736-81F5-A53EA1221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2F8EB-15C6-436A-AF4B-AD9E3B859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1945BB4-4C21-44D3-9983-CDC47513C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265154D-5BB8-4377-A805-2942A87CA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5C74B8C-5A90-47D5-8725-17DFD9490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2874A18-8B7B-45F5-905A-20355DDFA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F7A919C-CEB8-46FA-8E37-7F9A840C9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C10F834-FD92-4466-945F-5D07ADC0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F3C63A3-9740-4A05-B42C-0475144B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6B3F219-CB64-4612-96F7-913427C0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4D440EA-A683-4536-A09B-D16D62657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F353A5E-2637-4582-9D1B-2DF355553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47BAF-4A4E-4FAF-A78B-9ED88DE48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62628A3-92D8-44BE-8113-92EA3130B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BD89B8B-DFA8-4762-A9B1-0091864A5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0788723-E63B-47F6-896E-762A4FE60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3D4E335-F663-4100-BFA1-FDE289320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6DCE518-8DE2-4687-8AC6-BCA44D76C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CA345A4-C959-4E9F-B923-D21CCE2B1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1570519-4328-4086-8F8A-7A7D5E9DF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872BA22-D970-4EFF-B9EC-AAB20E5F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E527395-044B-4BA9-92B9-CE205D7C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9E6293D-EC8F-41B9-BB75-B20693E5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FF1BFC-3D84-4C8F-A8BF-1A768FD287C6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7D86932-C91B-4638-A3C8-915011D2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6046456-A8F0-4531-95FF-C93CC5165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17166DF-8704-4225-9AAB-910B854B0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2EA9E99-08C9-4E96-8854-98EE1FFE6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AE5CB4D-5C28-419A-BCCC-669E52F8F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56DE35A-FA5E-4CBE-BCFC-08F2198E3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35EDCDB-FE20-47B0-BA0B-D1AF89482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1C61395-E5AD-4322-A916-C8326DC42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412B93C-C657-4D81-BA3F-D918A8DB1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B033FE9-252A-4739-9439-D2E941FC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CBEBF9-BF04-4774-958D-09DD42970C2C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D0E1399-1407-4D68-B985-11D59E57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470B397-515B-4CB3-A4AB-B087434E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BC08160-9C57-45B7-9AC5-E77B84890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16C9E15-0811-40B8-81E3-5EF28E207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9BC0EBF-33A2-4F83-9F29-E44F18224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8BCCC5E-0F0F-4717-BE16-281885DE2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680C6FB-E79B-421D-9F8D-1B4746FA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F6D6DF0-4D54-4D3D-A55D-B7A11138F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2564C1F-1DC0-41AC-8891-54A373E6D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7045C31-342A-4753-A3E0-748DDF5C4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941DD9-49AC-46F2-9A1B-DD34F9CFB14A}" type="slidenum">
              <a:t>&lt;#&gt;</a:t>
            </a:fld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03810EC-94BD-4E8E-A131-0E07C5A9C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2370400-BDFA-45C7-B686-4F6F35ED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363EB4A-74DE-4420-909F-2FCFF1A7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9FDA5DC-82D3-4198-B6D3-3CEABEA1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3705B57-1F61-49B5-93AF-3F92FCDD3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46152E8-169B-476E-8EE7-2D87CF2A1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70CE140-4062-4F45-AED3-4843EA456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52E703C-CCA1-4228-8EF2-5B36E92F1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4F66EE0-5D56-4203-9A56-D76DFFACA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5FC0078-4079-4746-B940-74B5AC2F5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2CF7-729D-4E74-B04B-1BF54C13F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12C22F-7F74-44BB-9F1D-3A41990D3D00}" type="slidenum">
              <a:t>&lt;#&gt;</a:t>
            </a:fld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BEB337D-E09E-48AC-B8BC-AD59C4B42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1D23EE6-D8FD-471B-8B76-FA3A2E137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670FE76-F25B-41CD-8CAD-632D3BC4C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A78468F-A197-4D74-888D-E234788C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8076F7B-CD08-4766-B944-61430632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D86BB29-9A01-490F-BEC4-74EC1853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4171081-A31C-4365-85C2-4D5AE1ACD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2918ADE-AB3D-4CF1-BE55-8C27D70FA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0227E4E-0C88-4445-AE5D-FDA6D53A4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621B53-F496-40D6-954F-25DB5D97FAC8}" type="slidenum">
              <a:t>&lt;#&gt;</a:t>
            </a:fld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C5C769-43DA-4EEC-BEA6-F5F2B768754C}" type="slidenum">
              <a:t>&lt;#&gt;</a:t>
            </a:fld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F181A81B-7424-4A69-8ED7-07215C415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298B304B-53D6-47F1-9D71-9DF5E70D9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757EA432-B98D-4D99-B79A-326F41820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87A11992-9857-4F7C-9610-D44597C7B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CD444053-DB6A-4AFC-A8A8-DBB16521B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F8DF0E8D-B929-48AD-B022-4342F8956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AC569120-EC99-4915-BA0B-8CD90DF5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0D3A3073-32CE-4537-93A4-8387F8F0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A395B90C-B6C1-4878-AF33-078F8A9D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8AD5E9-C66D-40FF-8CDE-DB07F5EFB002}" type="slidenum">
              <a:t>&lt;#&gt;</a:t>
            </a:fld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D9BC4048-DD52-492E-865A-AE63A500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8B39FA75-D679-4683-BF9C-BF183C3CD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32FA9C22-DCB6-490F-8563-001A3BFB1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389B4B58-B639-4B5A-A790-A4B866808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C1BA86D5-1AB6-4913-835C-B2C327B36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53E502C5-7D06-4725-8CD1-FA4976300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A20D0C2A-2983-47C3-83FB-A1BD2E8BC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00462669-861B-4A77-8991-48F167E1B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0E48A0A7-FC20-4C3F-83AB-2F88EB251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CE624A0E-F3F0-441F-8E79-D2479E5E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FD571F-06F0-402C-897D-72EEDC8B417D}" type="slidenum">
              <a:t>&lt;#&gt;</a:t>
            </a:fld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EC6D6E38-41E7-45FC-87E0-2090D286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E2CE8371-433D-46A9-BA96-0E01D5B9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22C5FA56-7298-4209-9EB6-F59BA68F4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3200BF9C-FC06-41FA-B6A9-C56586D1D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992A9166-61D2-43BD-AB3D-A35112870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F7036D4A-04F0-4DED-9CE9-264A7B73D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617138BD-7173-4D44-B649-E72CBDE70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4BEEE59F-1F01-4AC3-925D-BE22A7B0B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7206B1C5-D3DF-441B-BD1C-31713A3A8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65B4C531-FF25-4481-94F0-D14AB4AE7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7C6266-E2F0-4532-9503-97D86C5F9888}" type="slidenum">
              <a:t>&lt;#&gt;</a:t>
            </a:fld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41C5F678-5524-455A-A2BE-EA5C4CF59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679985F3-DCCE-4B0C-938B-541C90EE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9C19161E-6DF8-4CD6-828D-6A109107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32CC9513-D783-43BD-8B7D-83564D4F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1C24558B-D0F4-42EF-A738-BB8568B62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3D76544D-C543-461D-B463-0F4050CA6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9B9DC937-FF5E-4717-847C-682271C39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481AECDA-43E8-4F56-B4AC-1C9AEA682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B6C4B100-8A56-4D30-8D91-881B5817F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B12E7C4E-768C-4518-8BEA-17ABA31C0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ECB7E0-1258-4A6D-B8FE-A0A255F497D4}" type="slidenum">
              <a:t>&lt;#&gt;</a:t>
            </a:fld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ABD75996-8613-4B1B-AAF2-6CC560C99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161991D9-8B65-4B91-A97C-2FE11C25A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E43BEDF0-6AAC-4D0F-8C67-8F9E0EC46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8BABA145-D481-4B58-9349-819285CF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A2584223-732B-4C9D-A5DC-25D910FE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7A249BAF-09D0-4FB1-BFC4-977AA937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DF598ED0-FC23-4A69-9E12-D13D0552F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B65085DC-941E-449D-B99D-6B74C1989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A612B1DF-FAFF-46D6-8D56-2ECCD10E1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0A4639-29BD-4391-A965-5C9D3FD4231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05D97F-17B3-4092-A82D-44D0738DBC2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958D18-348E-4FE2-923A-B89A40BB5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BE3C-24E7-4428-A3BB-83C1C6B87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E72219-5BBD-4A66-A11E-0DC246626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29EA8D-27E5-43A4-AB07-3CFF5C21F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0673AD-09DC-4A68-82E0-CB675CFDB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8C63B0-FDDC-42C2-8A5A-DC68C8266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24E340-881B-42F4-B163-D3F01E67A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A8B557-0E5F-4AF9-BEC8-060F47CE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6E2189-B80E-4C73-A05E-032CC7BC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482C55-9981-43DF-BC68-C580519E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5C59F9-3FB7-454A-81A3-326B110ED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5E8904-49EF-4AA3-B967-5E6DBB69C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D7AB-072C-42BF-B995-FF9EB58D7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3BAE26-1095-464E-B360-7B1BC847C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D05517-7AC7-4429-A3E4-FB092E934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213D0A-A7FD-4135-8EC0-830A6ADD6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9F22CA-7C0F-4401-96E5-D117AF56E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D6F15B-600B-4DD2-967F-4C29060BA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40976A-E0D6-4EFA-A746-E5A46B138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FA3162-4BDF-4FF5-B290-A18EFECD3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C04E37-F3CE-4D03-B22A-4699305D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B2EC09-0473-4403-8CF2-7799B245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A2A0FF-C556-44EE-8317-28431CFE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F050-1A7B-46A6-8F28-5740C88C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AEFA0C-A9D6-42C4-B776-540F4C89A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0706A4-31E1-4BDB-8836-A70174E79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19B692-6854-474E-81C0-93F7A6C7F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3977-D385-454D-9E21-9A21B8B8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0343-5CBE-4E3D-B472-254658FE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9C3BC-1DDB-4F08-A6AF-A8F8678E39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370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30B34-7D53-4C22-99BD-6633AD61CA66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1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22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1E77F-F6B4-4DBA-A27C-3D815B9EBE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0322C-D333-4DF3-83F8-A8F6DADDE55A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4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25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90EE3-0ADC-4758-B016-C1C39C2F0D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456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6538A-5E2A-4AF1-AD5A-C8CCDD2845E7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27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28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2E966-2753-4992-8CDA-CE5597AEEF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499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0CEA4-511B-4B38-AC71-EDE0158D80DC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0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1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DE059-DB5D-4447-8CB6-289FD8E257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542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dt" idx="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9E90C-A04F-4645-B2E9-E48687E70D03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ftr" idx="33"/>
          </p:nvPr>
        </p:nvSpPr>
        <p:spPr>
          <a:xfrm>
            <a:off x="6019560" y="6324120"/>
            <a:ext cx="2895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622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22964-F6E1-4061-B660-DA37244C1BB1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 type="ftr" idx="35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 type="sldNum" idx="36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C2658-9512-44C6-8398-DC3A43332E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665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003DB-E6C1-4D31-863D-D2CE747D950E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 type="ftr" idx="38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 type="sldNum" idx="39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AC5CD-E728-4D0E-9861-C7E31B0E59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708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6EB0D-4986-4CF0-A216-5D4DFB59832D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ftr" idx="41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sldNum" idx="42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CCF7B-605F-49DD-B7FE-3448CDA2B2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0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751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BFD2D-6119-4414-A5F3-E6DBE354B4B7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 type="ftr" idx="44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 type="sldNum" idx="45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6F802-C171-4E07-BB85-2A3C8479CC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F952-4D99-4306-A069-31FD64E903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3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794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60242-A0F7-4FE0-9888-BF37803ACF1D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 type="ftr" idx="47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 type="sldNum" idx="48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B2DE8-C4DD-4C09-9716-A639B9F56C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6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837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BC47D-EEF3-4877-9BC2-39AA50B22B70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 type="ftr" idx="50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 type="sldNum" idx="51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1FC9E-20C0-41D6-93B7-BC70A681C2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880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4926D-5B51-471E-9BA5-B2686B09CE44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 type="ftr" idx="53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 type="sldNum" idx="54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59817-AA6C-4898-AC8E-68AEBD786D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923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Box 7"/>
          <p:cNvSpPr/>
          <p:nvPr/>
        </p:nvSpPr>
        <p:spPr>
          <a:xfrm>
            <a:off x="454680" y="1687680"/>
            <a:ext cx="1460880" cy="368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DSSAT</a:t>
            </a: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ound Same Side Corner Rectangle 8"/>
          <p:cNvSpPr/>
          <p:nvPr/>
        </p:nvSpPr>
        <p:spPr>
          <a:xfrm>
            <a:off x="3726000" y="847800"/>
            <a:ext cx="2057400" cy="447480"/>
          </a:xfrm>
          <a:prstGeom prst="pie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2060"/>
                </a:solidFill>
                <a:uFillTx/>
                <a:latin typeface="Calibri"/>
              </a:rPr>
              <a:t>WHAT WE 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Calibri"/>
              </a:rPr>
              <a:t>H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49E46-D365-46B3-A1BC-510B7D1CBF77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 type="ftr" idx="56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 type="sldNum" idx="57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41DF8-B4C1-47E7-8749-0BC4B38AAB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968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Box 7"/>
          <p:cNvSpPr/>
          <p:nvPr/>
        </p:nvSpPr>
        <p:spPr>
          <a:xfrm>
            <a:off x="454320" y="1687680"/>
            <a:ext cx="1404720" cy="368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DSSAT</a:t>
            </a: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4F75D-1FA1-4B02-B52D-5FD1F6C5A0F4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 type="ftr" idx="59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 type="sldNum" idx="60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E0391-D468-417D-93FB-364523A367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1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012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Box 7"/>
          <p:cNvSpPr/>
          <p:nvPr/>
        </p:nvSpPr>
        <p:spPr>
          <a:xfrm>
            <a:off x="454320" y="1687680"/>
            <a:ext cx="1404720" cy="368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DSSAT</a:t>
            </a: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1A8BB-793A-40D4-858A-C9361B0400AD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 type="ftr" idx="62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 type="sldNum" idx="63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8BE7B-E213-49BB-A3AF-D448816E46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5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056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TextBox 7"/>
          <p:cNvSpPr/>
          <p:nvPr/>
        </p:nvSpPr>
        <p:spPr>
          <a:xfrm>
            <a:off x="454320" y="1687680"/>
            <a:ext cx="1404720" cy="368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DSSAT</a:t>
            </a: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E7413-C3EF-4420-96F2-10491282DA4D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 type="ftr" idx="65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 type="sldNum" idx="66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32E7A-172B-4D11-8BBD-B1AA2EFF91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9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100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8790B-585E-42CB-A495-A13E5BB62466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 type="ftr" idx="68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 type="sldNum" idx="69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EF5D1-CB6A-4224-9C69-89B7E30948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2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143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E4AF6-888E-46CC-B20D-A9A63FB9F6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3A37A-1604-4D5D-943B-D4275F63688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C082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03F6A-0B33-480A-A059-2BD8D7B05F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8DCF3-EB68-45B8-B15A-8B64B02EC0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8BA05-85B1-499A-B006-4268011914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C082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A2A8B-616A-4331-9867-999AAAD692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EFF00-CF18-493C-A90D-DE14F8DE24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C082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0C494-AC47-4264-95D6-086DACC99A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11970-2296-419A-8B4A-5940BA2DC8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C082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56B81-E7E4-4AF7-B29B-E00A79422C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592C2-6711-463F-9083-F93B090759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C082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PlaceHolder 5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9EAC0-F3C4-41F9-856B-C4CC6F8840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B2AAE-6657-4116-A2C7-51193A3A980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PlaceHolder 4"/>
          <p:cNvSpPr>
            <a:spLocks noGrp="1"/>
          </p:cNvSpPr>
          <p:nvPr>
            <p:ph type="ftr" idx="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C082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5"/>
          <p:cNvSpPr>
            <a:spLocks noGrp="1"/>
          </p:cNvSpPr>
          <p:nvPr>
            <p:ph type="sldNum" idx="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0BB08-28C2-47F7-96AE-65D5FFE91C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 type="dt" idx="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B57D6-4BD6-4829-B69C-5D56157DAD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 type="dt" idx="9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0700C-E607-4617-B139-0D172576F4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PlaceHolder 4"/>
          <p:cNvSpPr>
            <a:spLocks noGrp="1"/>
          </p:cNvSpPr>
          <p:nvPr>
            <p:ph type="ftr" idx="9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C082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PlaceHolder 5"/>
          <p:cNvSpPr>
            <a:spLocks noGrp="1"/>
          </p:cNvSpPr>
          <p:nvPr>
            <p:ph type="sldNum" idx="9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362FE-1A59-4418-9E38-8A3A0E2D7D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 type="dt" idx="9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AF670-7794-4658-B0F5-B7A2C973C4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 type="ftr" idx="9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C082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PlaceHolder 5"/>
          <p:cNvSpPr>
            <a:spLocks noGrp="1"/>
          </p:cNvSpPr>
          <p:nvPr>
            <p:ph type="sldNum" idx="9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D1C1C-753C-468D-90CA-1BF046C5CF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 type="dt" idx="9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F1EE7-AA46-4E86-AC6D-A0DC66AF7F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PlaceHolder 4"/>
          <p:cNvSpPr>
            <a:spLocks noGrp="1"/>
          </p:cNvSpPr>
          <p:nvPr>
            <p:ph type="ftr" idx="9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C082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PlaceHolder 5"/>
          <p:cNvSpPr>
            <a:spLocks noGrp="1"/>
          </p:cNvSpPr>
          <p:nvPr>
            <p:ph type="sldNum" idx="10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76352-720C-46AB-86F6-2A65924B90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 type="dt" idx="10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7A161-F26A-4E54-9177-C719A61136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PlaceHolder 4"/>
          <p:cNvSpPr>
            <a:spLocks noGrp="1"/>
          </p:cNvSpPr>
          <p:nvPr>
            <p:ph type="ftr" idx="10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C082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PlaceHolder 5"/>
          <p:cNvSpPr>
            <a:spLocks noGrp="1"/>
          </p:cNvSpPr>
          <p:nvPr>
            <p:ph type="sldNum" idx="10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D2635-0C01-4C2E-9F80-A6D0FA2D2F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0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1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0A626-0D11-4419-B9AC-E187E6F97A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B90A4-D543-4C2F-A511-E446D57925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C082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0AFED-7D70-4BEB-9924-8AF27487E3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B3CA1-F71C-4BB1-9018-E3C68C5F8BB0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6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7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D923F-6E37-44E9-9F28-15F4A6FF47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18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ftr" idx="19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wm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wmf"/><Relationship Id="rId6" Type="http://schemas.openxmlformats.org/officeDocument/2006/relationships/image" Target="../media/image36.png"/><Relationship Id="rId7" Type="http://schemas.openxmlformats.org/officeDocument/2006/relationships/image" Target="../media/image37.wmf"/><Relationship Id="rId8" Type="http://schemas.openxmlformats.org/officeDocument/2006/relationships/image" Target="../media/image38.png"/><Relationship Id="rId9" Type="http://schemas.openxmlformats.org/officeDocument/2006/relationships/slideLayout" Target="../slideLayouts/slideLayout409.xml"/><Relationship Id="rId10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1" name="Subtitle 2" descr=""/>
          <p:cNvPicPr/>
          <p:nvPr/>
        </p:nvPicPr>
        <p:blipFill>
          <a:blip r:embed="rId1"/>
          <a:stretch/>
        </p:blipFill>
        <p:spPr>
          <a:xfrm>
            <a:off x="1670040" y="3389400"/>
            <a:ext cx="5578560" cy="1463760"/>
          </a:xfrm>
          <a:prstGeom prst="rect">
            <a:avLst/>
          </a:prstGeom>
          <a:ln w="0">
            <a:noFill/>
          </a:ln>
        </p:spPr>
      </p:pic>
      <p:pic>
        <p:nvPicPr>
          <p:cNvPr id="1642" name="Picture 2" descr="D:\temp\wz5023\CGIAR-CSI Logo 2011\cgiar-csi_new_logo_2011_final.jpg"/>
          <p:cNvPicPr/>
          <p:nvPr/>
        </p:nvPicPr>
        <p:blipFill>
          <a:blip r:embed="rId2"/>
          <a:stretch/>
        </p:blipFill>
        <p:spPr>
          <a:xfrm>
            <a:off x="2057400" y="5975280"/>
            <a:ext cx="2286000" cy="513000"/>
          </a:xfrm>
          <a:prstGeom prst="rect">
            <a:avLst/>
          </a:prstGeom>
          <a:ln w="0">
            <a:noFill/>
          </a:ln>
        </p:spPr>
      </p:pic>
      <p:pic>
        <p:nvPicPr>
          <p:cNvPr id="1643" name="Rectangle 8" descr=""/>
          <p:cNvPicPr/>
          <p:nvPr/>
        </p:nvPicPr>
        <p:blipFill>
          <a:blip r:embed="rId3"/>
          <a:stretch/>
        </p:blipFill>
        <p:spPr>
          <a:xfrm>
            <a:off x="378000" y="1719360"/>
            <a:ext cx="8619840" cy="1670040"/>
          </a:xfrm>
          <a:prstGeom prst="rect">
            <a:avLst/>
          </a:prstGeom>
          <a:ln w="0">
            <a:noFill/>
          </a:ln>
        </p:spPr>
      </p:pic>
      <p:pic>
        <p:nvPicPr>
          <p:cNvPr id="1644" name="Picture 3" descr="sm-ifpri"/>
          <p:cNvPicPr/>
          <p:nvPr/>
        </p:nvPicPr>
        <p:blipFill>
          <a:blip r:embed="rId4"/>
          <a:stretch/>
        </p:blipFill>
        <p:spPr>
          <a:xfrm>
            <a:off x="7821720" y="5637240"/>
            <a:ext cx="1066680" cy="942840"/>
          </a:xfrm>
          <a:prstGeom prst="rect">
            <a:avLst/>
          </a:prstGeom>
          <a:ln w="0">
            <a:noFill/>
          </a:ln>
        </p:spPr>
      </p:pic>
      <p:pic>
        <p:nvPicPr>
          <p:cNvPr id="1645" name="Picture 3" descr=""/>
          <p:cNvPicPr/>
          <p:nvPr/>
        </p:nvPicPr>
        <p:blipFill>
          <a:blip r:embed="rId5"/>
          <a:stretch/>
        </p:blipFill>
        <p:spPr>
          <a:xfrm>
            <a:off x="5029200" y="5943600"/>
            <a:ext cx="2033640" cy="512640"/>
          </a:xfrm>
          <a:prstGeom prst="rect">
            <a:avLst/>
          </a:prstGeom>
          <a:ln w="0">
            <a:noFill/>
          </a:ln>
        </p:spPr>
      </p:pic>
      <p:pic>
        <p:nvPicPr>
          <p:cNvPr id="1646" name="Picture 2" descr=""/>
          <p:cNvPicPr/>
          <p:nvPr/>
        </p:nvPicPr>
        <p:blipFill>
          <a:blip r:embed="rId6"/>
          <a:stretch/>
        </p:blipFill>
        <p:spPr>
          <a:xfrm>
            <a:off x="380880" y="5742000"/>
            <a:ext cx="1143000" cy="914400"/>
          </a:xfrm>
          <a:prstGeom prst="rect">
            <a:avLst/>
          </a:prstGeom>
          <a:ln w="0">
            <a:noFill/>
          </a:ln>
        </p:spPr>
      </p:pic>
      <p:sp>
        <p:nvSpPr>
          <p:cNvPr id="1647" name="Rectangle 9"/>
          <p:cNvSpPr/>
          <p:nvPr/>
        </p:nvSpPr>
        <p:spPr>
          <a:xfrm>
            <a:off x="0" y="0"/>
            <a:ext cx="9144000" cy="160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stainable Intensification of Cereal-based Farming Systems in the Sudano-Sahelian Zone of West Africa: Project Design Workshop, Tamale, Ghana, 9-12 January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8" name="Picture 2" descr=""/>
          <p:cNvPicPr/>
          <p:nvPr/>
        </p:nvPicPr>
        <p:blipFill>
          <a:blip r:embed="rId1"/>
          <a:stretch/>
        </p:blipFill>
        <p:spPr>
          <a:xfrm>
            <a:off x="120600" y="1757520"/>
            <a:ext cx="8866080" cy="4497120"/>
          </a:xfrm>
          <a:prstGeom prst="rect">
            <a:avLst/>
          </a:prstGeom>
          <a:ln w="0">
            <a:noFill/>
          </a:ln>
        </p:spPr>
      </p:pic>
      <p:sp>
        <p:nvSpPr>
          <p:cNvPr id="1989" name="TextBox 3"/>
          <p:cNvSpPr/>
          <p:nvPr/>
        </p:nvSpPr>
        <p:spPr>
          <a:xfrm>
            <a:off x="157680" y="533520"/>
            <a:ext cx="8926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ole of Farming Systems in Bridging CAADP-CGIAR Agen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Dublin Process Activ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TextBox 4"/>
          <p:cNvSpPr/>
          <p:nvPr/>
        </p:nvSpPr>
        <p:spPr>
          <a:xfrm>
            <a:off x="242280" y="6256440"/>
            <a:ext cx="46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raft  Conceptual Framework, November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1" name="Group 52"/>
          <p:cNvGrpSpPr/>
          <p:nvPr/>
        </p:nvGrpSpPr>
        <p:grpSpPr>
          <a:xfrm>
            <a:off x="341280" y="1079640"/>
            <a:ext cx="5129280" cy="5194080"/>
            <a:chOff x="341280" y="1079640"/>
            <a:chExt cx="5129280" cy="5194080"/>
          </a:xfrm>
        </p:grpSpPr>
        <p:sp>
          <p:nvSpPr>
            <p:cNvPr id="1992" name="Rectangle 49"/>
            <p:cNvSpPr/>
            <p:nvPr/>
          </p:nvSpPr>
          <p:spPr>
            <a:xfrm>
              <a:off x="595080" y="1079640"/>
              <a:ext cx="4875480" cy="4842000"/>
            </a:xfrm>
            <a:prstGeom prst="rect">
              <a:avLst/>
            </a:prstGeom>
            <a:solidFill>
              <a:srgbClr val="dbeef4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alibri"/>
                </a:rPr>
                <a:t>Eastern &amp; Southern Africa Maize-based Syste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Rectangle 48"/>
            <p:cNvSpPr/>
            <p:nvPr/>
          </p:nvSpPr>
          <p:spPr>
            <a:xfrm>
              <a:off x="341280" y="1431720"/>
              <a:ext cx="4875480" cy="4842000"/>
            </a:xfrm>
            <a:prstGeom prst="rect">
              <a:avLst/>
            </a:prstGeom>
            <a:solidFill>
              <a:srgbClr val="dbeef4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alibri"/>
                </a:rPr>
                <a:t>Ethiopian Highlan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4" name="Rectangle 45"/>
          <p:cNvSpPr/>
          <p:nvPr/>
        </p:nvSpPr>
        <p:spPr>
          <a:xfrm>
            <a:off x="111240" y="1765440"/>
            <a:ext cx="4876560" cy="484020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Sudano-Sahelian Z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5" name="Group 59"/>
          <p:cNvGrpSpPr/>
          <p:nvPr/>
        </p:nvGrpSpPr>
        <p:grpSpPr>
          <a:xfrm>
            <a:off x="276120" y="2540160"/>
            <a:ext cx="4492800" cy="3993840"/>
            <a:chOff x="276120" y="2540160"/>
            <a:chExt cx="4492800" cy="3993840"/>
          </a:xfrm>
        </p:grpSpPr>
        <p:sp>
          <p:nvSpPr>
            <p:cNvPr id="1996" name="TextBox 44"/>
            <p:cNvSpPr/>
            <p:nvPr/>
          </p:nvSpPr>
          <p:spPr>
            <a:xfrm>
              <a:off x="276120" y="499140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System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7" name="Group 51"/>
            <p:cNvGrpSpPr/>
            <p:nvPr/>
          </p:nvGrpSpPr>
          <p:grpSpPr>
            <a:xfrm>
              <a:off x="329400" y="2540160"/>
              <a:ext cx="4439520" cy="3993840"/>
              <a:chOff x="329400" y="2540160"/>
              <a:chExt cx="4439520" cy="3993840"/>
            </a:xfrm>
          </p:grpSpPr>
          <p:sp>
            <p:nvSpPr>
              <p:cNvPr id="1998" name="Freeform 17"/>
              <p:cNvSpPr/>
              <p:nvPr/>
            </p:nvSpPr>
            <p:spPr>
              <a:xfrm>
                <a:off x="1148760" y="2540160"/>
                <a:ext cx="3620160" cy="3887640"/>
              </a:xfrm>
              <a:custGeom>
                <a:avLst/>
                <a:gdLst/>
                <a:ahLst/>
                <a:rect l="l" t="t" r="r" b="b"/>
                <a:pathLst>
                  <a:path w="846312" h="590559">
                    <a:moveTo>
                      <a:pt x="139145" y="62327"/>
                    </a:moveTo>
                    <a:cubicBezTo>
                      <a:pt x="215345" y="36811"/>
                      <a:pt x="365568" y="-5859"/>
                      <a:pt x="478779" y="672"/>
                    </a:cubicBezTo>
                    <a:cubicBezTo>
                      <a:pt x="591990" y="7203"/>
                      <a:pt x="766162" y="36811"/>
                      <a:pt x="818413" y="101515"/>
                    </a:cubicBezTo>
                    <a:cubicBezTo>
                      <a:pt x="870665" y="166219"/>
                      <a:pt x="842362" y="308344"/>
                      <a:pt x="792288" y="388898"/>
                    </a:cubicBezTo>
                    <a:cubicBezTo>
                      <a:pt x="742214" y="469452"/>
                      <a:pt x="583282" y="560893"/>
                      <a:pt x="517968" y="584841"/>
                    </a:cubicBezTo>
                    <a:cubicBezTo>
                      <a:pt x="452654" y="608789"/>
                      <a:pt x="441950" y="550924"/>
                      <a:pt x="400402" y="532589"/>
                    </a:cubicBezTo>
                    <a:cubicBezTo>
                      <a:pt x="358854" y="514254"/>
                      <a:pt x="333717" y="495498"/>
                      <a:pt x="268679" y="474832"/>
                    </a:cubicBezTo>
                    <a:cubicBezTo>
                      <a:pt x="203641" y="454166"/>
                      <a:pt x="49180" y="440334"/>
                      <a:pt x="10174" y="408595"/>
                    </a:cubicBezTo>
                    <a:cubicBezTo>
                      <a:pt x="-28832" y="376856"/>
                      <a:pt x="58591" y="319229"/>
                      <a:pt x="34642" y="284395"/>
                    </a:cubicBezTo>
                    <a:cubicBezTo>
                      <a:pt x="10693" y="249561"/>
                      <a:pt x="6339" y="192956"/>
                      <a:pt x="21579" y="153767"/>
                    </a:cubicBezTo>
                    <a:cubicBezTo>
                      <a:pt x="36819" y="114579"/>
                      <a:pt x="62945" y="87843"/>
                      <a:pt x="139145" y="62327"/>
                    </a:cubicBezTo>
                    <a:close/>
                  </a:path>
                </a:pathLst>
              </a:custGeom>
              <a:solidFill>
                <a:srgbClr val="c3d69b"/>
              </a:solidFill>
              <a:ln w="25560">
                <a:solidFill>
                  <a:srgbClr val="385d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Freeform 46"/>
              <p:cNvSpPr/>
              <p:nvPr/>
            </p:nvSpPr>
            <p:spPr>
              <a:xfrm>
                <a:off x="329400" y="5389560"/>
                <a:ext cx="1497240" cy="1144440"/>
              </a:xfrm>
              <a:custGeom>
                <a:avLst/>
                <a:gdLst/>
                <a:ahLst/>
                <a:rect l="l" t="t" r="r" b="b"/>
                <a:pathLst>
                  <a:path w="700442" h="450127">
                    <a:moveTo>
                      <a:pt x="47680" y="152"/>
                    </a:moveTo>
                    <a:cubicBezTo>
                      <a:pt x="150531" y="4734"/>
                      <a:pt x="595121" y="86424"/>
                      <a:pt x="677852" y="158270"/>
                    </a:cubicBezTo>
                    <a:cubicBezTo>
                      <a:pt x="760583" y="230116"/>
                      <a:pt x="593089" y="386741"/>
                      <a:pt x="544069" y="431226"/>
                    </a:cubicBezTo>
                    <a:cubicBezTo>
                      <a:pt x="495049" y="475711"/>
                      <a:pt x="458886" y="428114"/>
                      <a:pt x="383731" y="425182"/>
                    </a:cubicBezTo>
                    <a:cubicBezTo>
                      <a:pt x="308576" y="422250"/>
                      <a:pt x="151050" y="442000"/>
                      <a:pt x="93141" y="413633"/>
                    </a:cubicBezTo>
                    <a:cubicBezTo>
                      <a:pt x="35232" y="385266"/>
                      <a:pt x="41675" y="302122"/>
                      <a:pt x="36275" y="254980"/>
                    </a:cubicBezTo>
                    <a:cubicBezTo>
                      <a:pt x="30875" y="207838"/>
                      <a:pt x="84692" y="165614"/>
                      <a:pt x="60743" y="130780"/>
                    </a:cubicBezTo>
                    <a:cubicBezTo>
                      <a:pt x="36794" y="95946"/>
                      <a:pt x="-55171" y="-4430"/>
                      <a:pt x="47680" y="152"/>
                    </a:cubicBezTo>
                    <a:close/>
                  </a:path>
                </a:pathLst>
              </a:custGeom>
              <a:solidFill>
                <a:srgbClr val="99ff33"/>
              </a:solidFill>
              <a:ln w="25560">
                <a:solidFill>
                  <a:srgbClr val="385d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00" name="Group 56"/>
          <p:cNvGrpSpPr/>
          <p:nvPr/>
        </p:nvGrpSpPr>
        <p:grpSpPr>
          <a:xfrm>
            <a:off x="452520" y="2608200"/>
            <a:ext cx="4048200" cy="3156120"/>
            <a:chOff x="452520" y="2608200"/>
            <a:chExt cx="4048200" cy="3156120"/>
          </a:xfrm>
        </p:grpSpPr>
        <p:grpSp>
          <p:nvGrpSpPr>
            <p:cNvPr id="2001" name="Group 54"/>
            <p:cNvGrpSpPr/>
            <p:nvPr/>
          </p:nvGrpSpPr>
          <p:grpSpPr>
            <a:xfrm>
              <a:off x="452520" y="2608200"/>
              <a:ext cx="4048200" cy="3156120"/>
              <a:chOff x="452520" y="2608200"/>
              <a:chExt cx="4048200" cy="3156120"/>
            </a:xfrm>
          </p:grpSpPr>
          <p:grpSp>
            <p:nvGrpSpPr>
              <p:cNvPr id="2002" name="Group 20"/>
              <p:cNvGrpSpPr/>
              <p:nvPr/>
            </p:nvGrpSpPr>
            <p:grpSpPr>
              <a:xfrm>
                <a:off x="1794960" y="2947680"/>
                <a:ext cx="2705760" cy="2816640"/>
                <a:chOff x="1794960" y="2947680"/>
                <a:chExt cx="2705760" cy="2816640"/>
              </a:xfrm>
            </p:grpSpPr>
            <p:sp>
              <p:nvSpPr>
                <p:cNvPr id="2003" name="Freeform 10"/>
                <p:cNvSpPr/>
                <p:nvPr/>
              </p:nvSpPr>
              <p:spPr>
                <a:xfrm>
                  <a:off x="2812680" y="3455640"/>
                  <a:ext cx="808200" cy="677880"/>
                </a:xfrm>
                <a:custGeom>
                  <a:avLst/>
                  <a:gdLst/>
                  <a:ahLst/>
                  <a:rect l="l" t="t" r="r" b="b"/>
                  <a:pathLst>
                    <a:path w="808354" h="677527">
                      <a:moveTo>
                        <a:pt x="126456" y="149047"/>
                      </a:moveTo>
                      <a:cubicBezTo>
                        <a:pt x="202656" y="118567"/>
                        <a:pt x="385536" y="81556"/>
                        <a:pt x="466090" y="57607"/>
                      </a:cubicBezTo>
                      <a:cubicBezTo>
                        <a:pt x="546644" y="33658"/>
                        <a:pt x="553175" y="-16416"/>
                        <a:pt x="609781" y="5355"/>
                      </a:cubicBezTo>
                      <a:cubicBezTo>
                        <a:pt x="666387" y="27126"/>
                        <a:pt x="788307" y="146869"/>
                        <a:pt x="805724" y="188235"/>
                      </a:cubicBezTo>
                      <a:cubicBezTo>
                        <a:pt x="823141" y="229601"/>
                        <a:pt x="716461" y="223069"/>
                        <a:pt x="714284" y="253549"/>
                      </a:cubicBezTo>
                      <a:cubicBezTo>
                        <a:pt x="712107" y="284029"/>
                        <a:pt x="781775" y="334104"/>
                        <a:pt x="792661" y="371115"/>
                      </a:cubicBezTo>
                      <a:cubicBezTo>
                        <a:pt x="803547" y="408126"/>
                        <a:pt x="827496" y="425544"/>
                        <a:pt x="779599" y="475618"/>
                      </a:cubicBezTo>
                      <a:cubicBezTo>
                        <a:pt x="731702" y="525692"/>
                        <a:pt x="570593" y="647613"/>
                        <a:pt x="505279" y="671561"/>
                      </a:cubicBezTo>
                      <a:cubicBezTo>
                        <a:pt x="439965" y="695509"/>
                        <a:pt x="411662" y="641080"/>
                        <a:pt x="387713" y="619309"/>
                      </a:cubicBezTo>
                      <a:cubicBezTo>
                        <a:pt x="363764" y="597538"/>
                        <a:pt x="405130" y="543109"/>
                        <a:pt x="361587" y="540932"/>
                      </a:cubicBezTo>
                      <a:cubicBezTo>
                        <a:pt x="318044" y="538755"/>
                        <a:pt x="161290" y="621487"/>
                        <a:pt x="126456" y="606247"/>
                      </a:cubicBezTo>
                      <a:cubicBezTo>
                        <a:pt x="91622" y="591007"/>
                        <a:pt x="169998" y="488681"/>
                        <a:pt x="152581" y="449492"/>
                      </a:cubicBezTo>
                      <a:cubicBezTo>
                        <a:pt x="135164" y="410303"/>
                        <a:pt x="45902" y="405949"/>
                        <a:pt x="21953" y="371115"/>
                      </a:cubicBezTo>
                      <a:cubicBezTo>
                        <a:pt x="-1996" y="336281"/>
                        <a:pt x="-6350" y="279676"/>
                        <a:pt x="8890" y="240487"/>
                      </a:cubicBezTo>
                      <a:cubicBezTo>
                        <a:pt x="24130" y="201299"/>
                        <a:pt x="50256" y="179527"/>
                        <a:pt x="126456" y="149047"/>
                      </a:cubicBezTo>
                      <a:close/>
                    </a:path>
                  </a:pathLst>
                </a:custGeom>
                <a:solidFill>
                  <a:srgbClr val="92d050"/>
                </a:solidFill>
                <a:ln w="25560">
                  <a:solidFill>
                    <a:srgbClr val="385d8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4" name="Freeform 13"/>
                <p:cNvSpPr/>
                <p:nvPr/>
              </p:nvSpPr>
              <p:spPr>
                <a:xfrm>
                  <a:off x="3851280" y="3266640"/>
                  <a:ext cx="649440" cy="868320"/>
                </a:xfrm>
                <a:custGeom>
                  <a:avLst/>
                  <a:gdLst/>
                  <a:ahLst/>
                  <a:rect l="l" t="t" r="r" b="b"/>
                  <a:pathLst>
                    <a:path w="649272" h="867634">
                      <a:moveTo>
                        <a:pt x="105001" y="127848"/>
                      </a:moveTo>
                      <a:cubicBezTo>
                        <a:pt x="157252" y="108254"/>
                        <a:pt x="224744" y="-39792"/>
                        <a:pt x="314007" y="10282"/>
                      </a:cubicBezTo>
                      <a:cubicBezTo>
                        <a:pt x="403270" y="60356"/>
                        <a:pt x="601390" y="360803"/>
                        <a:pt x="640579" y="428294"/>
                      </a:cubicBezTo>
                      <a:cubicBezTo>
                        <a:pt x="679768" y="495786"/>
                        <a:pt x="575265" y="345563"/>
                        <a:pt x="549139" y="415231"/>
                      </a:cubicBezTo>
                      <a:cubicBezTo>
                        <a:pt x="523013" y="484900"/>
                        <a:pt x="518658" y="785345"/>
                        <a:pt x="483824" y="846305"/>
                      </a:cubicBezTo>
                      <a:cubicBezTo>
                        <a:pt x="448990" y="907265"/>
                        <a:pt x="411979" y="822357"/>
                        <a:pt x="340133" y="780991"/>
                      </a:cubicBezTo>
                      <a:cubicBezTo>
                        <a:pt x="268287" y="739625"/>
                        <a:pt x="105001" y="641654"/>
                        <a:pt x="52750" y="598111"/>
                      </a:cubicBezTo>
                      <a:cubicBezTo>
                        <a:pt x="499" y="554568"/>
                        <a:pt x="9207" y="561100"/>
                        <a:pt x="26624" y="519734"/>
                      </a:cubicBezTo>
                      <a:cubicBezTo>
                        <a:pt x="44041" y="478368"/>
                        <a:pt x="161607" y="415231"/>
                        <a:pt x="157253" y="349917"/>
                      </a:cubicBezTo>
                      <a:cubicBezTo>
                        <a:pt x="152899" y="284603"/>
                        <a:pt x="7031" y="169214"/>
                        <a:pt x="499" y="127848"/>
                      </a:cubicBezTo>
                      <a:cubicBezTo>
                        <a:pt x="-6033" y="86482"/>
                        <a:pt x="52750" y="147442"/>
                        <a:pt x="105001" y="127848"/>
                      </a:cubicBezTo>
                      <a:close/>
                    </a:path>
                  </a:pathLst>
                </a:custGeom>
                <a:solidFill>
                  <a:srgbClr val="fac090"/>
                </a:solidFill>
                <a:ln w="25560">
                  <a:solidFill>
                    <a:srgbClr val="385d8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5" name="Freeform 14"/>
                <p:cNvSpPr/>
                <p:nvPr/>
              </p:nvSpPr>
              <p:spPr>
                <a:xfrm>
                  <a:off x="1794960" y="4128840"/>
                  <a:ext cx="843120" cy="1014480"/>
                </a:xfrm>
                <a:custGeom>
                  <a:avLst/>
                  <a:gdLst/>
                  <a:ahLst/>
                  <a:rect l="l" t="t" r="r" b="b"/>
                  <a:pathLst>
                    <a:path w="843315" h="1014208">
                      <a:moveTo>
                        <a:pt x="368999" y="470328"/>
                      </a:moveTo>
                      <a:cubicBezTo>
                        <a:pt x="338519" y="498631"/>
                        <a:pt x="382062" y="439848"/>
                        <a:pt x="460439" y="431140"/>
                      </a:cubicBezTo>
                      <a:cubicBezTo>
                        <a:pt x="538816" y="422432"/>
                        <a:pt x="806605" y="372357"/>
                        <a:pt x="839262" y="418077"/>
                      </a:cubicBezTo>
                      <a:cubicBezTo>
                        <a:pt x="871919" y="463797"/>
                        <a:pt x="697748" y="607489"/>
                        <a:pt x="656382" y="705460"/>
                      </a:cubicBezTo>
                      <a:cubicBezTo>
                        <a:pt x="615016" y="803431"/>
                        <a:pt x="667268" y="973248"/>
                        <a:pt x="591068" y="1005905"/>
                      </a:cubicBezTo>
                      <a:cubicBezTo>
                        <a:pt x="514868" y="1038562"/>
                        <a:pt x="290622" y="968893"/>
                        <a:pt x="199182" y="901402"/>
                      </a:cubicBezTo>
                      <a:cubicBezTo>
                        <a:pt x="107742" y="833911"/>
                        <a:pt x="75085" y="690220"/>
                        <a:pt x="42428" y="600957"/>
                      </a:cubicBezTo>
                      <a:cubicBezTo>
                        <a:pt x="9771" y="511694"/>
                        <a:pt x="-7647" y="424608"/>
                        <a:pt x="3239" y="365825"/>
                      </a:cubicBezTo>
                      <a:cubicBezTo>
                        <a:pt x="14125" y="307042"/>
                        <a:pt x="64199" y="293980"/>
                        <a:pt x="107742" y="248260"/>
                      </a:cubicBezTo>
                      <a:cubicBezTo>
                        <a:pt x="151285" y="202540"/>
                        <a:pt x="199182" y="132871"/>
                        <a:pt x="264496" y="91505"/>
                      </a:cubicBezTo>
                      <a:cubicBezTo>
                        <a:pt x="329810" y="50139"/>
                        <a:pt x="436491" y="-2112"/>
                        <a:pt x="499628" y="65"/>
                      </a:cubicBezTo>
                      <a:cubicBezTo>
                        <a:pt x="562765" y="2242"/>
                        <a:pt x="619371" y="61025"/>
                        <a:pt x="643319" y="104568"/>
                      </a:cubicBezTo>
                      <a:cubicBezTo>
                        <a:pt x="667267" y="148111"/>
                        <a:pt x="682507" y="200362"/>
                        <a:pt x="643319" y="261322"/>
                      </a:cubicBezTo>
                      <a:cubicBezTo>
                        <a:pt x="604131" y="322282"/>
                        <a:pt x="399479" y="442025"/>
                        <a:pt x="368999" y="470328"/>
                      </a:cubicBezTo>
                      <a:close/>
                    </a:path>
                  </a:pathLst>
                </a:custGeom>
                <a:solidFill>
                  <a:srgbClr val="92d050"/>
                </a:solidFill>
                <a:ln w="25560">
                  <a:solidFill>
                    <a:srgbClr val="385d8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6" name="Freeform 15"/>
                <p:cNvSpPr/>
                <p:nvPr/>
              </p:nvSpPr>
              <p:spPr>
                <a:xfrm>
                  <a:off x="3454200" y="4259160"/>
                  <a:ext cx="817560" cy="677880"/>
                </a:xfrm>
                <a:custGeom>
                  <a:avLst/>
                  <a:gdLst/>
                  <a:ahLst/>
                  <a:rect l="l" t="t" r="r" b="b"/>
                  <a:pathLst>
                    <a:path w="817237" h="677527">
                      <a:moveTo>
                        <a:pt x="126456" y="149047"/>
                      </a:moveTo>
                      <a:cubicBezTo>
                        <a:pt x="202656" y="118567"/>
                        <a:pt x="385536" y="81556"/>
                        <a:pt x="466090" y="57607"/>
                      </a:cubicBezTo>
                      <a:cubicBezTo>
                        <a:pt x="546644" y="33658"/>
                        <a:pt x="553175" y="-16416"/>
                        <a:pt x="609781" y="5355"/>
                      </a:cubicBezTo>
                      <a:cubicBezTo>
                        <a:pt x="666387" y="27126"/>
                        <a:pt x="775244" y="127275"/>
                        <a:pt x="805724" y="188235"/>
                      </a:cubicBezTo>
                      <a:cubicBezTo>
                        <a:pt x="836204" y="249195"/>
                        <a:pt x="797015" y="323218"/>
                        <a:pt x="792661" y="371115"/>
                      </a:cubicBezTo>
                      <a:cubicBezTo>
                        <a:pt x="788307" y="419012"/>
                        <a:pt x="827496" y="425544"/>
                        <a:pt x="779599" y="475618"/>
                      </a:cubicBezTo>
                      <a:cubicBezTo>
                        <a:pt x="731702" y="525692"/>
                        <a:pt x="570593" y="647613"/>
                        <a:pt x="505279" y="671561"/>
                      </a:cubicBezTo>
                      <a:cubicBezTo>
                        <a:pt x="439965" y="695509"/>
                        <a:pt x="411662" y="641080"/>
                        <a:pt x="387713" y="619309"/>
                      </a:cubicBezTo>
                      <a:cubicBezTo>
                        <a:pt x="363764" y="597538"/>
                        <a:pt x="400776" y="569235"/>
                        <a:pt x="361587" y="540932"/>
                      </a:cubicBezTo>
                      <a:cubicBezTo>
                        <a:pt x="322398" y="512629"/>
                        <a:pt x="209187" y="477795"/>
                        <a:pt x="152581" y="449492"/>
                      </a:cubicBezTo>
                      <a:cubicBezTo>
                        <a:pt x="135164" y="410303"/>
                        <a:pt x="45902" y="405949"/>
                        <a:pt x="21953" y="371115"/>
                      </a:cubicBezTo>
                      <a:cubicBezTo>
                        <a:pt x="-1996" y="336281"/>
                        <a:pt x="-6350" y="279676"/>
                        <a:pt x="8890" y="240487"/>
                      </a:cubicBezTo>
                      <a:cubicBezTo>
                        <a:pt x="24130" y="201299"/>
                        <a:pt x="50256" y="179527"/>
                        <a:pt x="126456" y="149047"/>
                      </a:cubicBezTo>
                      <a:close/>
                    </a:path>
                  </a:pathLst>
                </a:custGeom>
                <a:solidFill>
                  <a:srgbClr val="92d050"/>
                </a:solidFill>
                <a:ln w="25560">
                  <a:solidFill>
                    <a:srgbClr val="385d8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7" name="Freeform 11"/>
                <p:cNvSpPr/>
                <p:nvPr/>
              </p:nvSpPr>
              <p:spPr>
                <a:xfrm>
                  <a:off x="3098520" y="4861080"/>
                  <a:ext cx="760680" cy="903240"/>
                </a:xfrm>
                <a:custGeom>
                  <a:avLst/>
                  <a:gdLst/>
                  <a:ahLst/>
                  <a:rect l="l" t="t" r="r" b="b"/>
                  <a:pathLst>
                    <a:path w="759599" h="903484">
                      <a:moveTo>
                        <a:pt x="275055" y="223207"/>
                      </a:moveTo>
                      <a:cubicBezTo>
                        <a:pt x="284852" y="188373"/>
                        <a:pt x="294650" y="153539"/>
                        <a:pt x="327307" y="144830"/>
                      </a:cubicBezTo>
                      <a:cubicBezTo>
                        <a:pt x="359964" y="136121"/>
                        <a:pt x="442695" y="142652"/>
                        <a:pt x="470998" y="170955"/>
                      </a:cubicBezTo>
                      <a:cubicBezTo>
                        <a:pt x="499301" y="199258"/>
                        <a:pt x="470998" y="290698"/>
                        <a:pt x="497124" y="314647"/>
                      </a:cubicBezTo>
                      <a:cubicBezTo>
                        <a:pt x="523250" y="338596"/>
                        <a:pt x="584210" y="288521"/>
                        <a:pt x="627753" y="314647"/>
                      </a:cubicBezTo>
                      <a:cubicBezTo>
                        <a:pt x="671296" y="340773"/>
                        <a:pt x="747495" y="416973"/>
                        <a:pt x="758381" y="471401"/>
                      </a:cubicBezTo>
                      <a:cubicBezTo>
                        <a:pt x="769267" y="525829"/>
                        <a:pt x="703953" y="591144"/>
                        <a:pt x="693067" y="641218"/>
                      </a:cubicBezTo>
                      <a:cubicBezTo>
                        <a:pt x="682181" y="691292"/>
                        <a:pt x="706130" y="754430"/>
                        <a:pt x="693067" y="771847"/>
                      </a:cubicBezTo>
                      <a:cubicBezTo>
                        <a:pt x="680004" y="789264"/>
                        <a:pt x="662587" y="745721"/>
                        <a:pt x="614690" y="745721"/>
                      </a:cubicBezTo>
                      <a:cubicBezTo>
                        <a:pt x="566793" y="745721"/>
                        <a:pt x="470998" y="745721"/>
                        <a:pt x="405684" y="771847"/>
                      </a:cubicBezTo>
                      <a:cubicBezTo>
                        <a:pt x="340370" y="797973"/>
                        <a:pt x="277232" y="915538"/>
                        <a:pt x="222804" y="902475"/>
                      </a:cubicBezTo>
                      <a:cubicBezTo>
                        <a:pt x="168376" y="889412"/>
                        <a:pt x="113947" y="760961"/>
                        <a:pt x="79113" y="693470"/>
                      </a:cubicBezTo>
                      <a:cubicBezTo>
                        <a:pt x="44279" y="625979"/>
                        <a:pt x="26861" y="573727"/>
                        <a:pt x="13798" y="497527"/>
                      </a:cubicBezTo>
                      <a:cubicBezTo>
                        <a:pt x="735" y="421327"/>
                        <a:pt x="-1442" y="319001"/>
                        <a:pt x="735" y="236270"/>
                      </a:cubicBezTo>
                      <a:cubicBezTo>
                        <a:pt x="2912" y="153539"/>
                        <a:pt x="2912" y="14201"/>
                        <a:pt x="26861" y="1138"/>
                      </a:cubicBezTo>
                      <a:cubicBezTo>
                        <a:pt x="50810" y="-11925"/>
                        <a:pt x="127010" y="90401"/>
                        <a:pt x="144427" y="157893"/>
                      </a:cubicBezTo>
                      <a:cubicBezTo>
                        <a:pt x="161844" y="225385"/>
                        <a:pt x="116124" y="369076"/>
                        <a:pt x="131364" y="406087"/>
                      </a:cubicBezTo>
                      <a:cubicBezTo>
                        <a:pt x="146604" y="443098"/>
                        <a:pt x="205387" y="421327"/>
                        <a:pt x="235867" y="379961"/>
                      </a:cubicBezTo>
                      <a:cubicBezTo>
                        <a:pt x="266347" y="338595"/>
                        <a:pt x="303358" y="192727"/>
                        <a:pt x="314244" y="157893"/>
                      </a:cubicBezTo>
                    </a:path>
                  </a:pathLst>
                </a:custGeom>
                <a:solidFill>
                  <a:srgbClr val="fac090"/>
                </a:solidFill>
                <a:ln w="25560">
                  <a:solidFill>
                    <a:srgbClr val="385d8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8" name="Freeform 16"/>
                <p:cNvSpPr/>
                <p:nvPr/>
              </p:nvSpPr>
              <p:spPr>
                <a:xfrm>
                  <a:off x="1794960" y="2947680"/>
                  <a:ext cx="642960" cy="831960"/>
                </a:xfrm>
                <a:custGeom>
                  <a:avLst/>
                  <a:gdLst/>
                  <a:ahLst/>
                  <a:rect l="l" t="t" r="r" b="b"/>
                  <a:pathLst>
                    <a:path w="827729" h="620363">
                      <a:moveTo>
                        <a:pt x="126456" y="91883"/>
                      </a:moveTo>
                      <a:cubicBezTo>
                        <a:pt x="202656" y="61403"/>
                        <a:pt x="352879" y="-6088"/>
                        <a:pt x="466090" y="443"/>
                      </a:cubicBezTo>
                      <a:cubicBezTo>
                        <a:pt x="579301" y="6974"/>
                        <a:pt x="751295" y="78820"/>
                        <a:pt x="805724" y="131071"/>
                      </a:cubicBezTo>
                      <a:cubicBezTo>
                        <a:pt x="860153" y="183322"/>
                        <a:pt x="797015" y="266054"/>
                        <a:pt x="792661" y="313951"/>
                      </a:cubicBezTo>
                      <a:cubicBezTo>
                        <a:pt x="788307" y="361848"/>
                        <a:pt x="827496" y="368380"/>
                        <a:pt x="779599" y="418454"/>
                      </a:cubicBezTo>
                      <a:cubicBezTo>
                        <a:pt x="731702" y="468528"/>
                        <a:pt x="570593" y="590449"/>
                        <a:pt x="505279" y="614397"/>
                      </a:cubicBezTo>
                      <a:cubicBezTo>
                        <a:pt x="439965" y="638345"/>
                        <a:pt x="411662" y="583916"/>
                        <a:pt x="387713" y="562145"/>
                      </a:cubicBezTo>
                      <a:cubicBezTo>
                        <a:pt x="363764" y="540374"/>
                        <a:pt x="400776" y="512071"/>
                        <a:pt x="361587" y="483768"/>
                      </a:cubicBezTo>
                      <a:cubicBezTo>
                        <a:pt x="322398" y="455465"/>
                        <a:pt x="209187" y="420631"/>
                        <a:pt x="152581" y="392328"/>
                      </a:cubicBezTo>
                      <a:cubicBezTo>
                        <a:pt x="135164" y="353139"/>
                        <a:pt x="45902" y="348785"/>
                        <a:pt x="21953" y="313951"/>
                      </a:cubicBezTo>
                      <a:cubicBezTo>
                        <a:pt x="-1996" y="279117"/>
                        <a:pt x="-6350" y="222512"/>
                        <a:pt x="8890" y="183323"/>
                      </a:cubicBezTo>
                      <a:cubicBezTo>
                        <a:pt x="24130" y="144135"/>
                        <a:pt x="50256" y="122363"/>
                        <a:pt x="126456" y="91883"/>
                      </a:cubicBezTo>
                      <a:close/>
                    </a:path>
                  </a:pathLst>
                </a:custGeom>
                <a:solidFill>
                  <a:srgbClr val="fac090"/>
                </a:solidFill>
                <a:ln w="25560">
                  <a:solidFill>
                    <a:srgbClr val="385d8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9" name="TextBox 38"/>
              <p:cNvSpPr/>
              <p:nvPr/>
            </p:nvSpPr>
            <p:spPr>
              <a:xfrm>
                <a:off x="452520" y="2608200"/>
                <a:ext cx="7887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alibri"/>
                  </a:rPr>
                  <a:t>Sub-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alibri"/>
                  </a:rPr>
                  <a:t>System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010" name="Straight Arrow Connector 41"/>
              <p:cNvCxnSpPr>
                <a:endCxn id="2005" idx="7"/>
              </p:cNvCxnSpPr>
              <p:nvPr/>
            </p:nvCxnSpPr>
            <p:spPr>
              <a:xfrm>
                <a:off x="838080" y="3160080"/>
                <a:ext cx="961200" cy="133596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  <p:cxnSp>
          <p:nvCxnSpPr>
            <p:cNvPr id="2011" name="Straight Arrow Connector 40"/>
            <p:cNvCxnSpPr>
              <a:endCxn id="2008" idx="10"/>
            </p:cNvCxnSpPr>
            <p:nvPr/>
          </p:nvCxnSpPr>
          <p:spPr>
            <a:xfrm>
              <a:off x="1257120" y="2918880"/>
              <a:ext cx="545040" cy="2754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grpSp>
        <p:nvGrpSpPr>
          <p:cNvPr id="2012" name="Group 57"/>
          <p:cNvGrpSpPr/>
          <p:nvPr/>
        </p:nvGrpSpPr>
        <p:grpSpPr>
          <a:xfrm>
            <a:off x="1985760" y="1984320"/>
            <a:ext cx="2266920" cy="4521960"/>
            <a:chOff x="1985760" y="1984320"/>
            <a:chExt cx="2266920" cy="4521960"/>
          </a:xfrm>
        </p:grpSpPr>
        <p:sp>
          <p:nvSpPr>
            <p:cNvPr id="2013" name="TextBox 25"/>
            <p:cNvSpPr/>
            <p:nvPr/>
          </p:nvSpPr>
          <p:spPr>
            <a:xfrm>
              <a:off x="2977200" y="1984320"/>
              <a:ext cx="112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ountry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TextBox 26"/>
            <p:cNvSpPr/>
            <p:nvPr/>
          </p:nvSpPr>
          <p:spPr>
            <a:xfrm>
              <a:off x="1993320" y="6138000"/>
              <a:ext cx="111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ountry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Straight Connector 22"/>
            <p:cNvSpPr/>
            <p:nvPr/>
          </p:nvSpPr>
          <p:spPr>
            <a:xfrm flipH="1">
              <a:off x="1985760" y="2033280"/>
              <a:ext cx="2266920" cy="4275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6" name="Group 58"/>
          <p:cNvGrpSpPr/>
          <p:nvPr/>
        </p:nvGrpSpPr>
        <p:grpSpPr>
          <a:xfrm>
            <a:off x="1908000" y="1742760"/>
            <a:ext cx="2683440" cy="3800880"/>
            <a:chOff x="1908000" y="1742760"/>
            <a:chExt cx="2683440" cy="3800880"/>
          </a:xfrm>
        </p:grpSpPr>
        <p:cxnSp>
          <p:nvCxnSpPr>
            <p:cNvPr id="2017" name="Straight Arrow Connector 37"/>
            <p:cNvCxnSpPr/>
            <p:nvPr/>
          </p:nvCxnSpPr>
          <p:spPr>
            <a:xfrm>
              <a:off x="4590720" y="1742760"/>
              <a:ext cx="108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grpSp>
          <p:nvGrpSpPr>
            <p:cNvPr id="2018" name="Group 53"/>
            <p:cNvGrpSpPr/>
            <p:nvPr/>
          </p:nvGrpSpPr>
          <p:grpSpPr>
            <a:xfrm>
              <a:off x="1908000" y="2108160"/>
              <a:ext cx="2536920" cy="3435480"/>
              <a:chOff x="1908000" y="2108160"/>
              <a:chExt cx="2536920" cy="3435480"/>
            </a:xfrm>
          </p:grpSpPr>
          <p:grpSp>
            <p:nvGrpSpPr>
              <p:cNvPr id="2019" name="Group 50"/>
              <p:cNvGrpSpPr/>
              <p:nvPr/>
            </p:nvGrpSpPr>
            <p:grpSpPr>
              <a:xfrm>
                <a:off x="2045520" y="3287880"/>
                <a:ext cx="2399400" cy="2255760"/>
                <a:chOff x="2045520" y="3287880"/>
                <a:chExt cx="2399400" cy="2255760"/>
              </a:xfrm>
            </p:grpSpPr>
            <p:sp>
              <p:nvSpPr>
                <p:cNvPr id="2020" name="TextBox 7"/>
                <p:cNvSpPr/>
                <p:nvPr/>
              </p:nvSpPr>
              <p:spPr>
                <a:xfrm>
                  <a:off x="3289680" y="4962240"/>
                  <a:ext cx="3834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Calibri"/>
                    </a:rPr>
                    <a:t>+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21" name="Group 19"/>
                <p:cNvGrpSpPr/>
                <p:nvPr/>
              </p:nvGrpSpPr>
              <p:grpSpPr>
                <a:xfrm>
                  <a:off x="2045520" y="3287880"/>
                  <a:ext cx="2399400" cy="1285200"/>
                  <a:chOff x="2045520" y="3287880"/>
                  <a:chExt cx="2399400" cy="1285200"/>
                </a:xfrm>
              </p:grpSpPr>
              <p:sp>
                <p:nvSpPr>
                  <p:cNvPr id="2022" name="TextBox 4"/>
                  <p:cNvSpPr/>
                  <p:nvPr/>
                </p:nvSpPr>
                <p:spPr>
                  <a:xfrm>
                    <a:off x="3094560" y="3362040"/>
                    <a:ext cx="38340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000000"/>
                        </a:solidFill>
                        <a:latin typeface="Calibri"/>
                      </a:rPr>
                      <a:t>+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3" name="TextBox 8"/>
                  <p:cNvSpPr/>
                  <p:nvPr/>
                </p:nvSpPr>
                <p:spPr>
                  <a:xfrm>
                    <a:off x="3922200" y="3374280"/>
                    <a:ext cx="38340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000000"/>
                        </a:solidFill>
                        <a:latin typeface="Calibri"/>
                      </a:rPr>
                      <a:t>+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24" name="Group 18"/>
                  <p:cNvGrpSpPr/>
                  <p:nvPr/>
                </p:nvGrpSpPr>
                <p:grpSpPr>
                  <a:xfrm>
                    <a:off x="2045520" y="3287880"/>
                    <a:ext cx="2399400" cy="1285200"/>
                    <a:chOff x="2045520" y="3287880"/>
                    <a:chExt cx="2399400" cy="1285200"/>
                  </a:xfrm>
                </p:grpSpPr>
                <p:sp>
                  <p:nvSpPr>
                    <p:cNvPr id="2025" name="TextBox 5"/>
                    <p:cNvSpPr/>
                    <p:nvPr/>
                  </p:nvSpPr>
                  <p:spPr>
                    <a:xfrm>
                      <a:off x="3264480" y="3567600"/>
                      <a:ext cx="383400" cy="581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6" name="TextBox 6"/>
                    <p:cNvSpPr/>
                    <p:nvPr/>
                  </p:nvSpPr>
                  <p:spPr>
                    <a:xfrm>
                      <a:off x="2045520" y="3991680"/>
                      <a:ext cx="383400" cy="581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7" name="TextBox 9"/>
                    <p:cNvSpPr/>
                    <p:nvPr/>
                  </p:nvSpPr>
                  <p:spPr>
                    <a:xfrm>
                      <a:off x="4061520" y="3287880"/>
                      <a:ext cx="383400" cy="581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028" name="Straight Connector 30"/>
              <p:cNvSpPr/>
              <p:nvPr/>
            </p:nvSpPr>
            <p:spPr>
              <a:xfrm>
                <a:off x="2431800" y="2552760"/>
                <a:ext cx="760320" cy="10526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Straight Connector 31"/>
              <p:cNvSpPr/>
              <p:nvPr/>
            </p:nvSpPr>
            <p:spPr>
              <a:xfrm>
                <a:off x="2549520" y="2378160"/>
                <a:ext cx="1563840" cy="115092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TextBox 27"/>
              <p:cNvSpPr/>
              <p:nvPr/>
            </p:nvSpPr>
            <p:spPr>
              <a:xfrm>
                <a:off x="1908000" y="2108160"/>
                <a:ext cx="6591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alibri"/>
                  </a:rPr>
                  <a:t>Ac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alibri"/>
                  </a:rPr>
                  <a:t>Sit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31" name="Group 73"/>
          <p:cNvGrpSpPr/>
          <p:nvPr/>
        </p:nvGrpSpPr>
        <p:grpSpPr>
          <a:xfrm>
            <a:off x="4932360" y="2490840"/>
            <a:ext cx="950760" cy="3103560"/>
            <a:chOff x="4932360" y="2490840"/>
            <a:chExt cx="950760" cy="3103560"/>
          </a:xfrm>
        </p:grpSpPr>
        <p:sp>
          <p:nvSpPr>
            <p:cNvPr id="2032" name="Freeform 66"/>
            <p:cNvSpPr/>
            <p:nvPr/>
          </p:nvSpPr>
          <p:spPr>
            <a:xfrm>
              <a:off x="5208480" y="2490840"/>
              <a:ext cx="674640" cy="631800"/>
            </a:xfrm>
            <a:custGeom>
              <a:avLst/>
              <a:gdLst/>
              <a:ahLst/>
              <a:rect l="l" t="t" r="r" b="b"/>
              <a:pathLst>
                <a:path w="674375" h="631912">
                  <a:moveTo>
                    <a:pt x="287382" y="0"/>
                  </a:moveTo>
                  <a:cubicBezTo>
                    <a:pt x="701039" y="101237"/>
                    <a:pt x="701039" y="326569"/>
                    <a:pt x="653142" y="431072"/>
                  </a:cubicBezTo>
                  <a:cubicBezTo>
                    <a:pt x="605245" y="535575"/>
                    <a:pt x="419643" y="658040"/>
                    <a:pt x="0" y="627016"/>
                  </a:cubicBezTo>
                </a:path>
              </a:pathLst>
            </a:custGeom>
            <a:noFill/>
            <a:ln w="50760">
              <a:solidFill>
                <a:srgbClr val="ffff00"/>
              </a:solidFill>
              <a:round/>
              <a:headEnd len="med" type="triangle" w="med"/>
              <a:tailEnd len="med" type="triangle" w="med"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Freeform 67"/>
            <p:cNvSpPr/>
            <p:nvPr/>
          </p:nvSpPr>
          <p:spPr>
            <a:xfrm>
              <a:off x="4932360" y="3702240"/>
              <a:ext cx="674640" cy="631800"/>
            </a:xfrm>
            <a:custGeom>
              <a:avLst/>
              <a:gdLst/>
              <a:ahLst/>
              <a:rect l="l" t="t" r="r" b="b"/>
              <a:pathLst>
                <a:path w="674375" h="631912">
                  <a:moveTo>
                    <a:pt x="287382" y="0"/>
                  </a:moveTo>
                  <a:cubicBezTo>
                    <a:pt x="701039" y="101237"/>
                    <a:pt x="701039" y="326569"/>
                    <a:pt x="653142" y="431072"/>
                  </a:cubicBezTo>
                  <a:cubicBezTo>
                    <a:pt x="605245" y="535575"/>
                    <a:pt x="419643" y="658040"/>
                    <a:pt x="0" y="627016"/>
                  </a:cubicBezTo>
                </a:path>
              </a:pathLst>
            </a:custGeom>
            <a:noFill/>
            <a:ln w="50760">
              <a:solidFill>
                <a:srgbClr val="ffff00"/>
              </a:solidFill>
              <a:round/>
              <a:headEnd len="med" type="triangle" w="med"/>
              <a:tailEnd len="med" type="triangle" w="med"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Freeform 68"/>
            <p:cNvSpPr/>
            <p:nvPr/>
          </p:nvSpPr>
          <p:spPr>
            <a:xfrm>
              <a:off x="4960800" y="4843440"/>
              <a:ext cx="725400" cy="750960"/>
            </a:xfrm>
            <a:custGeom>
              <a:avLst/>
              <a:gdLst/>
              <a:ahLst/>
              <a:rect l="l" t="t" r="r" b="b"/>
              <a:pathLst>
                <a:path w="725646" h="750162">
                  <a:moveTo>
                    <a:pt x="509450" y="0"/>
                  </a:moveTo>
                  <a:cubicBezTo>
                    <a:pt x="805542" y="375557"/>
                    <a:pt x="738050" y="424541"/>
                    <a:pt x="653142" y="548638"/>
                  </a:cubicBezTo>
                  <a:cubicBezTo>
                    <a:pt x="568234" y="672735"/>
                    <a:pt x="419643" y="775606"/>
                    <a:pt x="0" y="744582"/>
                  </a:cubicBezTo>
                </a:path>
              </a:pathLst>
            </a:custGeom>
            <a:noFill/>
            <a:ln w="50760">
              <a:solidFill>
                <a:srgbClr val="ffff00"/>
              </a:solidFill>
              <a:round/>
              <a:headEnd len="med" type="triangle" w="med"/>
              <a:tailEnd len="med" type="triangle" w="med"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5" name="Freeform 69"/>
          <p:cNvSpPr/>
          <p:nvPr/>
        </p:nvSpPr>
        <p:spPr>
          <a:xfrm>
            <a:off x="3556080" y="3952800"/>
            <a:ext cx="587160" cy="679680"/>
          </a:xfrm>
          <a:custGeom>
            <a:avLst/>
            <a:gdLst/>
            <a:ahLst/>
            <a:rect l="l" t="t" r="r" b="b"/>
            <a:pathLst>
              <a:path w="586994" h="679268">
                <a:moveTo>
                  <a:pt x="0" y="0"/>
                </a:moveTo>
                <a:cubicBezTo>
                  <a:pt x="413657" y="101237"/>
                  <a:pt x="533400" y="174169"/>
                  <a:pt x="574766" y="287380"/>
                </a:cubicBezTo>
                <a:cubicBezTo>
                  <a:pt x="616132" y="400591"/>
                  <a:pt x="563335" y="514350"/>
                  <a:pt x="248195" y="679268"/>
                </a:cubicBezTo>
              </a:path>
            </a:pathLst>
          </a:custGeom>
          <a:noFill/>
          <a:ln w="50760">
            <a:solidFill>
              <a:srgbClr val="ffff00"/>
            </a:solidFill>
            <a:round/>
            <a:headEnd len="med" type="triangle" w="med"/>
            <a:tailEnd len="med" type="triangle" w="med"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6" name="Group 76"/>
          <p:cNvGrpSpPr/>
          <p:nvPr/>
        </p:nvGrpSpPr>
        <p:grpSpPr>
          <a:xfrm>
            <a:off x="1455480" y="3567240"/>
            <a:ext cx="780840" cy="1709640"/>
            <a:chOff x="1455480" y="3567240"/>
            <a:chExt cx="780840" cy="1709640"/>
          </a:xfrm>
        </p:grpSpPr>
        <p:sp>
          <p:nvSpPr>
            <p:cNvPr id="2037" name="Freeform 70"/>
            <p:cNvSpPr/>
            <p:nvPr/>
          </p:nvSpPr>
          <p:spPr>
            <a:xfrm flipH="1">
              <a:off x="1455120" y="4597560"/>
              <a:ext cx="585720" cy="679320"/>
            </a:xfrm>
            <a:custGeom>
              <a:avLst/>
              <a:gdLst/>
              <a:ahLst/>
              <a:rect l="l" t="t" r="r" b="b"/>
              <a:pathLst>
                <a:path w="586994" h="679268">
                  <a:moveTo>
                    <a:pt x="0" y="0"/>
                  </a:moveTo>
                  <a:cubicBezTo>
                    <a:pt x="413657" y="101237"/>
                    <a:pt x="533400" y="174169"/>
                    <a:pt x="574766" y="287380"/>
                  </a:cubicBezTo>
                  <a:cubicBezTo>
                    <a:pt x="616132" y="400591"/>
                    <a:pt x="563335" y="514350"/>
                    <a:pt x="248195" y="679268"/>
                  </a:cubicBezTo>
                </a:path>
              </a:pathLst>
            </a:custGeom>
            <a:noFill/>
            <a:ln w="50760">
              <a:solidFill>
                <a:srgbClr val="ffff00"/>
              </a:solidFill>
              <a:round/>
              <a:headEnd len="med" type="triangle" w="med"/>
              <a:tailEnd len="med" type="triangle" w="med"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Freeform 71"/>
            <p:cNvSpPr/>
            <p:nvPr/>
          </p:nvSpPr>
          <p:spPr>
            <a:xfrm flipH="1">
              <a:off x="1650240" y="3567240"/>
              <a:ext cx="585720" cy="679320"/>
            </a:xfrm>
            <a:custGeom>
              <a:avLst/>
              <a:gdLst/>
              <a:ahLst/>
              <a:rect l="l" t="t" r="r" b="b"/>
              <a:pathLst>
                <a:path w="586994" h="679268">
                  <a:moveTo>
                    <a:pt x="0" y="0"/>
                  </a:moveTo>
                  <a:cubicBezTo>
                    <a:pt x="413657" y="101237"/>
                    <a:pt x="533400" y="174169"/>
                    <a:pt x="574766" y="287380"/>
                  </a:cubicBezTo>
                  <a:cubicBezTo>
                    <a:pt x="616132" y="400591"/>
                    <a:pt x="563335" y="514350"/>
                    <a:pt x="248195" y="679268"/>
                  </a:cubicBezTo>
                </a:path>
              </a:pathLst>
            </a:custGeom>
            <a:noFill/>
            <a:ln w="50760">
              <a:solidFill>
                <a:srgbClr val="ffff00"/>
              </a:solidFill>
              <a:round/>
              <a:headEnd len="med" type="arrow" w="med"/>
              <a:tailEnd len="med" type="arrow" w="med"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9" name="Freeform 72"/>
          <p:cNvSpPr/>
          <p:nvPr/>
        </p:nvSpPr>
        <p:spPr>
          <a:xfrm flipH="1">
            <a:off x="771480" y="5156280"/>
            <a:ext cx="587520" cy="679320"/>
          </a:xfrm>
          <a:custGeom>
            <a:avLst/>
            <a:gdLst/>
            <a:ahLst/>
            <a:rect l="l" t="t" r="r" b="b"/>
            <a:pathLst>
              <a:path w="586994" h="679268">
                <a:moveTo>
                  <a:pt x="0" y="0"/>
                </a:moveTo>
                <a:cubicBezTo>
                  <a:pt x="413657" y="101237"/>
                  <a:pt x="533400" y="174169"/>
                  <a:pt x="574766" y="287380"/>
                </a:cubicBezTo>
                <a:cubicBezTo>
                  <a:pt x="616132" y="400591"/>
                  <a:pt x="563335" y="514350"/>
                  <a:pt x="248195" y="679268"/>
                </a:cubicBezTo>
              </a:path>
            </a:pathLst>
          </a:custGeom>
          <a:noFill/>
          <a:ln w="50760">
            <a:solidFill>
              <a:srgbClr val="ffff00"/>
            </a:solidFill>
            <a:round/>
            <a:headEnd len="med" type="arrow" w="med"/>
            <a:tailEnd len="med" type="arrow" w="med"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0" name="Group 80"/>
          <p:cNvGrpSpPr/>
          <p:nvPr/>
        </p:nvGrpSpPr>
        <p:grpSpPr>
          <a:xfrm>
            <a:off x="3498120" y="1967760"/>
            <a:ext cx="5112360" cy="3350160"/>
            <a:chOff x="3498120" y="1967760"/>
            <a:chExt cx="5112360" cy="3350160"/>
          </a:xfrm>
        </p:grpSpPr>
        <p:sp>
          <p:nvSpPr>
            <p:cNvPr id="2041" name="Freeform 78"/>
            <p:cNvSpPr/>
            <p:nvPr/>
          </p:nvSpPr>
          <p:spPr>
            <a:xfrm rot="19320000">
              <a:off x="3644640" y="2076120"/>
              <a:ext cx="587160" cy="679320"/>
            </a:xfrm>
            <a:custGeom>
              <a:avLst/>
              <a:gdLst/>
              <a:ahLst/>
              <a:rect l="l" t="t" r="r" b="b"/>
              <a:pathLst>
                <a:path w="586994" h="679268">
                  <a:moveTo>
                    <a:pt x="0" y="0"/>
                  </a:moveTo>
                  <a:cubicBezTo>
                    <a:pt x="413657" y="101237"/>
                    <a:pt x="533400" y="174169"/>
                    <a:pt x="574766" y="287380"/>
                  </a:cubicBezTo>
                  <a:cubicBezTo>
                    <a:pt x="616132" y="400591"/>
                    <a:pt x="563335" y="514350"/>
                    <a:pt x="248195" y="679268"/>
                  </a:cubicBezTo>
                </a:path>
              </a:pathLst>
            </a:custGeom>
            <a:noFill/>
            <a:ln w="63360">
              <a:solidFill>
                <a:srgbClr val="ffc000"/>
              </a:solidFill>
              <a:round/>
              <a:headEnd len="med" type="triangle" w="med"/>
              <a:tailEnd len="med" type="triangle" w="med"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TextBox 79"/>
            <p:cNvSpPr/>
            <p:nvPr/>
          </p:nvSpPr>
          <p:spPr>
            <a:xfrm>
              <a:off x="6172200" y="4675320"/>
              <a:ext cx="243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buClr>
                  <a:srgbClr val="e46c0a"/>
                </a:buClr>
                <a:buFont typeface="Calibri"/>
                <a:buAutoNum type="arabicPeriod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46c0a"/>
                  </a:solidFill>
                  <a:latin typeface="Calibri"/>
                </a:rPr>
                <a:t>Country to count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46c0a"/>
                  </a:solidFill>
                  <a:latin typeface="Calibri"/>
                </a:rPr>
                <a:t>      </a:t>
              </a:r>
              <a:r>
                <a:rPr b="1" lang="en-US" sz="1800" spc="-1" strike="noStrike">
                  <a:solidFill>
                    <a:srgbClr val="e46c0a"/>
                  </a:solidFill>
                  <a:latin typeface="Calibri"/>
                </a:rPr>
                <a:t>barriers to spillo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3" name="TextBox 81"/>
          <p:cNvSpPr/>
          <p:nvPr/>
        </p:nvSpPr>
        <p:spPr>
          <a:xfrm>
            <a:off x="338400" y="282600"/>
            <a:ext cx="541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I Monitoring and Reporting Sca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4" name="Group 83"/>
          <p:cNvGrpSpPr/>
          <p:nvPr/>
        </p:nvGrpSpPr>
        <p:grpSpPr>
          <a:xfrm>
            <a:off x="5529240" y="287280"/>
            <a:ext cx="3538440" cy="4443480"/>
            <a:chOff x="5529240" y="287280"/>
            <a:chExt cx="3538440" cy="4443480"/>
          </a:xfrm>
        </p:grpSpPr>
        <p:grpSp>
          <p:nvGrpSpPr>
            <p:cNvPr id="2045" name="Group 77"/>
            <p:cNvGrpSpPr/>
            <p:nvPr/>
          </p:nvGrpSpPr>
          <p:grpSpPr>
            <a:xfrm>
              <a:off x="6019200" y="1742760"/>
              <a:ext cx="3048480" cy="2988000"/>
              <a:chOff x="6019200" y="1742760"/>
              <a:chExt cx="3048480" cy="2988000"/>
            </a:xfrm>
          </p:grpSpPr>
          <p:sp>
            <p:nvSpPr>
              <p:cNvPr id="2046" name="TextBox 74"/>
              <p:cNvSpPr/>
              <p:nvPr/>
            </p:nvSpPr>
            <p:spPr>
              <a:xfrm>
                <a:off x="6019200" y="1742760"/>
                <a:ext cx="2896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Fostering Spillover by Desig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TextBox 75"/>
              <p:cNvSpPr/>
              <p:nvPr/>
            </p:nvSpPr>
            <p:spPr>
              <a:xfrm>
                <a:off x="6171480" y="2167920"/>
                <a:ext cx="2896200" cy="256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lnSpc>
                    <a:spcPct val="100000"/>
                  </a:lnSpc>
                  <a:buClr>
                    <a:srgbClr val="000000"/>
                  </a:buClr>
                  <a:buFont typeface="Calibri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Implementation sites to local sub-system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buClr>
                    <a:srgbClr val="000000"/>
                  </a:buClr>
                  <a:buFont typeface="Calibri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Implementation to non-implementation sub-system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buClr>
                    <a:srgbClr val="000000"/>
                  </a:buClr>
                  <a:buFont typeface="Calibri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Sub-systems to (sub-) system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buClr>
                    <a:srgbClr val="000000"/>
                  </a:buClr>
                  <a:buFont typeface="Calibri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Systems to system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buClr>
                    <a:srgbClr val="000000"/>
                  </a:buClr>
                  <a:buFont typeface="Calibri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Sites to sit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48" name="TextBox 82"/>
            <p:cNvSpPr/>
            <p:nvPr/>
          </p:nvSpPr>
          <p:spPr>
            <a:xfrm>
              <a:off x="5529240" y="287280"/>
              <a:ext cx="2795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Calibri"/>
                </a:rPr>
                <a:t>&amp; Spillover Need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valuation Approach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0" name=""/>
          <p:cNvSpPr txBox="1"/>
          <p:nvPr/>
        </p:nvSpPr>
        <p:spPr>
          <a:xfrm>
            <a:off x="380520" y="12193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lineation and characterization (typologies?) of target farming systems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lies on the fusion of spatially-explicit agricultural production, environmental, and farm/household data, and a conceptual model of impact pathways/goa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intain Technology/Intervention Inventory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characterized inventory of the nature of the individual and integrated farming system components whose adoption and impacts is being evaluated. Includes characterization of spillover potent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cursive Modeling of Projected Change (with and w/o interventions)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.g., productivity and income change, land, labour (sex differentiated) and water 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ttribution assessment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itional to the ability to measure and model change in indicators is the need (with additional information/assumptions) to assess attribution of changes to an agreed level of specifici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1" name="Group 71"/>
          <p:cNvGrpSpPr/>
          <p:nvPr/>
        </p:nvGrpSpPr>
        <p:grpSpPr>
          <a:xfrm>
            <a:off x="492840" y="4594320"/>
            <a:ext cx="7230960" cy="2165400"/>
            <a:chOff x="492840" y="4594320"/>
            <a:chExt cx="7230960" cy="2165400"/>
          </a:xfrm>
        </p:grpSpPr>
        <p:grpSp>
          <p:nvGrpSpPr>
            <p:cNvPr id="2052" name="Group 63"/>
            <p:cNvGrpSpPr/>
            <p:nvPr/>
          </p:nvGrpSpPr>
          <p:grpSpPr>
            <a:xfrm>
              <a:off x="833760" y="4594320"/>
              <a:ext cx="6814440" cy="2143800"/>
              <a:chOff x="833760" y="4594320"/>
              <a:chExt cx="6814440" cy="2143800"/>
            </a:xfrm>
          </p:grpSpPr>
          <p:grpSp>
            <p:nvGrpSpPr>
              <p:cNvPr id="2053" name="Group 57"/>
              <p:cNvGrpSpPr/>
              <p:nvPr/>
            </p:nvGrpSpPr>
            <p:grpSpPr>
              <a:xfrm>
                <a:off x="833760" y="4594320"/>
                <a:ext cx="6814440" cy="2143800"/>
                <a:chOff x="833760" y="4594320"/>
                <a:chExt cx="6814440" cy="2143800"/>
              </a:xfrm>
            </p:grpSpPr>
            <p:grpSp>
              <p:nvGrpSpPr>
                <p:cNvPr id="2054" name="Group 43"/>
                <p:cNvGrpSpPr/>
                <p:nvPr/>
              </p:nvGrpSpPr>
              <p:grpSpPr>
                <a:xfrm>
                  <a:off x="1612440" y="4877280"/>
                  <a:ext cx="6035760" cy="1434960"/>
                  <a:chOff x="1612440" y="4877280"/>
                  <a:chExt cx="6035760" cy="1434960"/>
                </a:xfrm>
              </p:grpSpPr>
              <p:sp>
                <p:nvSpPr>
                  <p:cNvPr id="2055" name="Freeform 33"/>
                  <p:cNvSpPr/>
                  <p:nvPr/>
                </p:nvSpPr>
                <p:spPr>
                  <a:xfrm>
                    <a:off x="1652040" y="4958280"/>
                    <a:ext cx="5794560" cy="1317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95682" h="1317812">
                        <a:moveTo>
                          <a:pt x="0" y="1317812"/>
                        </a:moveTo>
                        <a:cubicBezTo>
                          <a:pt x="254373" y="1285315"/>
                          <a:pt x="580593" y="1141784"/>
                          <a:pt x="817581" y="1025435"/>
                        </a:cubicBezTo>
                        <a:cubicBezTo>
                          <a:pt x="1054569" y="909086"/>
                          <a:pt x="1198072" y="731868"/>
                          <a:pt x="1421930" y="619717"/>
                        </a:cubicBezTo>
                        <a:cubicBezTo>
                          <a:pt x="1645788" y="507566"/>
                          <a:pt x="1919610" y="404673"/>
                          <a:pt x="2160728" y="352531"/>
                        </a:cubicBezTo>
                        <a:cubicBezTo>
                          <a:pt x="2401846" y="300389"/>
                          <a:pt x="2594590" y="348455"/>
                          <a:pt x="2868637" y="306868"/>
                        </a:cubicBezTo>
                        <a:cubicBezTo>
                          <a:pt x="3142684" y="265281"/>
                          <a:pt x="3317168" y="154154"/>
                          <a:pt x="3805009" y="103009"/>
                        </a:cubicBezTo>
                        <a:cubicBezTo>
                          <a:pt x="4292850" y="51864"/>
                          <a:pt x="5132124" y="34336"/>
                          <a:pt x="5795682" y="0"/>
                        </a:cubicBezTo>
                      </a:path>
                    </a:pathLst>
                  </a:custGeom>
                  <a:solidFill>
                    <a:srgbClr val="ffff00"/>
                  </a:solidFill>
                  <a:ln w="25560">
                    <a:solidFill>
                      <a:srgbClr val="385d8a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6" name="Straight Connector 34"/>
                  <p:cNvSpPr/>
                  <p:nvPr/>
                </p:nvSpPr>
                <p:spPr>
                  <a:xfrm>
                    <a:off x="5456520" y="5061600"/>
                    <a:ext cx="1990080" cy="123336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7" name="Isosceles Triangle 35"/>
                  <p:cNvSpPr/>
                  <p:nvPr/>
                </p:nvSpPr>
                <p:spPr>
                  <a:xfrm>
                    <a:off x="1612440" y="4988520"/>
                    <a:ext cx="5727960" cy="1317600"/>
                  </a:xfrm>
                  <a:prstGeom prst="triangle">
                    <a:avLst>
                      <a:gd name="adj" fmla="val 100000"/>
                    </a:avLst>
                  </a:pr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8" name="Rectangle 36"/>
                  <p:cNvSpPr/>
                  <p:nvPr/>
                </p:nvSpPr>
                <p:spPr>
                  <a:xfrm>
                    <a:off x="4724640" y="4877280"/>
                    <a:ext cx="2923560" cy="14349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9" name="Freeform 37"/>
                  <p:cNvSpPr/>
                  <p:nvPr/>
                </p:nvSpPr>
                <p:spPr>
                  <a:xfrm>
                    <a:off x="4712040" y="5123520"/>
                    <a:ext cx="267264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673658" h="108777">
                        <a:moveTo>
                          <a:pt x="0" y="107240"/>
                        </a:moveTo>
                        <a:cubicBezTo>
                          <a:pt x="297410" y="63706"/>
                          <a:pt x="688771" y="14516"/>
                          <a:pt x="996494" y="2780"/>
                        </a:cubicBezTo>
                        <a:cubicBezTo>
                          <a:pt x="1304217" y="-8956"/>
                          <a:pt x="1566811" y="19155"/>
                          <a:pt x="1846338" y="36821"/>
                        </a:cubicBezTo>
                        <a:lnTo>
                          <a:pt x="2673658" y="108777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0" name="Straight Connector 38"/>
                  <p:cNvSpPr/>
                  <p:nvPr/>
                </p:nvSpPr>
                <p:spPr>
                  <a:xfrm>
                    <a:off x="1652040" y="6304320"/>
                    <a:ext cx="5794560" cy="0"/>
                  </a:xfrm>
                  <a:prstGeom prst="line">
                    <a:avLst/>
                  </a:prstGeom>
                  <a:ln w="2232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61" name="Straight Connector 47"/>
                <p:cNvSpPr/>
                <p:nvPr/>
              </p:nvSpPr>
              <p:spPr>
                <a:xfrm>
                  <a:off x="833760" y="6314400"/>
                  <a:ext cx="2895480" cy="0"/>
                </a:xfrm>
                <a:prstGeom prst="line">
                  <a:avLst/>
                </a:prstGeom>
                <a:ln w="936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2" name="TextBox 52"/>
                <p:cNvSpPr/>
                <p:nvPr/>
              </p:nvSpPr>
              <p:spPr>
                <a:xfrm>
                  <a:off x="4419000" y="6369840"/>
                  <a:ext cx="644040" cy="368280"/>
                </a:xfrm>
                <a:prstGeom prst="rect">
                  <a:avLst/>
                </a:prstGeom>
                <a:solidFill>
                  <a:srgbClr val="ebf1de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201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3" name="Straight Connector 55"/>
                <p:cNvSpPr/>
                <p:nvPr/>
              </p:nvSpPr>
              <p:spPr>
                <a:xfrm>
                  <a:off x="851040" y="4594320"/>
                  <a:ext cx="4680" cy="1745640"/>
                </a:xfrm>
                <a:prstGeom prst="line">
                  <a:avLst/>
                </a:prstGeom>
                <a:ln w="936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64" name="Straight Connector 62"/>
              <p:cNvSpPr/>
              <p:nvPr/>
            </p:nvSpPr>
            <p:spPr>
              <a:xfrm>
                <a:off x="4741920" y="5005440"/>
                <a:ext cx="0" cy="12877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5" name="TextBox 66"/>
            <p:cNvSpPr/>
            <p:nvPr/>
          </p:nvSpPr>
          <p:spPr>
            <a:xfrm>
              <a:off x="7079760" y="6391440"/>
              <a:ext cx="644040" cy="368280"/>
            </a:xfrm>
            <a:prstGeom prst="rect">
              <a:avLst/>
            </a:prstGeom>
            <a:solidFill>
              <a:srgbClr val="ebf1de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20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TextBox 68"/>
            <p:cNvSpPr/>
            <p:nvPr/>
          </p:nvSpPr>
          <p:spPr>
            <a:xfrm>
              <a:off x="492840" y="6391440"/>
              <a:ext cx="644040" cy="368280"/>
            </a:xfrm>
            <a:prstGeom prst="rect">
              <a:avLst/>
            </a:prstGeom>
            <a:solidFill>
              <a:srgbClr val="ebf1de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7" name="Group 69"/>
          <p:cNvGrpSpPr/>
          <p:nvPr/>
        </p:nvGrpSpPr>
        <p:grpSpPr>
          <a:xfrm>
            <a:off x="542160" y="1036800"/>
            <a:ext cx="7181640" cy="2254320"/>
            <a:chOff x="542160" y="1036800"/>
            <a:chExt cx="7181640" cy="2254320"/>
          </a:xfrm>
        </p:grpSpPr>
        <p:grpSp>
          <p:nvGrpSpPr>
            <p:cNvPr id="2068" name="Group 39"/>
            <p:cNvGrpSpPr/>
            <p:nvPr/>
          </p:nvGrpSpPr>
          <p:grpSpPr>
            <a:xfrm>
              <a:off x="1626840" y="1353960"/>
              <a:ext cx="6036480" cy="1434240"/>
              <a:chOff x="1626840" y="1353960"/>
              <a:chExt cx="6036480" cy="1434240"/>
            </a:xfrm>
          </p:grpSpPr>
          <p:sp>
            <p:nvSpPr>
              <p:cNvPr id="2069" name="Freeform 3"/>
              <p:cNvSpPr/>
              <p:nvPr/>
            </p:nvSpPr>
            <p:spPr>
              <a:xfrm>
                <a:off x="1666440" y="1434960"/>
                <a:ext cx="5795280" cy="1316880"/>
              </a:xfrm>
              <a:custGeom>
                <a:avLst/>
                <a:gdLst/>
                <a:ahLst/>
                <a:rect l="l" t="t" r="r" b="b"/>
                <a:pathLst>
                  <a:path w="5795682" h="1317812">
                    <a:moveTo>
                      <a:pt x="0" y="1317812"/>
                    </a:moveTo>
                    <a:cubicBezTo>
                      <a:pt x="254373" y="1285315"/>
                      <a:pt x="443433" y="1252818"/>
                      <a:pt x="660827" y="1143000"/>
                    </a:cubicBezTo>
                    <a:cubicBezTo>
                      <a:pt x="878221" y="1033182"/>
                      <a:pt x="1015192" y="797182"/>
                      <a:pt x="1304364" y="658906"/>
                    </a:cubicBezTo>
                    <a:cubicBezTo>
                      <a:pt x="1593536" y="520630"/>
                      <a:pt x="1979086" y="405991"/>
                      <a:pt x="2395860" y="313342"/>
                    </a:cubicBezTo>
                    <a:cubicBezTo>
                      <a:pt x="2812634" y="220693"/>
                      <a:pt x="3238372" y="155233"/>
                      <a:pt x="3805009" y="103009"/>
                    </a:cubicBezTo>
                    <a:cubicBezTo>
                      <a:pt x="4371646" y="50785"/>
                      <a:pt x="5132124" y="34336"/>
                      <a:pt x="5795682" y="0"/>
                    </a:cubicBezTo>
                  </a:path>
                </a:pathLst>
              </a:custGeom>
              <a:solidFill>
                <a:srgbClr val="ffff00"/>
              </a:solidFill>
              <a:ln w="25560">
                <a:solidFill>
                  <a:srgbClr val="385d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Straight Connector 9"/>
              <p:cNvSpPr/>
              <p:nvPr/>
            </p:nvSpPr>
            <p:spPr>
              <a:xfrm>
                <a:off x="7461720" y="1434960"/>
                <a:ext cx="0" cy="13359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Isosceles Triangle 10"/>
              <p:cNvSpPr/>
              <p:nvPr/>
            </p:nvSpPr>
            <p:spPr>
              <a:xfrm>
                <a:off x="1626840" y="1464840"/>
                <a:ext cx="5728680" cy="1316880"/>
              </a:xfrm>
              <a:prstGeom prst="triangle">
                <a:avLst>
                  <a:gd name="adj" fmla="val 100000"/>
                </a:avLst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Rectangle 25"/>
              <p:cNvSpPr/>
              <p:nvPr/>
            </p:nvSpPr>
            <p:spPr>
              <a:xfrm>
                <a:off x="3395520" y="1353960"/>
                <a:ext cx="4267800" cy="143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Freeform 20"/>
              <p:cNvSpPr/>
              <p:nvPr/>
            </p:nvSpPr>
            <p:spPr>
              <a:xfrm>
                <a:off x="3381120" y="1434960"/>
                <a:ext cx="4031280" cy="493920"/>
              </a:xfrm>
              <a:custGeom>
                <a:avLst/>
                <a:gdLst/>
                <a:ahLst/>
                <a:rect l="l" t="t" r="r" b="b"/>
                <a:pathLst>
                  <a:path w="4032196" h="494852">
                    <a:moveTo>
                      <a:pt x="0" y="494852"/>
                    </a:moveTo>
                    <a:cubicBezTo>
                      <a:pt x="31536" y="477483"/>
                      <a:pt x="354169" y="388491"/>
                      <a:pt x="386506" y="372291"/>
                    </a:cubicBezTo>
                    <a:cubicBezTo>
                      <a:pt x="418843" y="356091"/>
                      <a:pt x="153042" y="407475"/>
                      <a:pt x="194020" y="397650"/>
                    </a:cubicBezTo>
                    <a:cubicBezTo>
                      <a:pt x="234998" y="387825"/>
                      <a:pt x="324457" y="362449"/>
                      <a:pt x="632374" y="313342"/>
                    </a:cubicBezTo>
                    <a:cubicBezTo>
                      <a:pt x="940291" y="264235"/>
                      <a:pt x="1474886" y="155233"/>
                      <a:pt x="2041523" y="103009"/>
                    </a:cubicBezTo>
                    <a:cubicBezTo>
                      <a:pt x="2608160" y="50785"/>
                      <a:pt x="3368638" y="34336"/>
                      <a:pt x="4032196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Straight Connector 26"/>
              <p:cNvSpPr/>
              <p:nvPr/>
            </p:nvSpPr>
            <p:spPr>
              <a:xfrm>
                <a:off x="1666440" y="2780280"/>
                <a:ext cx="5795280" cy="0"/>
              </a:xfrm>
              <a:prstGeom prst="line">
                <a:avLst/>
              </a:prstGeom>
              <a:ln w="2232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5" name="Straight Connector 41"/>
            <p:cNvSpPr/>
            <p:nvPr/>
          </p:nvSpPr>
          <p:spPr>
            <a:xfrm>
              <a:off x="833400" y="1036800"/>
              <a:ext cx="4680" cy="17463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Straight Connector 45"/>
            <p:cNvSpPr/>
            <p:nvPr/>
          </p:nvSpPr>
          <p:spPr>
            <a:xfrm>
              <a:off x="838080" y="2789280"/>
              <a:ext cx="289548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TextBox 48"/>
            <p:cNvSpPr/>
            <p:nvPr/>
          </p:nvSpPr>
          <p:spPr>
            <a:xfrm>
              <a:off x="542160" y="2895840"/>
              <a:ext cx="644040" cy="368280"/>
            </a:xfrm>
            <a:prstGeom prst="rect">
              <a:avLst/>
            </a:prstGeom>
            <a:solidFill>
              <a:srgbClr val="ebf1de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TextBox 49"/>
            <p:cNvSpPr/>
            <p:nvPr/>
          </p:nvSpPr>
          <p:spPr>
            <a:xfrm>
              <a:off x="3085200" y="2922840"/>
              <a:ext cx="644040" cy="368280"/>
            </a:xfrm>
            <a:prstGeom prst="rect">
              <a:avLst/>
            </a:prstGeom>
            <a:solidFill>
              <a:srgbClr val="ebf1de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20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Straight Connector 59"/>
            <p:cNvSpPr/>
            <p:nvPr/>
          </p:nvSpPr>
          <p:spPr>
            <a:xfrm>
              <a:off x="3378240" y="1465200"/>
              <a:ext cx="0" cy="12873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TextBox 64"/>
            <p:cNvSpPr/>
            <p:nvPr/>
          </p:nvSpPr>
          <p:spPr>
            <a:xfrm>
              <a:off x="7079760" y="2902320"/>
              <a:ext cx="644040" cy="368280"/>
            </a:xfrm>
            <a:prstGeom prst="rect">
              <a:avLst/>
            </a:prstGeom>
            <a:solidFill>
              <a:srgbClr val="ebf1de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20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1" name="Group 70"/>
          <p:cNvGrpSpPr/>
          <p:nvPr/>
        </p:nvGrpSpPr>
        <p:grpSpPr>
          <a:xfrm>
            <a:off x="511920" y="2814480"/>
            <a:ext cx="7211880" cy="2246760"/>
            <a:chOff x="511920" y="2814480"/>
            <a:chExt cx="7211880" cy="2246760"/>
          </a:xfrm>
        </p:grpSpPr>
        <p:grpSp>
          <p:nvGrpSpPr>
            <p:cNvPr id="2082" name="Group 61"/>
            <p:cNvGrpSpPr/>
            <p:nvPr/>
          </p:nvGrpSpPr>
          <p:grpSpPr>
            <a:xfrm>
              <a:off x="834120" y="2814480"/>
              <a:ext cx="6821640" cy="2245320"/>
              <a:chOff x="834120" y="2814480"/>
              <a:chExt cx="6821640" cy="2245320"/>
            </a:xfrm>
          </p:grpSpPr>
          <p:grpSp>
            <p:nvGrpSpPr>
              <p:cNvPr id="2083" name="Group 56"/>
              <p:cNvGrpSpPr/>
              <p:nvPr/>
            </p:nvGrpSpPr>
            <p:grpSpPr>
              <a:xfrm>
                <a:off x="834120" y="2814480"/>
                <a:ext cx="6821640" cy="2245320"/>
                <a:chOff x="834120" y="2814480"/>
                <a:chExt cx="6821640" cy="2245320"/>
              </a:xfrm>
            </p:grpSpPr>
            <p:sp>
              <p:nvSpPr>
                <p:cNvPr id="2084" name="Straight Connector 54"/>
                <p:cNvSpPr/>
                <p:nvPr/>
              </p:nvSpPr>
              <p:spPr>
                <a:xfrm>
                  <a:off x="842040" y="2814480"/>
                  <a:ext cx="4680" cy="1746720"/>
                </a:xfrm>
                <a:prstGeom prst="line">
                  <a:avLst/>
                </a:prstGeom>
                <a:ln w="936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85" name="Group 42"/>
                <p:cNvGrpSpPr/>
                <p:nvPr/>
              </p:nvGrpSpPr>
              <p:grpSpPr>
                <a:xfrm>
                  <a:off x="1619280" y="3154320"/>
                  <a:ext cx="6036480" cy="1435680"/>
                  <a:chOff x="1619280" y="3154320"/>
                  <a:chExt cx="6036480" cy="1435680"/>
                </a:xfrm>
              </p:grpSpPr>
              <p:sp>
                <p:nvSpPr>
                  <p:cNvPr id="2086" name="Freeform 27"/>
                  <p:cNvSpPr/>
                  <p:nvPr/>
                </p:nvSpPr>
                <p:spPr>
                  <a:xfrm>
                    <a:off x="1658880" y="3235320"/>
                    <a:ext cx="5795280" cy="1318320"/>
                  </a:xfrm>
                  <a:custGeom>
                    <a:avLst/>
                    <a:gdLst/>
                    <a:ahLst/>
                    <a:rect l="l" t="t" r="r" b="b"/>
                    <a:pathLst>
                      <a:path w="5795682" h="1317812">
                        <a:moveTo>
                          <a:pt x="0" y="1317812"/>
                        </a:moveTo>
                        <a:cubicBezTo>
                          <a:pt x="254373" y="1285315"/>
                          <a:pt x="421662" y="1235400"/>
                          <a:pt x="660827" y="1143000"/>
                        </a:cubicBezTo>
                        <a:cubicBezTo>
                          <a:pt x="899992" y="1050600"/>
                          <a:pt x="1145821" y="901685"/>
                          <a:pt x="1434993" y="763409"/>
                        </a:cubicBezTo>
                        <a:cubicBezTo>
                          <a:pt x="1724165" y="625133"/>
                          <a:pt x="2000857" y="423409"/>
                          <a:pt x="2395860" y="313342"/>
                        </a:cubicBezTo>
                        <a:cubicBezTo>
                          <a:pt x="2790863" y="203275"/>
                          <a:pt x="3238372" y="155233"/>
                          <a:pt x="3805009" y="103009"/>
                        </a:cubicBezTo>
                        <a:cubicBezTo>
                          <a:pt x="4371646" y="50785"/>
                          <a:pt x="5132124" y="34336"/>
                          <a:pt x="5795682" y="0"/>
                        </a:cubicBezTo>
                      </a:path>
                    </a:pathLst>
                  </a:custGeom>
                  <a:solidFill>
                    <a:srgbClr val="ffff00"/>
                  </a:solidFill>
                  <a:ln w="25560">
                    <a:solidFill>
                      <a:srgbClr val="385d8a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7" name="Straight Connector 28"/>
                  <p:cNvSpPr/>
                  <p:nvPr/>
                </p:nvSpPr>
                <p:spPr>
                  <a:xfrm>
                    <a:off x="7454160" y="3235320"/>
                    <a:ext cx="0" cy="133740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8" name="Isosceles Triangle 29"/>
                  <p:cNvSpPr/>
                  <p:nvPr/>
                </p:nvSpPr>
                <p:spPr>
                  <a:xfrm>
                    <a:off x="1619280" y="3265200"/>
                    <a:ext cx="5728680" cy="1318320"/>
                  </a:xfrm>
                  <a:prstGeom prst="triangle">
                    <a:avLst>
                      <a:gd name="adj" fmla="val 100000"/>
                    </a:avLst>
                  </a:pr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9" name="Rectangle 30"/>
                  <p:cNvSpPr/>
                  <p:nvPr/>
                </p:nvSpPr>
                <p:spPr>
                  <a:xfrm>
                    <a:off x="3936240" y="3154320"/>
                    <a:ext cx="3719520" cy="143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0" name="Freeform 31"/>
                  <p:cNvSpPr/>
                  <p:nvPr/>
                </p:nvSpPr>
                <p:spPr>
                  <a:xfrm>
                    <a:off x="3987000" y="3235320"/>
                    <a:ext cx="3660840" cy="311040"/>
                  </a:xfrm>
                  <a:custGeom>
                    <a:avLst/>
                    <a:gdLst/>
                    <a:ahLst/>
                    <a:rect l="l" t="t" r="r" b="b"/>
                    <a:pathLst>
                      <a:path w="3418241" h="311972">
                        <a:moveTo>
                          <a:pt x="0" y="311972"/>
                        </a:moveTo>
                        <a:cubicBezTo>
                          <a:pt x="40421" y="291722"/>
                          <a:pt x="321852" y="236534"/>
                          <a:pt x="559780" y="201707"/>
                        </a:cubicBezTo>
                        <a:cubicBezTo>
                          <a:pt x="797708" y="166880"/>
                          <a:pt x="951158" y="136627"/>
                          <a:pt x="1427568" y="103009"/>
                        </a:cubicBezTo>
                        <a:cubicBezTo>
                          <a:pt x="1903978" y="69391"/>
                          <a:pt x="2754683" y="34336"/>
                          <a:pt x="3418241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1" name="Straight Connector 32"/>
                  <p:cNvSpPr/>
                  <p:nvPr/>
                </p:nvSpPr>
                <p:spPr>
                  <a:xfrm>
                    <a:off x="1658880" y="4582080"/>
                    <a:ext cx="5795280" cy="0"/>
                  </a:xfrm>
                  <a:prstGeom prst="line">
                    <a:avLst/>
                  </a:prstGeom>
                  <a:ln w="2232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92" name="Straight Connector 46"/>
                <p:cNvSpPr/>
                <p:nvPr/>
              </p:nvSpPr>
              <p:spPr>
                <a:xfrm>
                  <a:off x="834120" y="4589640"/>
                  <a:ext cx="2894400" cy="0"/>
                </a:xfrm>
                <a:prstGeom prst="line">
                  <a:avLst/>
                </a:prstGeom>
                <a:ln w="936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3" name="TextBox 51"/>
                <p:cNvSpPr/>
                <p:nvPr/>
              </p:nvSpPr>
              <p:spPr>
                <a:xfrm>
                  <a:off x="3564360" y="4691520"/>
                  <a:ext cx="644040" cy="368280"/>
                </a:xfrm>
                <a:prstGeom prst="rect">
                  <a:avLst/>
                </a:prstGeom>
                <a:solidFill>
                  <a:srgbClr val="ebf1de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201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94" name="Straight Connector 60"/>
              <p:cNvSpPr/>
              <p:nvPr/>
            </p:nvSpPr>
            <p:spPr>
              <a:xfrm>
                <a:off x="3949560" y="3292200"/>
                <a:ext cx="0" cy="1289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5" name="TextBox 67"/>
            <p:cNvSpPr/>
            <p:nvPr/>
          </p:nvSpPr>
          <p:spPr>
            <a:xfrm>
              <a:off x="511920" y="4683240"/>
              <a:ext cx="644040" cy="368280"/>
            </a:xfrm>
            <a:prstGeom prst="rect">
              <a:avLst/>
            </a:prstGeom>
            <a:solidFill>
              <a:srgbClr val="ebf1de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TextBox 65"/>
            <p:cNvSpPr/>
            <p:nvPr/>
          </p:nvSpPr>
          <p:spPr>
            <a:xfrm>
              <a:off x="7079760" y="4692960"/>
              <a:ext cx="644040" cy="368280"/>
            </a:xfrm>
            <a:prstGeom prst="rect">
              <a:avLst/>
            </a:prstGeom>
            <a:solidFill>
              <a:srgbClr val="ebf1de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20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7" name="TextBox 72"/>
          <p:cNvSpPr/>
          <p:nvPr/>
        </p:nvSpPr>
        <p:spPr>
          <a:xfrm>
            <a:off x="1102680" y="343080"/>
            <a:ext cx="734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nual Evaluation of Past and Projected Imp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TextBox 73"/>
          <p:cNvSpPr/>
          <p:nvPr/>
        </p:nvSpPr>
        <p:spPr>
          <a:xfrm>
            <a:off x="838080" y="1036800"/>
            <a:ext cx="17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crease in productivity or reve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v. Daily Temperature</a:t>
            </a:r>
            <a:br>
              <a:rPr sz="44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mean 1960-2000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0" name="Content Placeholder 8" descr="temperature.png"/>
          <p:cNvPicPr/>
          <p:nvPr/>
        </p:nvPicPr>
        <p:blipFill>
          <a:blip r:embed="rId1"/>
          <a:stretch/>
        </p:blipFill>
        <p:spPr>
          <a:xfrm>
            <a:off x="743040" y="1600200"/>
            <a:ext cx="7657920" cy="4525920"/>
          </a:xfrm>
          <a:prstGeom prst="rect">
            <a:avLst/>
          </a:prstGeom>
          <a:ln w="0">
            <a:noFill/>
          </a:ln>
        </p:spPr>
      </p:pic>
      <p:grpSp>
        <p:nvGrpSpPr>
          <p:cNvPr id="2101" name="Group 3"/>
          <p:cNvGrpSpPr/>
          <p:nvPr/>
        </p:nvGrpSpPr>
        <p:grpSpPr>
          <a:xfrm>
            <a:off x="304920" y="1600200"/>
            <a:ext cx="8305560" cy="4800600"/>
            <a:chOff x="304920" y="1600200"/>
            <a:chExt cx="8305560" cy="4800600"/>
          </a:xfrm>
        </p:grpSpPr>
        <p:grpSp>
          <p:nvGrpSpPr>
            <p:cNvPr id="2102" name="Group 11"/>
            <p:cNvGrpSpPr/>
            <p:nvPr/>
          </p:nvGrpSpPr>
          <p:grpSpPr>
            <a:xfrm>
              <a:off x="304920" y="1600200"/>
              <a:ext cx="8305560" cy="4757400"/>
              <a:chOff x="304920" y="1600200"/>
              <a:chExt cx="8305560" cy="4757400"/>
            </a:xfrm>
          </p:grpSpPr>
          <p:sp>
            <p:nvSpPr>
              <p:cNvPr id="2103" name="TextBox 6"/>
              <p:cNvSpPr/>
              <p:nvPr/>
            </p:nvSpPr>
            <p:spPr>
              <a:xfrm>
                <a:off x="304920" y="1600200"/>
                <a:ext cx="8305560" cy="4757400"/>
              </a:xfrm>
              <a:prstGeom prst="rect">
                <a:avLst/>
              </a:prstGeom>
              <a:noFill/>
              <a:ln w="9360">
                <a:solidFill>
                  <a:srgbClr val="0d0d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04" name="Straight Connector 6"/>
              <p:cNvCxnSpPr>
                <a:stCxn id="2103" idx="0"/>
              </p:cNvCxnSpPr>
              <p:nvPr/>
            </p:nvCxnSpPr>
            <p:spPr>
              <a:xfrm>
                <a:off x="4456800" y="1600200"/>
                <a:ext cx="495720" cy="3201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105" name="Straight Connector 5"/>
            <p:cNvSpPr/>
            <p:nvPr/>
          </p:nvSpPr>
          <p:spPr>
            <a:xfrm flipH="1">
              <a:off x="4457520" y="4800600"/>
              <a:ext cx="495000" cy="1600200"/>
            </a:xfrm>
            <a:prstGeom prst="line">
              <a:avLst/>
            </a:prstGeom>
            <a:ln w="9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6" name="TextBox 9"/>
          <p:cNvSpPr/>
          <p:nvPr/>
        </p:nvSpPr>
        <p:spPr>
          <a:xfrm>
            <a:off x="5613840" y="1674720"/>
            <a:ext cx="16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thern Gh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TextBox 10"/>
          <p:cNvSpPr/>
          <p:nvPr/>
        </p:nvSpPr>
        <p:spPr>
          <a:xfrm>
            <a:off x="1456920" y="166212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thern M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TextBox 2"/>
          <p:cNvSpPr/>
          <p:nvPr/>
        </p:nvSpPr>
        <p:spPr>
          <a:xfrm>
            <a:off x="321840" y="6477120"/>
            <a:ext cx="16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ldClim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infall</a:t>
            </a:r>
            <a:br>
              <a:rPr sz="44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mean 1960-2000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0" name="Content Placeholder 8" descr="prep.png"/>
          <p:cNvPicPr/>
          <p:nvPr/>
        </p:nvPicPr>
        <p:blipFill>
          <a:blip r:embed="rId1"/>
          <a:stretch/>
        </p:blipFill>
        <p:spPr>
          <a:xfrm>
            <a:off x="743040" y="1600200"/>
            <a:ext cx="7657920" cy="4525920"/>
          </a:xfrm>
          <a:prstGeom prst="rect">
            <a:avLst/>
          </a:prstGeom>
          <a:ln w="0">
            <a:noFill/>
          </a:ln>
        </p:spPr>
      </p:pic>
      <p:grpSp>
        <p:nvGrpSpPr>
          <p:cNvPr id="2111" name="Group 3"/>
          <p:cNvGrpSpPr/>
          <p:nvPr/>
        </p:nvGrpSpPr>
        <p:grpSpPr>
          <a:xfrm>
            <a:off x="304920" y="1600200"/>
            <a:ext cx="8305560" cy="4800600"/>
            <a:chOff x="304920" y="1600200"/>
            <a:chExt cx="8305560" cy="4800600"/>
          </a:xfrm>
        </p:grpSpPr>
        <p:grpSp>
          <p:nvGrpSpPr>
            <p:cNvPr id="2112" name="Group 11"/>
            <p:cNvGrpSpPr/>
            <p:nvPr/>
          </p:nvGrpSpPr>
          <p:grpSpPr>
            <a:xfrm>
              <a:off x="304920" y="1600200"/>
              <a:ext cx="8305560" cy="4757400"/>
              <a:chOff x="304920" y="1600200"/>
              <a:chExt cx="8305560" cy="4757400"/>
            </a:xfrm>
          </p:grpSpPr>
          <p:sp>
            <p:nvSpPr>
              <p:cNvPr id="2113" name="TextBox 6"/>
              <p:cNvSpPr/>
              <p:nvPr/>
            </p:nvSpPr>
            <p:spPr>
              <a:xfrm>
                <a:off x="304920" y="1600200"/>
                <a:ext cx="8305560" cy="4757400"/>
              </a:xfrm>
              <a:prstGeom prst="rect">
                <a:avLst/>
              </a:prstGeom>
              <a:noFill/>
              <a:ln w="9360">
                <a:solidFill>
                  <a:srgbClr val="0d0d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14" name="Straight Connector 6"/>
              <p:cNvCxnSpPr>
                <a:stCxn id="2113" idx="0"/>
              </p:cNvCxnSpPr>
              <p:nvPr/>
            </p:nvCxnSpPr>
            <p:spPr>
              <a:xfrm>
                <a:off x="4456800" y="1600200"/>
                <a:ext cx="495720" cy="3201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115" name="Straight Connector 5"/>
            <p:cNvSpPr/>
            <p:nvPr/>
          </p:nvSpPr>
          <p:spPr>
            <a:xfrm flipH="1">
              <a:off x="4457520" y="4800600"/>
              <a:ext cx="495000" cy="1600200"/>
            </a:xfrm>
            <a:prstGeom prst="line">
              <a:avLst/>
            </a:prstGeom>
            <a:ln w="9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6" name="TextBox 9"/>
          <p:cNvSpPr/>
          <p:nvPr/>
        </p:nvSpPr>
        <p:spPr>
          <a:xfrm>
            <a:off x="5613840" y="1674720"/>
            <a:ext cx="16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thern Gh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TextBox 10"/>
          <p:cNvSpPr/>
          <p:nvPr/>
        </p:nvSpPr>
        <p:spPr>
          <a:xfrm>
            <a:off x="1456920" y="166212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thern M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TextBox 11"/>
          <p:cNvSpPr/>
          <p:nvPr/>
        </p:nvSpPr>
        <p:spPr>
          <a:xfrm>
            <a:off x="321840" y="6477120"/>
            <a:ext cx="16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ldClim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DVI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mean 2001-201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0" name="Content Placeholder 8" descr="NDVI.png"/>
          <p:cNvPicPr/>
          <p:nvPr/>
        </p:nvPicPr>
        <p:blipFill>
          <a:blip r:embed="rId1"/>
          <a:stretch/>
        </p:blipFill>
        <p:spPr>
          <a:xfrm>
            <a:off x="743040" y="1600200"/>
            <a:ext cx="7657920" cy="4525920"/>
          </a:xfrm>
          <a:prstGeom prst="rect">
            <a:avLst/>
          </a:prstGeom>
          <a:ln w="0">
            <a:noFill/>
          </a:ln>
        </p:spPr>
      </p:pic>
      <p:grpSp>
        <p:nvGrpSpPr>
          <p:cNvPr id="2121" name="Group 3"/>
          <p:cNvGrpSpPr/>
          <p:nvPr/>
        </p:nvGrpSpPr>
        <p:grpSpPr>
          <a:xfrm>
            <a:off x="304920" y="1600200"/>
            <a:ext cx="8305560" cy="4800600"/>
            <a:chOff x="304920" y="1600200"/>
            <a:chExt cx="8305560" cy="4800600"/>
          </a:xfrm>
        </p:grpSpPr>
        <p:grpSp>
          <p:nvGrpSpPr>
            <p:cNvPr id="2122" name="Group 11"/>
            <p:cNvGrpSpPr/>
            <p:nvPr/>
          </p:nvGrpSpPr>
          <p:grpSpPr>
            <a:xfrm>
              <a:off x="304920" y="1600200"/>
              <a:ext cx="8305560" cy="4757400"/>
              <a:chOff x="304920" y="1600200"/>
              <a:chExt cx="8305560" cy="4757400"/>
            </a:xfrm>
          </p:grpSpPr>
          <p:sp>
            <p:nvSpPr>
              <p:cNvPr id="2123" name="TextBox 6"/>
              <p:cNvSpPr/>
              <p:nvPr/>
            </p:nvSpPr>
            <p:spPr>
              <a:xfrm>
                <a:off x="304920" y="1600200"/>
                <a:ext cx="8305560" cy="4757400"/>
              </a:xfrm>
              <a:prstGeom prst="rect">
                <a:avLst/>
              </a:prstGeom>
              <a:noFill/>
              <a:ln w="9360">
                <a:solidFill>
                  <a:srgbClr val="0d0d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24" name="Straight Connector 6"/>
              <p:cNvCxnSpPr>
                <a:stCxn id="2123" idx="0"/>
              </p:cNvCxnSpPr>
              <p:nvPr/>
            </p:nvCxnSpPr>
            <p:spPr>
              <a:xfrm>
                <a:off x="4456800" y="1600200"/>
                <a:ext cx="495720" cy="3201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125" name="Straight Connector 5"/>
            <p:cNvSpPr/>
            <p:nvPr/>
          </p:nvSpPr>
          <p:spPr>
            <a:xfrm flipH="1">
              <a:off x="4457520" y="4800600"/>
              <a:ext cx="495000" cy="1600200"/>
            </a:xfrm>
            <a:prstGeom prst="line">
              <a:avLst/>
            </a:prstGeom>
            <a:ln w="9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6" name="TextBox 9"/>
          <p:cNvSpPr/>
          <p:nvPr/>
        </p:nvSpPr>
        <p:spPr>
          <a:xfrm>
            <a:off x="5613840" y="1674720"/>
            <a:ext cx="16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thern Gh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TextBox 10"/>
          <p:cNvSpPr/>
          <p:nvPr/>
        </p:nvSpPr>
        <p:spPr>
          <a:xfrm>
            <a:off x="1456920" y="166212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thern M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DVI Varia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9" name="Content Placeholder 8" descr="NDVI_std.png"/>
          <p:cNvPicPr/>
          <p:nvPr/>
        </p:nvPicPr>
        <p:blipFill>
          <a:blip r:embed="rId1"/>
          <a:stretch/>
        </p:blipFill>
        <p:spPr>
          <a:xfrm>
            <a:off x="743040" y="1600200"/>
            <a:ext cx="7657920" cy="4525920"/>
          </a:xfrm>
          <a:prstGeom prst="rect">
            <a:avLst/>
          </a:prstGeom>
          <a:ln w="0">
            <a:noFill/>
          </a:ln>
        </p:spPr>
      </p:pic>
      <p:grpSp>
        <p:nvGrpSpPr>
          <p:cNvPr id="2130" name="Group 3"/>
          <p:cNvGrpSpPr/>
          <p:nvPr/>
        </p:nvGrpSpPr>
        <p:grpSpPr>
          <a:xfrm>
            <a:off x="304920" y="1600200"/>
            <a:ext cx="8305560" cy="4800600"/>
            <a:chOff x="304920" y="1600200"/>
            <a:chExt cx="8305560" cy="4800600"/>
          </a:xfrm>
        </p:grpSpPr>
        <p:grpSp>
          <p:nvGrpSpPr>
            <p:cNvPr id="2131" name="Group 11"/>
            <p:cNvGrpSpPr/>
            <p:nvPr/>
          </p:nvGrpSpPr>
          <p:grpSpPr>
            <a:xfrm>
              <a:off x="304920" y="1600200"/>
              <a:ext cx="8305560" cy="4757400"/>
              <a:chOff x="304920" y="1600200"/>
              <a:chExt cx="8305560" cy="4757400"/>
            </a:xfrm>
          </p:grpSpPr>
          <p:sp>
            <p:nvSpPr>
              <p:cNvPr id="2132" name="TextBox 6"/>
              <p:cNvSpPr/>
              <p:nvPr/>
            </p:nvSpPr>
            <p:spPr>
              <a:xfrm>
                <a:off x="304920" y="1600200"/>
                <a:ext cx="8305560" cy="4757400"/>
              </a:xfrm>
              <a:prstGeom prst="rect">
                <a:avLst/>
              </a:prstGeom>
              <a:noFill/>
              <a:ln w="9360">
                <a:solidFill>
                  <a:srgbClr val="0d0d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33" name="Straight Connector 6"/>
              <p:cNvCxnSpPr>
                <a:stCxn id="2132" idx="0"/>
              </p:cNvCxnSpPr>
              <p:nvPr/>
            </p:nvCxnSpPr>
            <p:spPr>
              <a:xfrm>
                <a:off x="4456800" y="1600200"/>
                <a:ext cx="495720" cy="3201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134" name="Straight Connector 5"/>
            <p:cNvSpPr/>
            <p:nvPr/>
          </p:nvSpPr>
          <p:spPr>
            <a:xfrm flipH="1">
              <a:off x="4457520" y="4800600"/>
              <a:ext cx="495000" cy="1600200"/>
            </a:xfrm>
            <a:prstGeom prst="line">
              <a:avLst/>
            </a:prstGeom>
            <a:ln w="9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5" name="TextBox 9"/>
          <p:cNvSpPr/>
          <p:nvPr/>
        </p:nvSpPr>
        <p:spPr>
          <a:xfrm>
            <a:off x="5613840" y="1674720"/>
            <a:ext cx="16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thern Gh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TextBox 10"/>
          <p:cNvSpPr/>
          <p:nvPr/>
        </p:nvSpPr>
        <p:spPr>
          <a:xfrm>
            <a:off x="1456920" y="166212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thern M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pulation Density (2005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8" name="Content Placeholder 8" descr="popden_africover.png"/>
          <p:cNvPicPr/>
          <p:nvPr/>
        </p:nvPicPr>
        <p:blipFill>
          <a:blip r:embed="rId1"/>
          <a:stretch/>
        </p:blipFill>
        <p:spPr>
          <a:xfrm>
            <a:off x="743040" y="1600200"/>
            <a:ext cx="7657920" cy="4525920"/>
          </a:xfrm>
          <a:prstGeom prst="rect">
            <a:avLst/>
          </a:prstGeom>
          <a:ln w="0">
            <a:noFill/>
          </a:ln>
        </p:spPr>
      </p:pic>
      <p:grpSp>
        <p:nvGrpSpPr>
          <p:cNvPr id="2139" name="Group 3"/>
          <p:cNvGrpSpPr/>
          <p:nvPr/>
        </p:nvGrpSpPr>
        <p:grpSpPr>
          <a:xfrm>
            <a:off x="304920" y="1600200"/>
            <a:ext cx="8305560" cy="4800600"/>
            <a:chOff x="304920" y="1600200"/>
            <a:chExt cx="8305560" cy="4800600"/>
          </a:xfrm>
        </p:grpSpPr>
        <p:grpSp>
          <p:nvGrpSpPr>
            <p:cNvPr id="2140" name="Group 11"/>
            <p:cNvGrpSpPr/>
            <p:nvPr/>
          </p:nvGrpSpPr>
          <p:grpSpPr>
            <a:xfrm>
              <a:off x="304920" y="1600200"/>
              <a:ext cx="8305560" cy="4757400"/>
              <a:chOff x="304920" y="1600200"/>
              <a:chExt cx="8305560" cy="4757400"/>
            </a:xfrm>
          </p:grpSpPr>
          <p:sp>
            <p:nvSpPr>
              <p:cNvPr id="2141" name="TextBox 6"/>
              <p:cNvSpPr/>
              <p:nvPr/>
            </p:nvSpPr>
            <p:spPr>
              <a:xfrm>
                <a:off x="304920" y="1600200"/>
                <a:ext cx="8305560" cy="4757400"/>
              </a:xfrm>
              <a:prstGeom prst="rect">
                <a:avLst/>
              </a:prstGeom>
              <a:noFill/>
              <a:ln w="9360">
                <a:solidFill>
                  <a:srgbClr val="0d0d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42" name="Straight Connector 6"/>
              <p:cNvCxnSpPr>
                <a:stCxn id="2141" idx="0"/>
              </p:cNvCxnSpPr>
              <p:nvPr/>
            </p:nvCxnSpPr>
            <p:spPr>
              <a:xfrm>
                <a:off x="4456800" y="1600200"/>
                <a:ext cx="495720" cy="3201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143" name="Straight Connector 5"/>
            <p:cNvSpPr/>
            <p:nvPr/>
          </p:nvSpPr>
          <p:spPr>
            <a:xfrm flipH="1">
              <a:off x="4457520" y="4800600"/>
              <a:ext cx="495000" cy="1600200"/>
            </a:xfrm>
            <a:prstGeom prst="line">
              <a:avLst/>
            </a:prstGeom>
            <a:ln w="9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4" name="TextBox 9"/>
          <p:cNvSpPr/>
          <p:nvPr/>
        </p:nvSpPr>
        <p:spPr>
          <a:xfrm>
            <a:off x="5613840" y="1674720"/>
            <a:ext cx="16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thern Gh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TextBox 10"/>
          <p:cNvSpPr/>
          <p:nvPr/>
        </p:nvSpPr>
        <p:spPr>
          <a:xfrm>
            <a:off x="1456920" y="166212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thern M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TextBox 2"/>
          <p:cNvSpPr/>
          <p:nvPr/>
        </p:nvSpPr>
        <p:spPr>
          <a:xfrm>
            <a:off x="464040" y="644040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friPop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avel Time to Towns &gt;50K Popul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8" name="Content Placeholder 13" descr="traveltime.png"/>
          <p:cNvPicPr/>
          <p:nvPr/>
        </p:nvPicPr>
        <p:blipFill>
          <a:blip r:embed="rId1"/>
          <a:stretch/>
        </p:blipFill>
        <p:spPr>
          <a:xfrm>
            <a:off x="743040" y="1600200"/>
            <a:ext cx="7657920" cy="4525920"/>
          </a:xfrm>
          <a:prstGeom prst="rect">
            <a:avLst/>
          </a:prstGeom>
          <a:ln w="0">
            <a:noFill/>
          </a:ln>
        </p:spPr>
      </p:pic>
      <p:grpSp>
        <p:nvGrpSpPr>
          <p:cNvPr id="2149" name="Group 3"/>
          <p:cNvGrpSpPr/>
          <p:nvPr/>
        </p:nvGrpSpPr>
        <p:grpSpPr>
          <a:xfrm>
            <a:off x="304920" y="1600200"/>
            <a:ext cx="8305560" cy="4800600"/>
            <a:chOff x="304920" y="1600200"/>
            <a:chExt cx="8305560" cy="4800600"/>
          </a:xfrm>
        </p:grpSpPr>
        <p:grpSp>
          <p:nvGrpSpPr>
            <p:cNvPr id="2150" name="Group 11"/>
            <p:cNvGrpSpPr/>
            <p:nvPr/>
          </p:nvGrpSpPr>
          <p:grpSpPr>
            <a:xfrm>
              <a:off x="304920" y="1600200"/>
              <a:ext cx="8305560" cy="4757400"/>
              <a:chOff x="304920" y="1600200"/>
              <a:chExt cx="8305560" cy="4757400"/>
            </a:xfrm>
          </p:grpSpPr>
          <p:sp>
            <p:nvSpPr>
              <p:cNvPr id="2151" name="TextBox 6"/>
              <p:cNvSpPr/>
              <p:nvPr/>
            </p:nvSpPr>
            <p:spPr>
              <a:xfrm>
                <a:off x="304920" y="1600200"/>
                <a:ext cx="8305560" cy="4757400"/>
              </a:xfrm>
              <a:prstGeom prst="rect">
                <a:avLst/>
              </a:prstGeom>
              <a:noFill/>
              <a:ln w="9360">
                <a:solidFill>
                  <a:srgbClr val="0d0d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52" name="Straight Connector 6"/>
              <p:cNvCxnSpPr>
                <a:stCxn id="2151" idx="0"/>
              </p:cNvCxnSpPr>
              <p:nvPr/>
            </p:nvCxnSpPr>
            <p:spPr>
              <a:xfrm>
                <a:off x="4456800" y="1600200"/>
                <a:ext cx="495720" cy="3201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153" name="Straight Connector 5"/>
            <p:cNvSpPr/>
            <p:nvPr/>
          </p:nvSpPr>
          <p:spPr>
            <a:xfrm flipH="1">
              <a:off x="4457520" y="4800600"/>
              <a:ext cx="495000" cy="1600200"/>
            </a:xfrm>
            <a:prstGeom prst="line">
              <a:avLst/>
            </a:prstGeom>
            <a:ln w="9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4" name="TextBox 8"/>
          <p:cNvSpPr/>
          <p:nvPr/>
        </p:nvSpPr>
        <p:spPr>
          <a:xfrm>
            <a:off x="5613840" y="1674720"/>
            <a:ext cx="16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thern Gh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TextBox 9"/>
          <p:cNvSpPr/>
          <p:nvPr/>
        </p:nvSpPr>
        <p:spPr>
          <a:xfrm>
            <a:off x="1456920" y="166212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thern M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TextBox 2"/>
          <p:cNvSpPr/>
          <p:nvPr/>
        </p:nvSpPr>
        <p:spPr>
          <a:xfrm>
            <a:off x="302760" y="647532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rvestChoic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"/>
          <p:cNvSpPr txBox="1"/>
          <p:nvPr/>
        </p:nvSpPr>
        <p:spPr>
          <a:xfrm>
            <a:off x="761760" y="1371600"/>
            <a:ext cx="8359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oad M&amp;E Guiding Princi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ap on SI Program Targ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itoring and Reporting Scal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aluation Approach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te Sel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&amp;E Data and Analysis Platfo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sues/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opland Intensity (2005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8" name="Content Placeholder 14" descr="Cropland density.png"/>
          <p:cNvPicPr/>
          <p:nvPr/>
        </p:nvPicPr>
        <p:blipFill>
          <a:blip r:embed="rId1"/>
          <a:stretch/>
        </p:blipFill>
        <p:spPr>
          <a:xfrm>
            <a:off x="743040" y="1600200"/>
            <a:ext cx="7657920" cy="4525920"/>
          </a:xfrm>
          <a:prstGeom prst="rect">
            <a:avLst/>
          </a:prstGeom>
          <a:ln w="0">
            <a:noFill/>
          </a:ln>
        </p:spPr>
      </p:pic>
      <p:grpSp>
        <p:nvGrpSpPr>
          <p:cNvPr id="2159" name="Group 12"/>
          <p:cNvGrpSpPr/>
          <p:nvPr/>
        </p:nvGrpSpPr>
        <p:grpSpPr>
          <a:xfrm>
            <a:off x="304920" y="1600200"/>
            <a:ext cx="8305560" cy="4800600"/>
            <a:chOff x="304920" y="1600200"/>
            <a:chExt cx="8305560" cy="4800600"/>
          </a:xfrm>
        </p:grpSpPr>
        <p:grpSp>
          <p:nvGrpSpPr>
            <p:cNvPr id="2160" name="Group 11"/>
            <p:cNvGrpSpPr/>
            <p:nvPr/>
          </p:nvGrpSpPr>
          <p:grpSpPr>
            <a:xfrm>
              <a:off x="304920" y="1600200"/>
              <a:ext cx="8305560" cy="4757400"/>
              <a:chOff x="304920" y="1600200"/>
              <a:chExt cx="8305560" cy="4757400"/>
            </a:xfrm>
          </p:grpSpPr>
          <p:sp>
            <p:nvSpPr>
              <p:cNvPr id="2161" name="TextBox 4"/>
              <p:cNvSpPr/>
              <p:nvPr/>
            </p:nvSpPr>
            <p:spPr>
              <a:xfrm>
                <a:off x="304920" y="1600200"/>
                <a:ext cx="8305560" cy="4757400"/>
              </a:xfrm>
              <a:prstGeom prst="rect">
                <a:avLst/>
              </a:prstGeom>
              <a:noFill/>
              <a:ln w="9360">
                <a:solidFill>
                  <a:srgbClr val="0d0d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62" name="Straight Connector 6"/>
              <p:cNvCxnSpPr>
                <a:stCxn id="2161" idx="0"/>
              </p:cNvCxnSpPr>
              <p:nvPr/>
            </p:nvCxnSpPr>
            <p:spPr>
              <a:xfrm>
                <a:off x="4456800" y="1600200"/>
                <a:ext cx="495720" cy="3201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163" name="Straight Connector 10"/>
            <p:cNvSpPr/>
            <p:nvPr/>
          </p:nvSpPr>
          <p:spPr>
            <a:xfrm flipH="1">
              <a:off x="4457520" y="4800600"/>
              <a:ext cx="495000" cy="1600200"/>
            </a:xfrm>
            <a:prstGeom prst="line">
              <a:avLst/>
            </a:prstGeom>
            <a:ln w="9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4" name="TextBox 2"/>
          <p:cNvSpPr/>
          <p:nvPr/>
        </p:nvSpPr>
        <p:spPr>
          <a:xfrm>
            <a:off x="5613840" y="1674720"/>
            <a:ext cx="16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thern Gh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TextBox 9"/>
          <p:cNvSpPr/>
          <p:nvPr/>
        </p:nvSpPr>
        <p:spPr>
          <a:xfrm>
            <a:off x="1456920" y="166212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thern M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TextBox 3"/>
          <p:cNvSpPr/>
          <p:nvPr/>
        </p:nvSpPr>
        <p:spPr>
          <a:xfrm>
            <a:off x="334080" y="6456240"/>
            <a:ext cx="22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mankutty et al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usehold Enterprise Cho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8" name="Picture 4" descr="maize.png"/>
          <p:cNvPicPr/>
          <p:nvPr/>
        </p:nvPicPr>
        <p:blipFill>
          <a:blip r:embed="rId1"/>
          <a:stretch/>
        </p:blipFill>
        <p:spPr>
          <a:xfrm>
            <a:off x="1231920" y="1676520"/>
            <a:ext cx="2825640" cy="3657600"/>
          </a:xfrm>
          <a:prstGeom prst="rect">
            <a:avLst/>
          </a:prstGeom>
          <a:ln w="0">
            <a:noFill/>
          </a:ln>
        </p:spPr>
      </p:pic>
      <p:pic>
        <p:nvPicPr>
          <p:cNvPr id="2169" name="Picture 5" descr="rice.png"/>
          <p:cNvPicPr/>
          <p:nvPr/>
        </p:nvPicPr>
        <p:blipFill>
          <a:blip r:embed="rId2"/>
          <a:stretch/>
        </p:blipFill>
        <p:spPr>
          <a:xfrm>
            <a:off x="3998880" y="1676520"/>
            <a:ext cx="2616120" cy="3657600"/>
          </a:xfrm>
          <a:prstGeom prst="rect">
            <a:avLst/>
          </a:prstGeom>
          <a:ln w="0">
            <a:noFill/>
          </a:ln>
        </p:spPr>
      </p:pic>
      <p:pic>
        <p:nvPicPr>
          <p:cNvPr id="2170" name="Picture 2" descr=""/>
          <p:cNvPicPr/>
          <p:nvPr/>
        </p:nvPicPr>
        <p:blipFill>
          <a:blip r:embed="rId3"/>
          <a:srcRect l="0" t="8532" r="0" b="0"/>
          <a:stretch/>
        </p:blipFill>
        <p:spPr>
          <a:xfrm>
            <a:off x="-457200" y="2362320"/>
            <a:ext cx="2400480" cy="2361960"/>
          </a:xfrm>
          <a:prstGeom prst="rect">
            <a:avLst/>
          </a:prstGeom>
          <a:ln w="0">
            <a:noFill/>
          </a:ln>
        </p:spPr>
      </p:pic>
      <p:pic>
        <p:nvPicPr>
          <p:cNvPr id="2171" name="Picture 3" descr="sorghum.png"/>
          <p:cNvPicPr/>
          <p:nvPr/>
        </p:nvPicPr>
        <p:blipFill>
          <a:blip r:embed="rId4"/>
          <a:stretch/>
        </p:blipFill>
        <p:spPr>
          <a:xfrm>
            <a:off x="6602400" y="1676520"/>
            <a:ext cx="2541600" cy="3657600"/>
          </a:xfrm>
          <a:prstGeom prst="rect">
            <a:avLst/>
          </a:prstGeom>
          <a:ln w="0">
            <a:noFill/>
          </a:ln>
        </p:spPr>
      </p:pic>
      <p:sp>
        <p:nvSpPr>
          <p:cNvPr id="2172" name="TextBox 7"/>
          <p:cNvSpPr/>
          <p:nvPr/>
        </p:nvSpPr>
        <p:spPr>
          <a:xfrm>
            <a:off x="1646280" y="54100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ize Producing Househo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TextBox 8"/>
          <p:cNvSpPr/>
          <p:nvPr/>
        </p:nvSpPr>
        <p:spPr>
          <a:xfrm>
            <a:off x="4273560" y="542124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ice Producing Househo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TextBox 9"/>
          <p:cNvSpPr/>
          <p:nvPr/>
        </p:nvSpPr>
        <p:spPr>
          <a:xfrm>
            <a:off x="6602400" y="5410080"/>
            <a:ext cx="22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rghum Producing Househo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TextBox 2"/>
          <p:cNvSpPr/>
          <p:nvPr/>
        </p:nvSpPr>
        <p:spPr>
          <a:xfrm>
            <a:off x="205920" y="1859040"/>
            <a:ext cx="117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roportion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Househol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TextBox 6"/>
          <p:cNvSpPr/>
          <p:nvPr/>
        </p:nvSpPr>
        <p:spPr>
          <a:xfrm>
            <a:off x="196200" y="6488280"/>
            <a:ext cx="71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rce:  HarvestChoice 2011 based on Ghana Living Standards Survey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7" name="Content Placeholder 3" descr="cattlepng.png"/>
          <p:cNvPicPr/>
          <p:nvPr/>
        </p:nvPicPr>
        <p:blipFill>
          <a:blip r:embed="rId1"/>
          <a:stretch/>
        </p:blipFill>
        <p:spPr>
          <a:xfrm>
            <a:off x="3124080" y="2057400"/>
            <a:ext cx="2826000" cy="3657600"/>
          </a:xfrm>
          <a:prstGeom prst="rect">
            <a:avLst/>
          </a:prstGeom>
          <a:ln w="0">
            <a:noFill/>
          </a:ln>
        </p:spPr>
      </p:pic>
      <p:pic>
        <p:nvPicPr>
          <p:cNvPr id="2178" name="Picture 2" descr=""/>
          <p:cNvPicPr/>
          <p:nvPr/>
        </p:nvPicPr>
        <p:blipFill>
          <a:blip r:embed="rId2"/>
          <a:srcRect l="20613" t="14233" r="20409" b="0"/>
          <a:stretch/>
        </p:blipFill>
        <p:spPr>
          <a:xfrm>
            <a:off x="380880" y="2819520"/>
            <a:ext cx="2311560" cy="1569960"/>
          </a:xfrm>
          <a:prstGeom prst="rect">
            <a:avLst/>
          </a:prstGeom>
          <a:ln w="0">
            <a:noFill/>
          </a:ln>
        </p:spPr>
      </p:pic>
      <p:sp>
        <p:nvSpPr>
          <p:cNvPr id="2179" name="TextBox 5"/>
          <p:cNvSpPr/>
          <p:nvPr/>
        </p:nvSpPr>
        <p:spPr>
          <a:xfrm>
            <a:off x="3135240" y="571500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ouseholds Owning Cat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Household Enterprise Choices (cont.)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TextBox 7"/>
          <p:cNvSpPr/>
          <p:nvPr/>
        </p:nvSpPr>
        <p:spPr>
          <a:xfrm>
            <a:off x="695160" y="2322360"/>
            <a:ext cx="131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roportion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Househo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TextBox 8"/>
          <p:cNvSpPr/>
          <p:nvPr/>
        </p:nvSpPr>
        <p:spPr>
          <a:xfrm>
            <a:off x="196200" y="6488280"/>
            <a:ext cx="71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rce:  HarvestChoice 2011 based on Ghana Living Standards Survey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3" name=""/>
          <p:cNvGraphicFramePr/>
          <p:nvPr/>
        </p:nvGraphicFramePr>
        <p:xfrm>
          <a:off x="152280" y="1905120"/>
          <a:ext cx="8686800" cy="3124080"/>
        </p:xfrm>
        <a:graphic>
          <a:graphicData uri="http://schemas.openxmlformats.org/drawingml/2006/table">
            <a:tbl>
              <a:tblPr/>
              <a:tblGrid>
                <a:gridCol w="513000"/>
                <a:gridCol w="2090520"/>
                <a:gridCol w="577800"/>
                <a:gridCol w="73080"/>
                <a:gridCol w="2081160"/>
                <a:gridCol w="586080"/>
                <a:gridCol w="61920"/>
                <a:gridCol w="2079360"/>
                <a:gridCol w="623880"/>
              </a:tblGrid>
              <a:tr h="363240"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ion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ern Regio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 Focus Distric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084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H Crop Enterpris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H Shar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H Crop Enterpris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H Shar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H Crop Enterpris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H Shar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6044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,rice,millet,sorghum,bea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,rice,mille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6008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,coco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,rice,millet,sorghum,bea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co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, millet,sorghum,bea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004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,bea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,sorgh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, sorghum, bea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44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,rice,millet,sorghum,bea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, millet, sorgh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, millet, sorgh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anking of HH Crop Enterprises: Gha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85" name=""/>
          <p:cNvGraphicFramePr/>
          <p:nvPr/>
        </p:nvGraphicFramePr>
        <p:xfrm>
          <a:off x="380880" y="5257800"/>
          <a:ext cx="7772400" cy="838080"/>
        </p:xfrm>
        <a:graphic>
          <a:graphicData uri="http://schemas.openxmlformats.org/drawingml/2006/table">
            <a:tbl>
              <a:tblPr/>
              <a:tblGrid>
                <a:gridCol w="747720"/>
                <a:gridCol w="3044880"/>
                <a:gridCol w="841320"/>
                <a:gridCol w="106560"/>
                <a:gridCol w="3031920"/>
              </a:tblGrid>
              <a:tr h="279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r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rived from GLSS 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ops considered are maize, rice, millet, cassava, cocoa, cocoyam, beans, eggplant, sorghum, yam,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9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ilpalm, okra, oranges, pawpaw, pepper, pineapples, plantain, tomatoes, vegetab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6" name="Picture 3" descr=""/>
          <p:cNvPicPr/>
          <p:nvPr/>
        </p:nvPicPr>
        <p:blipFill>
          <a:blip r:embed="rId1"/>
          <a:stretch/>
        </p:blipFill>
        <p:spPr>
          <a:xfrm>
            <a:off x="406440" y="380880"/>
            <a:ext cx="8356680" cy="611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7" name="Diagram 10" descr=""/>
          <p:cNvPicPr/>
          <p:nvPr/>
        </p:nvPicPr>
        <p:blipFill>
          <a:blip r:embed="rId1"/>
          <a:stretch/>
        </p:blipFill>
        <p:spPr>
          <a:xfrm>
            <a:off x="12600" y="920880"/>
            <a:ext cx="3522600" cy="2535120"/>
          </a:xfrm>
          <a:prstGeom prst="rect">
            <a:avLst/>
          </a:prstGeom>
          <a:ln w="0">
            <a:noFill/>
          </a:ln>
        </p:spPr>
      </p:pic>
      <p:pic>
        <p:nvPicPr>
          <p:cNvPr id="2188" name="Diagram 8" descr=""/>
          <p:cNvPicPr/>
          <p:nvPr/>
        </p:nvPicPr>
        <p:blipFill>
          <a:blip r:embed="rId2"/>
          <a:stretch/>
        </p:blipFill>
        <p:spPr>
          <a:xfrm>
            <a:off x="285840" y="3925800"/>
            <a:ext cx="2963880" cy="1865520"/>
          </a:xfrm>
          <a:prstGeom prst="rect">
            <a:avLst/>
          </a:prstGeom>
          <a:ln w="0">
            <a:noFill/>
          </a:ln>
        </p:spPr>
      </p:pic>
      <p:pic>
        <p:nvPicPr>
          <p:cNvPr id="2189" name="Picture 2" descr="D:\Documents and Settings\JKOO\Desktop\Downloads\iStock\iStock_000005155468Illustra\thumbnail.jpg"/>
          <p:cNvPicPr/>
          <p:nvPr/>
        </p:nvPicPr>
        <p:blipFill>
          <a:blip r:embed="rId3"/>
          <a:stretch/>
        </p:blipFill>
        <p:spPr>
          <a:xfrm>
            <a:off x="2857680" y="1219320"/>
            <a:ext cx="2008080" cy="3805200"/>
          </a:xfrm>
          <a:prstGeom prst="rect">
            <a:avLst/>
          </a:prstGeom>
          <a:ln w="0">
            <a:noFill/>
          </a:ln>
        </p:spPr>
      </p:pic>
      <p:grpSp>
        <p:nvGrpSpPr>
          <p:cNvPr id="2190" name="Group 38"/>
          <p:cNvGrpSpPr/>
          <p:nvPr/>
        </p:nvGrpSpPr>
        <p:grpSpPr>
          <a:xfrm>
            <a:off x="4644720" y="2959200"/>
            <a:ext cx="2202120" cy="3927240"/>
            <a:chOff x="4644720" y="2959200"/>
            <a:chExt cx="2202120" cy="3927240"/>
          </a:xfrm>
        </p:grpSpPr>
        <p:pic>
          <p:nvPicPr>
            <p:cNvPr id="2191" name="Diagram 6" descr=""/>
            <p:cNvPicPr/>
            <p:nvPr/>
          </p:nvPicPr>
          <p:blipFill>
            <a:blip r:embed="rId4"/>
            <a:stretch/>
          </p:blipFill>
          <p:spPr>
            <a:xfrm>
              <a:off x="4734360" y="4471200"/>
              <a:ext cx="2112480" cy="241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2" name="Picture 5" descr="D:\Documents and Settings\JKOO\Local Settings\Temporary Internet Files\Content.IE5\VAIP9G55\MCj02802970000[1].wmf"/>
            <p:cNvPicPr/>
            <p:nvPr/>
          </p:nvPicPr>
          <p:blipFill>
            <a:blip r:embed="rId5">
              <a:lum bright="10000"/>
            </a:blip>
            <a:stretch/>
          </p:blipFill>
          <p:spPr>
            <a:xfrm flipH="1">
              <a:off x="4644720" y="2959200"/>
              <a:ext cx="1168200" cy="1575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93" name="Diagram 7" descr=""/>
          <p:cNvPicPr/>
          <p:nvPr/>
        </p:nvPicPr>
        <p:blipFill>
          <a:blip r:embed="rId6"/>
          <a:stretch/>
        </p:blipFill>
        <p:spPr>
          <a:xfrm>
            <a:off x="2846520" y="5048280"/>
            <a:ext cx="1950840" cy="1809720"/>
          </a:xfrm>
          <a:prstGeom prst="rect">
            <a:avLst/>
          </a:prstGeom>
          <a:ln w="0">
            <a:noFill/>
          </a:ln>
        </p:spPr>
      </p:pic>
      <p:sp>
        <p:nvSpPr>
          <p:cNvPr id="2194" name="Rectangle 29"/>
          <p:cNvSpPr/>
          <p:nvPr/>
        </p:nvSpPr>
        <p:spPr>
          <a:xfrm>
            <a:off x="6199200" y="210960"/>
            <a:ext cx="2489040" cy="373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*DSSAT Cropping System Model Ver. 4.0.2.000               May 21, 2009; 16:32:3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*RUN   1        : RAINFED LOW NITROGEN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MODEL          : MZCER040 - MAIZE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EXPERIMENT     : UFGA8201 MZ NIT X IRR, GAINESVILLE 2N*3I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TREATMENT  1   : RAINFED LOW NITROGEN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CROP           : MAIZE          CULTIVAR : McCurdy 84aa     ECOTYPE :IB0002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TARTING DATE  : FEB 25 1982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PLANTING DATE  : FEB 26 1982    PLANTS/m2 :  7.2     ROW SPACING :  61.cm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WEATHER        : UFGA   1982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OIL           : IBMZ910014     TEXTURE :       - Millhopper Fine Sand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OIL INITIAL C : DEPTH:180cm EXTR. H2O:160.9mm  NO3:  2.5kg/ha  NH4: 12.9kg/ha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WATER BALANCE  : IRRIGATE ON REPORTED DATE(S)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IRRIGATION     :       13 mm IN     1 APPLICATIONS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NITROGEN BAL.  : SOIL-N &amp; N-UPTAKE SIMULATION; NO N-FIXATION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N-FERTILIZER   :      116 kg/ha IN     3 APPLICATIONS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RESIDUE/MANURE : INITIAL :  1000 kg/ha ;       0 kg/ha IN     0 APPLICATIONS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ENVIRONM. OPT. : DAYL=    0.00  SRAD=    0.00  TMAX=    0.00  TMIN=    0.00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RAIN=    0.00  CO2 = R330.00  DEW =    0.00  WIND=    0.00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IMULATION OPT : WATER   :Y  NITROGEN:Y  N-FIX:N  PHOSPH :N  PESTS  :N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PHOTO   :C  ET      :R  INFIL:S  HYDROL :R  SOM    :G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MANAGEMENT OPT : PLANTING:R  IRRIG   :R  FERT :R  RESIDUE:N  HARVEST:M  WTH:M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*SUMMARY OF SOIL AND GENETIC INPUT PARAMETERS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OIL LOWER UPPER   SAT  EXTR  INIT   ROOT   BULK     pH    NO3    NH4    ORG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DEPTH LIMIT LIMIT    SW    SW    SW   DIST   DENS                          C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cm   cm3/cm3    cm3/cm3    cm3/cm3         g/cm3         ugN/g  ugN/g     %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-------------------------------------------------------------------------------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0-  5 0.026 0.096 0.230 0.070 0.086   1.00   1.30   7.00   0.10   0.50   2.0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5- 15 0.025 0.086 0.230 0.061 0.086   1.00   1.30   7.00   0.10   0.50   1.0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15- 30 0.025 0.086 0.230 0.061 0.086   0.70   1.40   7.00   0.10   0.50   1.0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30- 45 0.025 0.086 0.230 0.061 0.086   0.30   1.40   7.00   0.10   0.50   0.5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45- 60 0.025 0.086 0.230 0.061 0.086   0.30   1.40   7.00   0.10   0.50   0.5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60- 90 0.028 0.090 0.230 0.062 0.076   0.05   1.45   7.00   0.10   0.60   0.1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90-120 0.028 0.090 0.230 0.062 0.076   0.03   1.45   7.00   0.10   0.50   0.1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120-150 0.029 0.130 0.230 0.101 0.130   0.00   1.45   7.00   0.10   0.50   0.04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150-180 0.070 0.258 0.360 0.188 0.258   0.00   1.20   7.00   0.10   0.50   0.24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TOT-180   6.2  22.2  45.3  16.1  21.4  &lt;--cm   -  kg/ha--&gt;    2.5   12.9  8708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OIL ALBEDO    : 0.18      EVAPORATION LIMIT : 2.00         MIN. FACTOR  : 1.0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RUNOFF CURVE # :60.00      DRAINAGE RATE     : 0.65         FERT. FACTOR : 0.8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MAIZE      CULTIVAR :IB0035-McCurdy 84aa       ECOTYPE :IB0002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P1     : 265.00  P2     : 0.3000  P5     : 920.00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G2     : 990.00  G3     :  8.500  PHINT  : 39.000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*SIMULATED CROP AND SOIL STATUS AT MAIN DEVELOPMENT STAGE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RUN NO.     1     RAINFED LOW NITROGEN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CROP GROWTH   BIOMASS         CROP N     STRESS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DATE  AGE STAGE      kg/ha    LAI  kg/ha  %   H2O    N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------  --- ---------- -----  -----  ---  ---  ----  ----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25 FEB    0 Start Sim      0   0.00    0  0.0  0.00  0.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26 FEB    0 Sowing         0   0.00    0  0.0  0.00  0.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27 FEB    1 Germinate      0   0.00    0  0.0  0.00  0.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9 MAR   11 Emergence     29   0.00    1  4.4  0.00  0.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27 MAR   29 End Juveni   251   0.43    4  1.6  0.00  0.0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1 APR   34 Floral Ini   304   0.44    4  1.5  0.00  0.5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Rectangle 30"/>
          <p:cNvSpPr/>
          <p:nvPr/>
        </p:nvSpPr>
        <p:spPr>
          <a:xfrm>
            <a:off x="6351480" y="363600"/>
            <a:ext cx="2489400" cy="3736800"/>
          </a:xfrm>
          <a:prstGeom prst="rect">
            <a:avLst/>
          </a:prstGeom>
          <a:solidFill>
            <a:srgbClr val="ffffff"/>
          </a:soli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*DSSAT Cropping System Model Ver. 4.0.2.000               May 21, 2009; 16:32:3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*RUN   1        : RAINFED LOW NITROGEN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MODEL          : MZCER040 - MAIZE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EXPERIMENT     : UFGA8201 MZ NIT X IRR, GAINESVILLE 2N*3I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TREATMENT  1   : RAINFED LOW NITROGEN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CROP           : MAIZE          CULTIVAR : McCurdy 84aa     ECOTYPE :IB0002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TARTING DATE  : FEB 25 1982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PLANTING DATE  : FEB 26 1982    PLANTS/m2 :  7.2     ROW SPACING :  61.cm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WEATHER        : UFGA   1982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OIL           : IBMZ910014     TEXTURE :       - Millhopper Fine Sand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OIL INITIAL C : DEPTH:180cm EXTR. H2O:160.9mm  NO3:  2.5kg/ha  NH4: 12.9kg/ha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WATER BALANCE  : IRRIGATE ON REPORTED DATE(S)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IRRIGATION     :       13 mm IN     1 APPLICATIONS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NITROGEN BAL.  : SOIL-N &amp; N-UPTAKE SIMULATION; NO N-FIXATION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N-FERTILIZER   :      116 kg/ha IN     3 APPLICATIONS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RESIDUE/MANURE : INITIAL :  1000 kg/ha ;       0 kg/ha IN     0 APPLICATIONS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ENVIRONM. OPT. : DAYL=    0.00  SRAD=    0.00  TMAX=    0.00  TMIN=    0.00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RAIN=    0.00  CO2 = R330.00  DEW =    0.00  WIND=    0.00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IMULATION OPT : WATER   :Y  NITROGEN:Y  N-FIX:N  PHOSPH :N  PESTS  :N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PHOTO   :C  ET      :R  INFIL:S  HYDROL :R  SOM    :G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MANAGEMENT OPT : PLANTING:R  IRRIG   :R  FERT :R  RESIDUE:N  HARVEST:M  WTH:M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*SUMMARY OF SOIL AND GENETIC INPUT PARAMETERS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OIL LOWER UPPER   SAT  EXTR  INIT   ROOT   BULK     pH    NO3    NH4    ORG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DEPTH LIMIT LIMIT    SW    SW    SW   DIST   DENS                          C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cm   cm3/cm3    cm3/cm3    cm3/cm3         g/cm3         ugN/g  ugN/g     %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-------------------------------------------------------------------------------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0-  5 0.026 0.096 0.230 0.070 0.086   1.00   1.30   7.00   0.10   0.50   2.0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5- 15 0.025 0.086 0.230 0.061 0.086   1.00   1.30   7.00   0.10   0.50   1.0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15- 30 0.025 0.086 0.230 0.061 0.086   0.70   1.40   7.00   0.10   0.50   1.0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30- 45 0.025 0.086 0.230 0.061 0.086   0.30   1.40   7.00   0.10   0.50   0.5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45- 60 0.025 0.086 0.230 0.061 0.086   0.30   1.40   7.00   0.10   0.50   0.5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60- 90 0.028 0.090 0.230 0.062 0.076   0.05   1.45   7.00   0.10   0.60   0.1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90-120 0.028 0.090 0.230 0.062 0.076   0.03   1.45   7.00   0.10   0.50   0.1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120-150 0.029 0.130 0.230 0.101 0.130   0.00   1.45   7.00   0.10   0.50   0.04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150-180 0.070 0.258 0.360 0.188 0.258   0.00   1.20   7.00   0.10   0.50   0.24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TOT-180   6.2  22.2  45.3  16.1  21.4  &lt;--cm   -  kg/ha--&gt;    2.5   12.9  8708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OIL ALBEDO    : 0.18      EVAPORATION LIMIT : 2.00         MIN. FACTOR  : 1.0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RUNOFF CURVE # :60.00      DRAINAGE RATE     : 0.65         FERT. FACTOR : 0.8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MAIZE      CULTIVAR :IB0035-McCurdy 84aa       ECOTYPE :IB0002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P1     : 265.00  P2     : 0.3000  P5     : 920.00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G2     : 990.00  G3     :  8.500  PHINT  : 39.000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*SIMULATED CROP AND SOIL STATUS AT MAIN DEVELOPMENT STAGE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RUN NO.     1     RAINFED LOW NITROGEN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CROP GROWTH   BIOMASS         CROP N     STRESS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DATE  AGE STAGE      kg/ha    LAI  kg/ha  %   H2O    N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------  --- ---------- -----  -----  ---  ---  ----  ----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25 FEB    0 Start Sim      0   0.00    0  0.0  0.00  0.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26 FEB    0 Sowing         0   0.00    0  0.0  0.00  0.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27 FEB    1 Germinate      0   0.00    0  0.0  0.00  0.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9 MAR   11 Emergence     29   0.00    1  4.4  0.00  0.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27 MAR   29 End Juveni   251   0.43    4  1.6  0.00  0.0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1 APR   34 Floral Ini   304   0.44    4  1.5  0.00  0.5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Rectangle 31"/>
          <p:cNvSpPr/>
          <p:nvPr/>
        </p:nvSpPr>
        <p:spPr>
          <a:xfrm>
            <a:off x="6504120" y="515880"/>
            <a:ext cx="2489040" cy="3827520"/>
          </a:xfrm>
          <a:prstGeom prst="rect">
            <a:avLst/>
          </a:prstGeom>
          <a:solidFill>
            <a:srgbClr val="ffffff"/>
          </a:soli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*DSSAT Cropping System Model Ver. 4.0.2.000               May 21, 2009; 16:32:3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*RUN   1        : RAINFED LOW NITROGEN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MODEL          : MZCER040 - MAIZE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EXPERIMENT     : UFGA8201 MZ NIT X IRR, GAINESVILLE 2N*3I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TREATMENT  1   : RAINFED LOW NITROGEN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CROP           : MAIZE          CULTIVAR : McCurdy 84aa     ECOTYPE :IB0002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TARTING DATE  : FEB 25 1982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PLANTING DATE  : FEB 26 1982    PLANTS/m2 :  7.2     ROW SPACING :  61.cm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WEATHER        : UFGA   1982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OIL           : IBMZ910014     TEXTURE :       - Millhopper Fine Sand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OIL INITIAL C : DEPTH:180cm EXTR. H2O:160.9mm  NO3:  2.5kg/ha  NH4: 12.9kg/ha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WATER BALANCE  : IRRIGATE ON REPORTED DATE(S)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IRRIGATION     :       13 mm IN     1 APPLICATIONS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NITROGEN BAL.  : SOIL-N &amp; N-UPTAKE SIMULATION; NO N-FIXATION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N-FERTILIZER   :      116 kg/ha IN     3 APPLICATIONS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RESIDUE/MANURE : INITIAL :  1000 kg/ha ;       0 kg/ha IN     0 APPLICATIONS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ENVIRONM. OPT. : DAYL=    0.00  SRAD=    0.00  TMAX=    0.00  TMIN=    0.00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RAIN=    0.00  CO2 = R330.00  DEW =    0.00  WIND=    0.00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IMULATION OPT : WATER   :Y  NITROGEN:Y  N-FIX:N  PHOSPH :N  PESTS  :N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PHOTO   :C  ET      :R  INFIL:S  HYDROL :R  SOM    :G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MANAGEMENT OPT : PLANTING:R  IRRIG   :R  FERT :R  RESIDUE:N  HARVEST:M  WTH:M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*SUMMARY OF SOIL AND GENETIC INPUT PARAMETERS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OIL LOWER UPPER   SAT  EXTR  INIT   ROOT   BULK     pH    NO3    NH4    ORG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DEPTH LIMIT LIMIT    SW    SW    SW   DIST   DENS                          C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cm   cm3/cm3    cm3/cm3    cm3/cm3         g/cm3         ugN/g  ugN/g     %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-------------------------------------------------------------------------------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0-  5 0.026 0.096 0.230 0.070 0.086   1.00   1.30   7.00   0.10   0.50   2.0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5- 15 0.025 0.086 0.230 0.061 0.086   1.00   1.30   7.00   0.10   0.50   1.0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15- 30 0.025 0.086 0.230 0.061 0.086   0.70   1.40   7.00   0.10   0.50   1.0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30- 45 0.025 0.086 0.230 0.061 0.086   0.30   1.40   7.00   0.10   0.50   0.5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45- 60 0.025 0.086 0.230 0.061 0.086   0.30   1.40   7.00   0.10   0.50   0.5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60- 90 0.028 0.090 0.230 0.062 0.076   0.05   1.45   7.00   0.10   0.60   0.1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90-120 0.028 0.090 0.230 0.062 0.076   0.03   1.45   7.00   0.10   0.50   0.1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120-150 0.029 0.130 0.230 0.101 0.130   0.00   1.45   7.00   0.10   0.50   0.04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150-180 0.070 0.258 0.360 0.188 0.258   0.00   1.20   7.00   0.10   0.50   0.24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TOT-180   6.2  22.2  45.3  16.1  21.4  &lt;--cm   -  kg/ha--&gt;    2.5   12.9  8708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OIL ALBEDO    : 0.18      EVAPORATION LIMIT : 2.00         MIN. FACTOR  : 1.0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RUNOFF CURVE # :60.00      DRAINAGE RATE     : 0.65         FERT. FACTOR : 0.8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MAIZE      CULTIVAR :IB0035-McCurdy 84aa       ECOTYPE :IB0002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P1     : 265.00  P2     : 0.3000  P5     : 920.00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G2     : 990.00  G3     :  8.500  PHINT  : 39.000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*SIMULATED CROP AND SOIL STATUS AT MAIN DEVELOPMENT STAGE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RUN NO.     1     RAINFED LOW NITROGEN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CROP GROWTH   BIOMASS         CROP N     STRESS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DATE  AGE STAGE      kg/ha    LAI  kg/ha  %   H2O    N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------  --- ---------- -----  -----  ---  ---  ----  ----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25 FEB    0 Start Sim      0   0.00    0  0.0  0.00  0.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26 FEB    0 Sowing         0   0.00    0  0.0  0.00  0.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27 FEB    1 Germinate      0   0.00    0  0.0  0.00  0.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9 MAR   11 Emergence     29   0.00    1  4.4  0.00  0.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27 MAR   29 End Juveni   251   0.43    4  1.6  0.00  0.0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1 APR   34 Floral Ini   304   0.44    4  1.5  0.00  0.5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7" name=""/>
          <p:cNvGraphicFramePr/>
          <p:nvPr/>
        </p:nvGraphicFramePr>
        <p:xfrm>
          <a:off x="6593040" y="1409760"/>
          <a:ext cx="2361960" cy="2857320"/>
        </p:xfrm>
        <a:graphic>
          <a:graphicData uri="http://schemas.openxmlformats.org/drawingml/2006/table">
            <a:tbl>
              <a:tblPr/>
              <a:tblGrid>
                <a:gridCol w="23619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UTPUTS/INDICATO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67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en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wering dat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in/seed/tuber maturity da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85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iel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in/seed/tuber yiel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idues/stover yiel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biomass yie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w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in/seed/tuber, biomass, L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, C and H</a:t>
                      </a:r>
                      <a:r>
                        <a:rPr b="1" lang="en-US" sz="12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balan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2198" name="Group 18"/>
          <p:cNvGrpSpPr/>
          <p:nvPr/>
        </p:nvGrpSpPr>
        <p:grpSpPr>
          <a:xfrm>
            <a:off x="6613560" y="609480"/>
            <a:ext cx="2260440" cy="825480"/>
            <a:chOff x="6613560" y="609480"/>
            <a:chExt cx="2260440" cy="825480"/>
          </a:xfrm>
        </p:grpSpPr>
        <p:pic>
          <p:nvPicPr>
            <p:cNvPr id="2199" name="Picture 3" descr=""/>
            <p:cNvPicPr/>
            <p:nvPr/>
          </p:nvPicPr>
          <p:blipFill>
            <a:blip r:embed="rId7"/>
            <a:stretch/>
          </p:blipFill>
          <p:spPr>
            <a:xfrm>
              <a:off x="6613560" y="615240"/>
              <a:ext cx="1133280" cy="81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0" name="Picture 49" descr="mz_2000.png"/>
            <p:cNvPicPr/>
            <p:nvPr/>
          </p:nvPicPr>
          <p:blipFill>
            <a:blip r:embed="rId8"/>
            <a:stretch/>
          </p:blipFill>
          <p:spPr>
            <a:xfrm>
              <a:off x="7731360" y="609480"/>
              <a:ext cx="1142640" cy="82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1" name="Rectangle 2"/>
          <p:cNvSpPr/>
          <p:nvPr/>
        </p:nvSpPr>
        <p:spPr>
          <a:xfrm>
            <a:off x="304920" y="328680"/>
            <a:ext cx="598464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굴림"/>
              </a:rPr>
              <a:t>Cropping System Models as Means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굴림"/>
              </a:rPr>
              <a:t>           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굴림"/>
              </a:rPr>
              <a:t>Tracking &amp; Forecasting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굴림"/>
              </a:rPr>
              <a:t>                 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굴림"/>
              </a:rPr>
              <a:t>Indicators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TextBox 17"/>
          <p:cNvSpPr/>
          <p:nvPr/>
        </p:nvSpPr>
        <p:spPr>
          <a:xfrm>
            <a:off x="240120" y="655020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ource: Jawoo Koo (HarvestChoice 20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3" name="Picture 5" descr=""/>
          <p:cNvPicPr/>
          <p:nvPr/>
        </p:nvPicPr>
        <p:blipFill>
          <a:blip r:embed="rId1"/>
          <a:stretch/>
        </p:blipFill>
        <p:spPr>
          <a:xfrm>
            <a:off x="15840" y="1752480"/>
            <a:ext cx="8997840" cy="4648320"/>
          </a:xfrm>
          <a:prstGeom prst="rect">
            <a:avLst/>
          </a:prstGeom>
          <a:ln w="0">
            <a:noFill/>
          </a:ln>
        </p:spPr>
      </p:pic>
      <p:sp>
        <p:nvSpPr>
          <p:cNvPr id="2204" name="TextBox 1"/>
          <p:cNvSpPr/>
          <p:nvPr/>
        </p:nvSpPr>
        <p:spPr>
          <a:xfrm>
            <a:off x="457200" y="252360"/>
            <a:ext cx="8399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tential Productivity Gains in Maize in Northern Ghan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ield Responses by Region, Soil Response Class &amp; Management Intervention for Representative OPV and Hybrid Varie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5" name="Picture 2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001000" cy="5721120"/>
          </a:xfrm>
          <a:prstGeom prst="rect">
            <a:avLst/>
          </a:prstGeom>
          <a:ln w="0">
            <a:noFill/>
          </a:ln>
        </p:spPr>
      </p:pic>
      <p:sp>
        <p:nvSpPr>
          <p:cNvPr id="2206" name="TextBox 3"/>
          <p:cNvSpPr/>
          <p:nvPr/>
        </p:nvSpPr>
        <p:spPr>
          <a:xfrm>
            <a:off x="457200" y="252360"/>
            <a:ext cx="83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tential Productivity Gains in Maize in Northern Gh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&amp;E Implementation Strategy (to date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8" name=""/>
          <p:cNvSpPr txBox="1"/>
          <p:nvPr/>
        </p:nvSpPr>
        <p:spPr>
          <a:xfrm>
            <a:off x="456840" y="167652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stablish Core FtF Monitoring Obligations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imarily with USAID Washington (e.g., agree required core indicators and reporting timelin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enior M&amp;E Coordinator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PRI to recruit SI M&amp;E Coordinator (Senior International Research position, likely based in Addis) with junior staff support in addition to DC-based tea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M&amp;E Implementation Alliance: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 Establish M&amp;E community (esp. evaluation methods and tools) to finalize project M&amp;E design, as well as guide, participate in and review M&amp;E work plans and deliverables (composition, e.g., M&amp;E specialist/liaison from involved CG centers, donor and national and regional partner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M&amp;E Open-Access, Web-Based Platform: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To host and make accessible SI M&amp;E plans, documents, and annual reports, as well as background publications, underlying datasets and, wherever possible, analytical tools. Promote and apply standards for farming system, technology and impact characteriz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nnual M&amp;E Technical Meeting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kely aligned with proposed Project-wide Annual meeting (Need for cross-site planning and review meetings?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ssues/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0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 is appropriate split of M&amp;E resources between M &amp; 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cope of donor’s minimum indicator need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ject management versus strategic M&amp;E need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oles of implementation partners versus M&amp;E team in collecting/analysing indicator data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o we need to re-examine the rationale for specific focus sites and sub-system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o will join the M&amp;E Alliance/community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y likely candidates for M&amp;E Coordinator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&amp;E Guiding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"/>
          <p:cNvSpPr txBox="1"/>
          <p:nvPr/>
        </p:nvSpPr>
        <p:spPr>
          <a:xfrm>
            <a:off x="304560" y="106632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FtF Compliance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Conform to the overall FtF core indicator guideli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Open-access platform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Maintain a transparent, open-access M&amp;E data management and analysis platform to serve the needs of SI stakehold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ulti-scale, Multi-site reporting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Meet broad stakeholder needs and support multi-scale/multi-site M&amp;E through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ystem and sub-system reports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e.g. rice, maize, sorghum-based for W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te-report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for each of the three SI system si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untry reports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Breakout of site reports to serve national stakeholder nee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SA-reports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cross-system reporting and SI-wide “roll-up” of indicators across the 3 “sites” (Sudano-Sahelian zone, Ethiopian Highlands, Eastern and Southern Afric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Backward &amp; forward assessment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Provide monitoring reports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ex ante evaluations (projections) of key M&amp;E indicators, updated annual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caling-up and out assessments (evaluate spillover potential/ options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Examine the potential productivity and sustainability consequences of a range of adoption and geographic/system spillover pathways beyond actual implementation sit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2" name=""/>
          <p:cNvGraphicFramePr/>
          <p:nvPr/>
        </p:nvGraphicFramePr>
        <p:xfrm>
          <a:off x="2685960" y="5719680"/>
          <a:ext cx="6181920" cy="768600"/>
        </p:xfrm>
        <a:graphic>
          <a:graphicData uri="http://schemas.openxmlformats.org/drawingml/2006/table">
            <a:tbl>
              <a:tblPr/>
              <a:tblGrid>
                <a:gridCol w="870120"/>
                <a:gridCol w="711000"/>
                <a:gridCol w="741600"/>
                <a:gridCol w="1101600"/>
                <a:gridCol w="1733400"/>
                <a:gridCol w="1024200"/>
              </a:tblGrid>
              <a:tr h="497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HH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Attribu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Urban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Rur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Income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Exp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Consum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Patter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Production Syste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Inputs, Tech Ado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Mark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Particip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653" name="Group 50"/>
          <p:cNvGrpSpPr/>
          <p:nvPr/>
        </p:nvGrpSpPr>
        <p:grpSpPr>
          <a:xfrm>
            <a:off x="611640" y="739800"/>
            <a:ext cx="8150040" cy="2430720"/>
            <a:chOff x="611640" y="739800"/>
            <a:chExt cx="8150040" cy="2430720"/>
          </a:xfrm>
        </p:grpSpPr>
        <p:grpSp>
          <p:nvGrpSpPr>
            <p:cNvPr id="1654" name="Group 51"/>
            <p:cNvGrpSpPr/>
            <p:nvPr/>
          </p:nvGrpSpPr>
          <p:grpSpPr>
            <a:xfrm>
              <a:off x="611640" y="739800"/>
              <a:ext cx="8150040" cy="2430720"/>
              <a:chOff x="611640" y="739800"/>
              <a:chExt cx="8150040" cy="2430720"/>
            </a:xfrm>
          </p:grpSpPr>
          <p:sp>
            <p:nvSpPr>
              <p:cNvPr id="1655" name="Text Box 52"/>
              <p:cNvSpPr/>
              <p:nvPr/>
            </p:nvSpPr>
            <p:spPr>
              <a:xfrm>
                <a:off x="611640" y="1623960"/>
                <a:ext cx="3434400" cy="10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Policy/Market Context &amp; Impac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Usually geo-political/admin units (policies,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institutions) as the unifying concept and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object of analysis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ff0000"/>
                    </a:solidFill>
                    <a:latin typeface="Verdana"/>
                  </a:rPr>
                  <a:t>Commodity focu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6" name="Group 53"/>
              <p:cNvGrpSpPr/>
              <p:nvPr/>
            </p:nvGrpSpPr>
            <p:grpSpPr>
              <a:xfrm>
                <a:off x="4008600" y="739800"/>
                <a:ext cx="4753080" cy="2430720"/>
                <a:chOff x="4008600" y="739800"/>
                <a:chExt cx="4753080" cy="2430720"/>
              </a:xfrm>
            </p:grpSpPr>
            <p:grpSp>
              <p:nvGrpSpPr>
                <p:cNvPr id="1657" name="Group 54"/>
                <p:cNvGrpSpPr/>
                <p:nvPr/>
              </p:nvGrpSpPr>
              <p:grpSpPr>
                <a:xfrm>
                  <a:off x="4008600" y="739800"/>
                  <a:ext cx="2549880" cy="2430720"/>
                  <a:chOff x="4008600" y="739800"/>
                  <a:chExt cx="2549880" cy="2430720"/>
                </a:xfrm>
              </p:grpSpPr>
              <p:sp>
                <p:nvSpPr>
                  <p:cNvPr id="1658" name="Text Box 55"/>
                  <p:cNvSpPr/>
                  <p:nvPr/>
                </p:nvSpPr>
                <p:spPr>
                  <a:xfrm>
                    <a:off x="4332240" y="739800"/>
                    <a:ext cx="1904400" cy="459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Fixed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Geographies of Analysi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1659" name="Picture 56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4008600" y="1108080"/>
                    <a:ext cx="2549880" cy="17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0" name="Text Box 57"/>
                  <p:cNvSpPr/>
                  <p:nvPr/>
                </p:nvSpPr>
                <p:spPr>
                  <a:xfrm>
                    <a:off x="4580640" y="2772000"/>
                    <a:ext cx="142596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Verdana"/>
                      </a:rPr>
                      <a:t>e.g., IMPACT/WATER,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Verdana"/>
                      </a:rPr>
                      <a:t>GTAP &amp; derivatives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1" name="Text Box 58"/>
                <p:cNvSpPr/>
                <p:nvPr/>
              </p:nvSpPr>
              <p:spPr>
                <a:xfrm>
                  <a:off x="6535080" y="739800"/>
                  <a:ext cx="190440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Flexible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Geographies of Analysi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2" name="Text Box 59"/>
                <p:cNvSpPr/>
                <p:nvPr/>
              </p:nvSpPr>
              <p:spPr>
                <a:xfrm>
                  <a:off x="7029360" y="2771640"/>
                  <a:ext cx="93528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Verdana"/>
                    </a:rPr>
                    <a:t>e.g., DREAM,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Verdana"/>
                    </a:rPr>
                    <a:t>MM model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63" name="Group 60"/>
                <p:cNvGrpSpPr/>
                <p:nvPr/>
              </p:nvGrpSpPr>
              <p:grpSpPr>
                <a:xfrm>
                  <a:off x="6211800" y="1108080"/>
                  <a:ext cx="2549880" cy="1754280"/>
                  <a:chOff x="6211800" y="1108080"/>
                  <a:chExt cx="2549880" cy="1754280"/>
                </a:xfrm>
              </p:grpSpPr>
              <p:sp>
                <p:nvSpPr>
                  <p:cNvPr id="1664" name="AutoShape 61"/>
                  <p:cNvSpPr/>
                  <p:nvPr/>
                </p:nvSpPr>
                <p:spPr>
                  <a:xfrm>
                    <a:off x="6211800" y="1108080"/>
                    <a:ext cx="2549880" cy="1754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65" name="Group 62"/>
                  <p:cNvGrpSpPr/>
                  <p:nvPr/>
                </p:nvGrpSpPr>
                <p:grpSpPr>
                  <a:xfrm>
                    <a:off x="6683760" y="1266840"/>
                    <a:ext cx="1636200" cy="1400040"/>
                    <a:chOff x="6683760" y="1266840"/>
                    <a:chExt cx="1636200" cy="1400040"/>
                  </a:xfrm>
                </p:grpSpPr>
                <p:sp>
                  <p:nvSpPr>
                    <p:cNvPr id="1666" name="Freeform 63"/>
                    <p:cNvSpPr/>
                    <p:nvPr/>
                  </p:nvSpPr>
                  <p:spPr>
                    <a:xfrm>
                      <a:off x="6683760" y="1266840"/>
                      <a:ext cx="708120" cy="1101600"/>
                    </a:xfrm>
                    <a:custGeom>
                      <a:avLst/>
                      <a:gdLst>
                        <a:gd name="textAreaLeft" fmla="*/ 0 w 708120"/>
                        <a:gd name="textAreaRight" fmla="*/ 708480 w 708120"/>
                        <a:gd name="textAreaTop" fmla="*/ 0 h 1101600"/>
                        <a:gd name="textAreaBottom" fmla="*/ 1101960 h 1101600"/>
                      </a:gdLst>
                      <a:ahLst/>
                      <a:rect l="textAreaLeft" t="textAreaTop" r="textAreaRight" b="textAreaBottom"/>
                      <a:pathLst>
                        <a:path w="414" h="694">
                          <a:moveTo>
                            <a:pt x="414" y="175"/>
                          </a:moveTo>
                          <a:lnTo>
                            <a:pt x="345" y="214"/>
                          </a:lnTo>
                          <a:lnTo>
                            <a:pt x="351" y="313"/>
                          </a:lnTo>
                          <a:lnTo>
                            <a:pt x="351" y="322"/>
                          </a:lnTo>
                          <a:lnTo>
                            <a:pt x="344" y="335"/>
                          </a:lnTo>
                          <a:lnTo>
                            <a:pt x="340" y="340"/>
                          </a:lnTo>
                          <a:lnTo>
                            <a:pt x="334" y="335"/>
                          </a:lnTo>
                          <a:lnTo>
                            <a:pt x="328" y="335"/>
                          </a:lnTo>
                          <a:lnTo>
                            <a:pt x="322" y="340"/>
                          </a:lnTo>
                          <a:lnTo>
                            <a:pt x="320" y="355"/>
                          </a:lnTo>
                          <a:lnTo>
                            <a:pt x="317" y="368"/>
                          </a:lnTo>
                          <a:lnTo>
                            <a:pt x="311" y="387"/>
                          </a:lnTo>
                          <a:lnTo>
                            <a:pt x="310" y="392"/>
                          </a:lnTo>
                          <a:lnTo>
                            <a:pt x="305" y="407"/>
                          </a:lnTo>
                          <a:lnTo>
                            <a:pt x="301" y="416"/>
                          </a:lnTo>
                          <a:lnTo>
                            <a:pt x="289" y="423"/>
                          </a:lnTo>
                          <a:lnTo>
                            <a:pt x="283" y="435"/>
                          </a:lnTo>
                          <a:lnTo>
                            <a:pt x="280" y="455"/>
                          </a:lnTo>
                          <a:lnTo>
                            <a:pt x="278" y="473"/>
                          </a:lnTo>
                          <a:lnTo>
                            <a:pt x="284" y="500"/>
                          </a:lnTo>
                          <a:lnTo>
                            <a:pt x="286" y="516"/>
                          </a:lnTo>
                          <a:lnTo>
                            <a:pt x="278" y="538"/>
                          </a:lnTo>
                          <a:lnTo>
                            <a:pt x="268" y="555"/>
                          </a:lnTo>
                          <a:lnTo>
                            <a:pt x="253" y="570"/>
                          </a:lnTo>
                          <a:lnTo>
                            <a:pt x="242" y="582"/>
                          </a:lnTo>
                          <a:lnTo>
                            <a:pt x="238" y="609"/>
                          </a:lnTo>
                          <a:lnTo>
                            <a:pt x="236" y="630"/>
                          </a:lnTo>
                          <a:lnTo>
                            <a:pt x="239" y="646"/>
                          </a:lnTo>
                          <a:lnTo>
                            <a:pt x="242" y="661"/>
                          </a:lnTo>
                          <a:lnTo>
                            <a:pt x="244" y="673"/>
                          </a:lnTo>
                          <a:lnTo>
                            <a:pt x="244" y="679"/>
                          </a:lnTo>
                          <a:lnTo>
                            <a:pt x="233" y="688"/>
                          </a:lnTo>
                          <a:lnTo>
                            <a:pt x="224" y="694"/>
                          </a:lnTo>
                          <a:lnTo>
                            <a:pt x="221" y="684"/>
                          </a:lnTo>
                          <a:lnTo>
                            <a:pt x="214" y="673"/>
                          </a:lnTo>
                          <a:lnTo>
                            <a:pt x="204" y="667"/>
                          </a:lnTo>
                          <a:lnTo>
                            <a:pt x="195" y="663"/>
                          </a:lnTo>
                          <a:lnTo>
                            <a:pt x="187" y="667"/>
                          </a:lnTo>
                          <a:lnTo>
                            <a:pt x="174" y="669"/>
                          </a:lnTo>
                          <a:lnTo>
                            <a:pt x="168" y="664"/>
                          </a:lnTo>
                          <a:lnTo>
                            <a:pt x="163" y="651"/>
                          </a:lnTo>
                          <a:lnTo>
                            <a:pt x="162" y="640"/>
                          </a:lnTo>
                          <a:lnTo>
                            <a:pt x="153" y="633"/>
                          </a:lnTo>
                          <a:lnTo>
                            <a:pt x="145" y="624"/>
                          </a:lnTo>
                          <a:lnTo>
                            <a:pt x="138" y="613"/>
                          </a:lnTo>
                          <a:lnTo>
                            <a:pt x="129" y="607"/>
                          </a:lnTo>
                          <a:lnTo>
                            <a:pt x="118" y="604"/>
                          </a:lnTo>
                          <a:lnTo>
                            <a:pt x="106" y="594"/>
                          </a:lnTo>
                          <a:lnTo>
                            <a:pt x="95" y="592"/>
                          </a:lnTo>
                          <a:lnTo>
                            <a:pt x="81" y="594"/>
                          </a:lnTo>
                          <a:lnTo>
                            <a:pt x="69" y="594"/>
                          </a:lnTo>
                          <a:lnTo>
                            <a:pt x="56" y="595"/>
                          </a:lnTo>
                          <a:lnTo>
                            <a:pt x="41" y="591"/>
                          </a:lnTo>
                          <a:lnTo>
                            <a:pt x="30" y="585"/>
                          </a:lnTo>
                          <a:lnTo>
                            <a:pt x="15" y="577"/>
                          </a:lnTo>
                          <a:lnTo>
                            <a:pt x="8" y="574"/>
                          </a:lnTo>
                          <a:lnTo>
                            <a:pt x="0" y="570"/>
                          </a:lnTo>
                          <a:lnTo>
                            <a:pt x="5" y="562"/>
                          </a:lnTo>
                          <a:lnTo>
                            <a:pt x="63" y="488"/>
                          </a:lnTo>
                          <a:lnTo>
                            <a:pt x="62" y="370"/>
                          </a:lnTo>
                          <a:lnTo>
                            <a:pt x="75" y="353"/>
                          </a:lnTo>
                          <a:lnTo>
                            <a:pt x="120" y="346"/>
                          </a:lnTo>
                          <a:lnTo>
                            <a:pt x="139" y="233"/>
                          </a:lnTo>
                          <a:lnTo>
                            <a:pt x="148" y="227"/>
                          </a:lnTo>
                          <a:lnTo>
                            <a:pt x="144" y="112"/>
                          </a:lnTo>
                          <a:lnTo>
                            <a:pt x="114" y="70"/>
                          </a:lnTo>
                          <a:lnTo>
                            <a:pt x="142" y="36"/>
                          </a:lnTo>
                          <a:lnTo>
                            <a:pt x="147" y="0"/>
                          </a:lnTo>
                          <a:lnTo>
                            <a:pt x="184" y="38"/>
                          </a:lnTo>
                          <a:lnTo>
                            <a:pt x="210" y="61"/>
                          </a:lnTo>
                          <a:lnTo>
                            <a:pt x="224" y="78"/>
                          </a:lnTo>
                          <a:lnTo>
                            <a:pt x="245" y="88"/>
                          </a:lnTo>
                          <a:lnTo>
                            <a:pt x="265" y="100"/>
                          </a:lnTo>
                          <a:lnTo>
                            <a:pt x="275" y="112"/>
                          </a:lnTo>
                          <a:lnTo>
                            <a:pt x="316" y="163"/>
                          </a:lnTo>
                          <a:lnTo>
                            <a:pt x="363" y="160"/>
                          </a:lnTo>
                          <a:lnTo>
                            <a:pt x="414" y="175"/>
                          </a:lnTo>
                          <a:close/>
                        </a:path>
                      </a:pathLst>
                    </a:custGeom>
                    <a:solidFill>
                      <a:srgbClr val="e9ffb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7" name="Line 64"/>
                    <p:cNvSpPr/>
                    <p:nvPr/>
                  </p:nvSpPr>
                  <p:spPr>
                    <a:xfrm flipH="1">
                      <a:off x="7374240" y="1544760"/>
                      <a:ext cx="16920" cy="936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8" name="Line 65"/>
                    <p:cNvSpPr/>
                    <p:nvPr/>
                  </p:nvSpPr>
                  <p:spPr>
                    <a:xfrm flipH="1">
                      <a:off x="7338240" y="1563480"/>
                      <a:ext cx="16920" cy="972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9" name="Line 66"/>
                    <p:cNvSpPr/>
                    <p:nvPr/>
                  </p:nvSpPr>
                  <p:spPr>
                    <a:xfrm flipH="1">
                      <a:off x="7302600" y="1582560"/>
                      <a:ext cx="16920" cy="972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0" name="Freeform 67"/>
                    <p:cNvSpPr/>
                    <p:nvPr/>
                  </p:nvSpPr>
                  <p:spPr>
                    <a:xfrm>
                      <a:off x="7273800" y="1601640"/>
                      <a:ext cx="10080" cy="14400"/>
                    </a:xfrm>
                    <a:custGeom>
                      <a:avLst/>
                      <a:gdLst>
                        <a:gd name="textAreaLeft" fmla="*/ 0 w 10080"/>
                        <a:gd name="textAreaRight" fmla="*/ 10440 w 1008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6" h="9">
                          <a:moveTo>
                            <a:pt x="6" y="0"/>
                          </a:moveTo>
                          <a:lnTo>
                            <a:pt x="0" y="3"/>
                          </a:lnTo>
                          <a:lnTo>
                            <a:pt x="2" y="9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1" name="Line 68"/>
                    <p:cNvSpPr/>
                    <p:nvPr/>
                  </p:nvSpPr>
                  <p:spPr>
                    <a:xfrm>
                      <a:off x="7277040" y="1635120"/>
                      <a:ext cx="180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Line 69"/>
                    <p:cNvSpPr/>
                    <p:nvPr/>
                  </p:nvSpPr>
                  <p:spPr>
                    <a:xfrm>
                      <a:off x="7278840" y="1673280"/>
                      <a:ext cx="324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3" name="Line 70"/>
                    <p:cNvSpPr/>
                    <p:nvPr/>
                  </p:nvSpPr>
                  <p:spPr>
                    <a:xfrm>
                      <a:off x="7282440" y="1711440"/>
                      <a:ext cx="1440" cy="1872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Freeform 71"/>
                    <p:cNvSpPr/>
                    <p:nvPr/>
                  </p:nvSpPr>
                  <p:spPr>
                    <a:xfrm>
                      <a:off x="7283880" y="1749240"/>
                      <a:ext cx="360" cy="1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12">
                          <a:moveTo>
                            <a:pt x="0" y="0"/>
                          </a:moveTo>
                          <a:lnTo>
                            <a:pt x="0" y="9"/>
                          </a:lnTo>
                          <a:lnTo>
                            <a:pt x="0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5" name="Freeform 72"/>
                    <p:cNvSpPr/>
                    <p:nvPr/>
                  </p:nvSpPr>
                  <p:spPr>
                    <a:xfrm>
                      <a:off x="7270200" y="1787400"/>
                      <a:ext cx="8280" cy="15840"/>
                    </a:xfrm>
                    <a:custGeom>
                      <a:avLst/>
                      <a:gdLst>
                        <a:gd name="textAreaLeft" fmla="*/ 0 w 8280"/>
                        <a:gd name="textAreaRight" fmla="*/ 8640 w 828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5" h="10">
                          <a:moveTo>
                            <a:pt x="5" y="0"/>
                          </a:moveTo>
                          <a:lnTo>
                            <a:pt x="1" y="7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6" name="Freeform 73"/>
                    <p:cNvSpPr/>
                    <p:nvPr/>
                  </p:nvSpPr>
                  <p:spPr>
                    <a:xfrm>
                      <a:off x="7234200" y="1798560"/>
                      <a:ext cx="16920" cy="7920"/>
                    </a:xfrm>
                    <a:custGeom>
                      <a:avLst/>
                      <a:gdLst>
                        <a:gd name="textAreaLeft" fmla="*/ 0 w 16920"/>
                        <a:gd name="textAreaRight" fmla="*/ 17280 w 16920"/>
                        <a:gd name="textAreaTop" fmla="*/ 0 h 7920"/>
                        <a:gd name="textAreaBottom" fmla="*/ 8280 h 7920"/>
                      </a:gdLst>
                      <a:ahLst/>
                      <a:rect l="textAreaLeft" t="textAreaTop" r="textAreaRight" b="textAreaBottom"/>
                      <a:pathLst>
                        <a:path w="10" h="5">
                          <a:moveTo>
                            <a:pt x="10" y="0"/>
                          </a:moveTo>
                          <a:lnTo>
                            <a:pt x="6" y="0"/>
                          </a:lnTo>
                          <a:lnTo>
                            <a:pt x="0" y="5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Freeform 74"/>
                    <p:cNvSpPr/>
                    <p:nvPr/>
                  </p:nvSpPr>
                  <p:spPr>
                    <a:xfrm>
                      <a:off x="7229160" y="1825560"/>
                      <a:ext cx="1440" cy="19080"/>
                    </a:xfrm>
                    <a:custGeom>
                      <a:avLst/>
                      <a:gdLst>
                        <a:gd name="textAreaLeft" fmla="*/ 0 w 1440"/>
                        <a:gd name="textAreaRight" fmla="*/ 1800 w 144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1" h="12">
                          <a:moveTo>
                            <a:pt x="1" y="0"/>
                          </a:moveTo>
                          <a:lnTo>
                            <a:pt x="1" y="3"/>
                          </a:lnTo>
                          <a:lnTo>
                            <a:pt x="0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Line 75"/>
                    <p:cNvSpPr/>
                    <p:nvPr/>
                  </p:nvSpPr>
                  <p:spPr>
                    <a:xfrm flipH="1">
                      <a:off x="7215120" y="1861920"/>
                      <a:ext cx="8280" cy="176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Freeform 76"/>
                    <p:cNvSpPr/>
                    <p:nvPr/>
                  </p:nvSpPr>
                  <p:spPr>
                    <a:xfrm>
                      <a:off x="7203600" y="1898640"/>
                      <a:ext cx="6480" cy="19080"/>
                    </a:xfrm>
                    <a:custGeom>
                      <a:avLst/>
                      <a:gdLst>
                        <a:gd name="textAreaLeft" fmla="*/ 0 w 6480"/>
                        <a:gd name="textAreaRight" fmla="*/ 6840 w 648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4" h="12">
                          <a:moveTo>
                            <a:pt x="4" y="0"/>
                          </a:moveTo>
                          <a:lnTo>
                            <a:pt x="1" y="9"/>
                          </a:lnTo>
                          <a:lnTo>
                            <a:pt x="0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0" name="Freeform 77"/>
                    <p:cNvSpPr/>
                    <p:nvPr/>
                  </p:nvSpPr>
                  <p:spPr>
                    <a:xfrm>
                      <a:off x="7174440" y="1931760"/>
                      <a:ext cx="15120" cy="11160"/>
                    </a:xfrm>
                    <a:custGeom>
                      <a:avLst/>
                      <a:gdLst>
                        <a:gd name="textAreaLeft" fmla="*/ 0 w 15120"/>
                        <a:gd name="textAreaRight" fmla="*/ 15480 w 15120"/>
                        <a:gd name="textAreaTop" fmla="*/ 0 h 11160"/>
                        <a:gd name="textAreaBottom" fmla="*/ 11520 h 11160"/>
                      </a:gdLst>
                      <a:ahLst/>
                      <a:rect l="textAreaLeft" t="textAreaTop" r="textAreaRight" b="textAreaBottom"/>
                      <a:pathLst>
                        <a:path w="9" h="7">
                          <a:moveTo>
                            <a:pt x="9" y="0"/>
                          </a:moveTo>
                          <a:lnTo>
                            <a:pt x="2" y="4"/>
                          </a:lnTo>
                          <a:lnTo>
                            <a:pt x="0" y="7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1" name="Line 78"/>
                    <p:cNvSpPr/>
                    <p:nvPr/>
                  </p:nvSpPr>
                  <p:spPr>
                    <a:xfrm flipH="1">
                      <a:off x="7163640" y="1960560"/>
                      <a:ext cx="324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2" name="Line 79"/>
                    <p:cNvSpPr/>
                    <p:nvPr/>
                  </p:nvSpPr>
                  <p:spPr>
                    <a:xfrm flipH="1">
                      <a:off x="7158600" y="1998720"/>
                      <a:ext cx="324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3" name="Line 80"/>
                    <p:cNvSpPr/>
                    <p:nvPr/>
                  </p:nvSpPr>
                  <p:spPr>
                    <a:xfrm>
                      <a:off x="7164000" y="2036880"/>
                      <a:ext cx="5400" cy="158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4" name="Freeform 81"/>
                    <p:cNvSpPr/>
                    <p:nvPr/>
                  </p:nvSpPr>
                  <p:spPr>
                    <a:xfrm>
                      <a:off x="7172640" y="2071800"/>
                      <a:ext cx="360" cy="1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12">
                          <a:moveTo>
                            <a:pt x="0" y="0"/>
                          </a:moveTo>
                          <a:lnTo>
                            <a:pt x="0" y="9"/>
                          </a:lnTo>
                          <a:lnTo>
                            <a:pt x="0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5" name="Freeform 82"/>
                    <p:cNvSpPr/>
                    <p:nvPr/>
                  </p:nvSpPr>
                  <p:spPr>
                    <a:xfrm>
                      <a:off x="7157520" y="2109600"/>
                      <a:ext cx="6480" cy="15840"/>
                    </a:xfrm>
                    <a:custGeom>
                      <a:avLst/>
                      <a:gdLst>
                        <a:gd name="textAreaLeft" fmla="*/ 0 w 6480"/>
                        <a:gd name="textAreaRight" fmla="*/ 6840 w 648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4" h="10">
                          <a:moveTo>
                            <a:pt x="4" y="0"/>
                          </a:moveTo>
                          <a:lnTo>
                            <a:pt x="1" y="7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6" name="Freeform 83"/>
                    <p:cNvSpPr/>
                    <p:nvPr/>
                  </p:nvSpPr>
                  <p:spPr>
                    <a:xfrm>
                      <a:off x="7131960" y="2143080"/>
                      <a:ext cx="15120" cy="14400"/>
                    </a:xfrm>
                    <a:custGeom>
                      <a:avLst/>
                      <a:gdLst>
                        <a:gd name="textAreaLeft" fmla="*/ 0 w 15120"/>
                        <a:gd name="textAreaRight" fmla="*/ 15480 w 1512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9" h="9">
                          <a:moveTo>
                            <a:pt x="9" y="0"/>
                          </a:moveTo>
                          <a:lnTo>
                            <a:pt x="6" y="3"/>
                          </a:lnTo>
                          <a:lnTo>
                            <a:pt x="0" y="9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7" name="Freeform 84"/>
                    <p:cNvSpPr/>
                    <p:nvPr/>
                  </p:nvSpPr>
                  <p:spPr>
                    <a:xfrm>
                      <a:off x="7102800" y="2171520"/>
                      <a:ext cx="15120" cy="14400"/>
                    </a:xfrm>
                    <a:custGeom>
                      <a:avLst/>
                      <a:gdLst>
                        <a:gd name="textAreaLeft" fmla="*/ 0 w 15120"/>
                        <a:gd name="textAreaRight" fmla="*/ 15480 w 1512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9" h="9">
                          <a:moveTo>
                            <a:pt x="9" y="0"/>
                          </a:moveTo>
                          <a:lnTo>
                            <a:pt x="8" y="0"/>
                          </a:lnTo>
                          <a:lnTo>
                            <a:pt x="0" y="9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8" name="Line 85"/>
                    <p:cNvSpPr/>
                    <p:nvPr/>
                  </p:nvSpPr>
                  <p:spPr>
                    <a:xfrm flipH="1">
                      <a:off x="7092000" y="2201760"/>
                      <a:ext cx="324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9" name="Line 86"/>
                    <p:cNvSpPr/>
                    <p:nvPr/>
                  </p:nvSpPr>
                  <p:spPr>
                    <a:xfrm flipH="1">
                      <a:off x="7086960" y="2239920"/>
                      <a:ext cx="324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0" name="Freeform 87"/>
                    <p:cNvSpPr/>
                    <p:nvPr/>
                  </p:nvSpPr>
                  <p:spPr>
                    <a:xfrm>
                      <a:off x="7090920" y="2278080"/>
                      <a:ext cx="1440" cy="17280"/>
                    </a:xfrm>
                    <a:custGeom>
                      <a:avLst/>
                      <a:gdLst>
                        <a:gd name="textAreaLeft" fmla="*/ 0 w 1440"/>
                        <a:gd name="textAreaRight" fmla="*/ 1800 w 1440"/>
                        <a:gd name="textAreaTop" fmla="*/ 0 h 17280"/>
                        <a:gd name="textAreaBottom" fmla="*/ 17280 h 17280"/>
                      </a:gdLst>
                      <a:ahLst/>
                      <a:rect l="textAreaLeft" t="textAreaTop" r="textAreaRight" b="textAreaBottom"/>
                      <a:pathLst>
                        <a:path w="1" h="11">
                          <a:moveTo>
                            <a:pt x="0" y="0"/>
                          </a:moveTo>
                          <a:lnTo>
                            <a:pt x="1" y="9"/>
                          </a:lnTo>
                          <a:lnTo>
                            <a:pt x="1" y="11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1" name="Freeform 88"/>
                    <p:cNvSpPr/>
                    <p:nvPr/>
                  </p:nvSpPr>
                  <p:spPr>
                    <a:xfrm>
                      <a:off x="7097400" y="2314440"/>
                      <a:ext cx="3240" cy="19080"/>
                    </a:xfrm>
                    <a:custGeom>
                      <a:avLst/>
                      <a:gdLst>
                        <a:gd name="textAreaLeft" fmla="*/ 0 w 3240"/>
                        <a:gd name="textAreaRight" fmla="*/ 3600 w 324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2" h="12">
                          <a:moveTo>
                            <a:pt x="0" y="0"/>
                          </a:moveTo>
                          <a:lnTo>
                            <a:pt x="0" y="1"/>
                          </a:lnTo>
                          <a:lnTo>
                            <a:pt x="2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2" name="Freeform 89"/>
                    <p:cNvSpPr/>
                    <p:nvPr/>
                  </p:nvSpPr>
                  <p:spPr>
                    <a:xfrm>
                      <a:off x="7076880" y="2349360"/>
                      <a:ext cx="15480" cy="11160"/>
                    </a:xfrm>
                    <a:custGeom>
                      <a:avLst/>
                      <a:gdLst>
                        <a:gd name="textAreaLeft" fmla="*/ 0 w 15480"/>
                        <a:gd name="textAreaRight" fmla="*/ 15840 w 15480"/>
                        <a:gd name="textAreaTop" fmla="*/ 0 h 11160"/>
                        <a:gd name="textAreaBottom" fmla="*/ 11520 h 11160"/>
                      </a:gdLst>
                      <a:ahLst/>
                      <a:rect l="textAreaLeft" t="textAreaTop" r="textAreaRight" b="textAreaBottom"/>
                      <a:pathLst>
                        <a:path w="9" h="7">
                          <a:moveTo>
                            <a:pt x="9" y="0"/>
                          </a:moveTo>
                          <a:lnTo>
                            <a:pt x="3" y="6"/>
                          </a:lnTo>
                          <a:lnTo>
                            <a:pt x="0" y="7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3" name="Freeform 90"/>
                    <p:cNvSpPr/>
                    <p:nvPr/>
                  </p:nvSpPr>
                  <p:spPr>
                    <a:xfrm>
                      <a:off x="7054560" y="2343240"/>
                      <a:ext cx="10440" cy="17280"/>
                    </a:xfrm>
                    <a:custGeom>
                      <a:avLst/>
                      <a:gdLst>
                        <a:gd name="textAreaLeft" fmla="*/ 0 w 10440"/>
                        <a:gd name="textAreaRight" fmla="*/ 10800 w 10440"/>
                        <a:gd name="textAreaTop" fmla="*/ 0 h 17280"/>
                        <a:gd name="textAreaBottom" fmla="*/ 17280 h 17280"/>
                      </a:gdLst>
                      <a:ahLst/>
                      <a:rect l="textAreaLeft" t="textAreaTop" r="textAreaRight" b="textAreaBottom"/>
                      <a:pathLst>
                        <a:path w="6" h="11">
                          <a:moveTo>
                            <a:pt x="6" y="11"/>
                          </a:moveTo>
                          <a:lnTo>
                            <a:pt x="4" y="6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Freeform 91"/>
                    <p:cNvSpPr/>
                    <p:nvPr/>
                  </p:nvSpPr>
                  <p:spPr>
                    <a:xfrm>
                      <a:off x="7023960" y="2320920"/>
                      <a:ext cx="18360" cy="9360"/>
                    </a:xfrm>
                    <a:custGeom>
                      <a:avLst/>
                      <a:gdLst>
                        <a:gd name="textAreaLeft" fmla="*/ 0 w 18360"/>
                        <a:gd name="textAreaRight" fmla="*/ 18720 w 18360"/>
                        <a:gd name="textAreaTop" fmla="*/ 0 h 9360"/>
                        <a:gd name="textAreaBottom" fmla="*/ 9720 h 9360"/>
                      </a:gdLst>
                      <a:ahLst/>
                      <a:rect l="textAreaLeft" t="textAreaTop" r="textAreaRight" b="textAreaBottom"/>
                      <a:pathLst>
                        <a:path w="11" h="6">
                          <a:moveTo>
                            <a:pt x="11" y="6"/>
                          </a:moveTo>
                          <a:lnTo>
                            <a:pt x="5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Freeform 92"/>
                    <p:cNvSpPr/>
                    <p:nvPr/>
                  </p:nvSpPr>
                  <p:spPr>
                    <a:xfrm>
                      <a:off x="6982920" y="2324160"/>
                      <a:ext cx="20520" cy="4680"/>
                    </a:xfrm>
                    <a:custGeom>
                      <a:avLst/>
                      <a:gdLst>
                        <a:gd name="textAreaLeft" fmla="*/ 0 w 20520"/>
                        <a:gd name="textAreaRight" fmla="*/ 20880 w 20520"/>
                        <a:gd name="textAreaTop" fmla="*/ 0 h 4680"/>
                        <a:gd name="textAreaBottom" fmla="*/ 5040 h 4680"/>
                      </a:gdLst>
                      <a:ahLst/>
                      <a:rect l="textAreaLeft" t="textAreaTop" r="textAreaRight" b="textAreaBottom"/>
                      <a:pathLst>
                        <a:path w="12" h="3">
                          <a:moveTo>
                            <a:pt x="12" y="0"/>
                          </a:moveTo>
                          <a:lnTo>
                            <a:pt x="12" y="1"/>
                          </a:lnTo>
                          <a:lnTo>
                            <a:pt x="0" y="3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6" name="Freeform 93"/>
                    <p:cNvSpPr/>
                    <p:nvPr/>
                  </p:nvSpPr>
                  <p:spPr>
                    <a:xfrm>
                      <a:off x="6962400" y="2300400"/>
                      <a:ext cx="5040" cy="15840"/>
                    </a:xfrm>
                    <a:custGeom>
                      <a:avLst/>
                      <a:gdLst>
                        <a:gd name="textAreaLeft" fmla="*/ 0 w 5040"/>
                        <a:gd name="textAreaRight" fmla="*/ 5400 w 504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3" h="10">
                          <a:moveTo>
                            <a:pt x="3" y="10"/>
                          </a:move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7" name="Freeform 94"/>
                    <p:cNvSpPr/>
                    <p:nvPr/>
                  </p:nvSpPr>
                  <p:spPr>
                    <a:xfrm>
                      <a:off x="6941880" y="2266920"/>
                      <a:ext cx="15480" cy="14400"/>
                    </a:xfrm>
                    <a:custGeom>
                      <a:avLst/>
                      <a:gdLst>
                        <a:gd name="textAreaLeft" fmla="*/ 0 w 15480"/>
                        <a:gd name="textAreaRight" fmla="*/ 15840 w 1548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9" h="9">
                          <a:moveTo>
                            <a:pt x="9" y="9"/>
                          </a:moveTo>
                          <a:lnTo>
                            <a:pt x="2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8" name="Freeform 95"/>
                    <p:cNvSpPr/>
                    <p:nvPr/>
                  </p:nvSpPr>
                  <p:spPr>
                    <a:xfrm>
                      <a:off x="6916320" y="2238480"/>
                      <a:ext cx="13320" cy="14040"/>
                    </a:xfrm>
                    <a:custGeom>
                      <a:avLst/>
                      <a:gdLst>
                        <a:gd name="textAreaLeft" fmla="*/ 0 w 13320"/>
                        <a:gd name="textAreaRight" fmla="*/ 13680 w 13320"/>
                        <a:gd name="textAreaTop" fmla="*/ 0 h 14040"/>
                        <a:gd name="textAreaBottom" fmla="*/ 14400 h 14040"/>
                      </a:gdLst>
                      <a:ahLst/>
                      <a:rect l="textAreaLeft" t="textAreaTop" r="textAreaRight" b="textAreaBottom"/>
                      <a:pathLst>
                        <a:path w="8" h="9">
                          <a:moveTo>
                            <a:pt x="8" y="9"/>
                          </a:moveTo>
                          <a:lnTo>
                            <a:pt x="2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Freeform 96"/>
                    <p:cNvSpPr/>
                    <p:nvPr/>
                  </p:nvSpPr>
                  <p:spPr>
                    <a:xfrm>
                      <a:off x="6880320" y="2220840"/>
                      <a:ext cx="18720" cy="7920"/>
                    </a:xfrm>
                    <a:custGeom>
                      <a:avLst/>
                      <a:gdLst>
                        <a:gd name="textAreaLeft" fmla="*/ 0 w 18720"/>
                        <a:gd name="textAreaRight" fmla="*/ 19080 w 18720"/>
                        <a:gd name="textAreaTop" fmla="*/ 0 h 7920"/>
                        <a:gd name="textAreaBottom" fmla="*/ 8280 h 7920"/>
                      </a:gdLst>
                      <a:ahLst/>
                      <a:rect l="textAreaLeft" t="textAreaTop" r="textAreaRight" b="textAreaBottom"/>
                      <a:pathLst>
                        <a:path w="11" h="5">
                          <a:moveTo>
                            <a:pt x="11" y="5"/>
                          </a:moveTo>
                          <a:lnTo>
                            <a:pt x="3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Line 97"/>
                    <p:cNvSpPr/>
                    <p:nvPr/>
                  </p:nvSpPr>
                  <p:spPr>
                    <a:xfrm flipH="1" flipV="1">
                      <a:off x="6846120" y="2206080"/>
                      <a:ext cx="18720" cy="32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Freeform 98"/>
                    <p:cNvSpPr/>
                    <p:nvPr/>
                  </p:nvSpPr>
                  <p:spPr>
                    <a:xfrm>
                      <a:off x="6805080" y="2209680"/>
                      <a:ext cx="2052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" h="0">
                          <a:moveTo>
                            <a:pt x="12" y="0"/>
                          </a:moveTo>
                          <a:lnTo>
                            <a:pt x="1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2" name="Freeform 99"/>
                    <p:cNvSpPr/>
                    <p:nvPr/>
                  </p:nvSpPr>
                  <p:spPr>
                    <a:xfrm>
                      <a:off x="6763680" y="2206440"/>
                      <a:ext cx="20520" cy="5040"/>
                    </a:xfrm>
                    <a:custGeom>
                      <a:avLst/>
                      <a:gdLst>
                        <a:gd name="textAreaLeft" fmla="*/ 0 w 20520"/>
                        <a:gd name="textAreaRight" fmla="*/ 20880 w 20520"/>
                        <a:gd name="textAreaTop" fmla="*/ 0 h 5040"/>
                        <a:gd name="textAreaBottom" fmla="*/ 5400 h 5040"/>
                      </a:gdLst>
                      <a:ahLst/>
                      <a:rect l="textAreaLeft" t="textAreaTop" r="textAreaRight" b="textAreaBottom"/>
                      <a:pathLst>
                        <a:path w="12" h="3">
                          <a:moveTo>
                            <a:pt x="12" y="3"/>
                          </a:moveTo>
                          <a:lnTo>
                            <a:pt x="9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3" name="Freeform 100"/>
                    <p:cNvSpPr/>
                    <p:nvPr/>
                  </p:nvSpPr>
                  <p:spPr>
                    <a:xfrm>
                      <a:off x="6728040" y="2190600"/>
                      <a:ext cx="16920" cy="9720"/>
                    </a:xfrm>
                    <a:custGeom>
                      <a:avLst/>
                      <a:gdLst>
                        <a:gd name="textAreaLeft" fmla="*/ 0 w 16920"/>
                        <a:gd name="textAreaRight" fmla="*/ 17280 w 16920"/>
                        <a:gd name="textAreaTop" fmla="*/ 0 h 9720"/>
                        <a:gd name="textAreaBottom" fmla="*/ 10080 h 9720"/>
                      </a:gdLst>
                      <a:ahLst/>
                      <a:rect l="textAreaLeft" t="textAreaTop" r="textAreaRight" b="textAreaBottom"/>
                      <a:pathLst>
                        <a:path w="10" h="6">
                          <a:moveTo>
                            <a:pt x="10" y="6"/>
                          </a:moveTo>
                          <a:lnTo>
                            <a:pt x="4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4" name="Freeform 101"/>
                    <p:cNvSpPr/>
                    <p:nvPr/>
                  </p:nvSpPr>
                  <p:spPr>
                    <a:xfrm>
                      <a:off x="6688800" y="2173320"/>
                      <a:ext cx="20520" cy="9360"/>
                    </a:xfrm>
                    <a:custGeom>
                      <a:avLst/>
                      <a:gdLst>
                        <a:gd name="textAreaLeft" fmla="*/ 0 w 20520"/>
                        <a:gd name="textAreaRight" fmla="*/ 20880 w 20520"/>
                        <a:gd name="textAreaTop" fmla="*/ 0 h 9360"/>
                        <a:gd name="textAreaBottom" fmla="*/ 9720 h 9360"/>
                      </a:gdLst>
                      <a:ahLst/>
                      <a:rect l="textAreaLeft" t="textAreaTop" r="textAreaRight" b="textAreaBottom"/>
                      <a:pathLst>
                        <a:path w="12" h="6">
                          <a:moveTo>
                            <a:pt x="12" y="6"/>
                          </a:moveTo>
                          <a:lnTo>
                            <a:pt x="5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5" name="Freeform 102"/>
                    <p:cNvSpPr/>
                    <p:nvPr/>
                  </p:nvSpPr>
                  <p:spPr>
                    <a:xfrm>
                      <a:off x="6692040" y="2144520"/>
                      <a:ext cx="11880" cy="17640"/>
                    </a:xfrm>
                    <a:custGeom>
                      <a:avLst/>
                      <a:gdLst>
                        <a:gd name="textAreaLeft" fmla="*/ 0 w 11880"/>
                        <a:gd name="textAreaRight" fmla="*/ 12240 w 11880"/>
                        <a:gd name="textAreaTop" fmla="*/ 0 h 17640"/>
                        <a:gd name="textAreaBottom" fmla="*/ 18000 h 17640"/>
                      </a:gdLst>
                      <a:ahLst/>
                      <a:rect l="textAreaLeft" t="textAreaTop" r="textAreaRight" b="textAreaBottom"/>
                      <a:pathLst>
                        <a:path w="7" h="11">
                          <a:moveTo>
                            <a:pt x="0" y="11"/>
                          </a:moveTo>
                          <a:lnTo>
                            <a:pt x="0" y="9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6" name="Line 103"/>
                    <p:cNvSpPr/>
                    <p:nvPr/>
                  </p:nvSpPr>
                  <p:spPr>
                    <a:xfrm flipV="1">
                      <a:off x="6717600" y="2114640"/>
                      <a:ext cx="11880" cy="158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7" name="Line 104"/>
                    <p:cNvSpPr/>
                    <p:nvPr/>
                  </p:nvSpPr>
                  <p:spPr>
                    <a:xfrm flipV="1">
                      <a:off x="6743520" y="2085840"/>
                      <a:ext cx="11520" cy="1440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8" name="Line 105"/>
                    <p:cNvSpPr/>
                    <p:nvPr/>
                  </p:nvSpPr>
                  <p:spPr>
                    <a:xfrm flipV="1">
                      <a:off x="6765840" y="2055600"/>
                      <a:ext cx="13320" cy="1440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9" name="Line 106"/>
                    <p:cNvSpPr/>
                    <p:nvPr/>
                  </p:nvSpPr>
                  <p:spPr>
                    <a:xfrm flipV="1">
                      <a:off x="6791400" y="201888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0" name="Line 107"/>
                    <p:cNvSpPr/>
                    <p:nvPr/>
                  </p:nvSpPr>
                  <p:spPr>
                    <a:xfrm flipV="1">
                      <a:off x="6791400" y="198072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1" name="Line 108"/>
                    <p:cNvSpPr/>
                    <p:nvPr/>
                  </p:nvSpPr>
                  <p:spPr>
                    <a:xfrm flipV="1">
                      <a:off x="6789960" y="194256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2" name="Line 109"/>
                    <p:cNvSpPr/>
                    <p:nvPr/>
                  </p:nvSpPr>
                  <p:spPr>
                    <a:xfrm flipV="1">
                      <a:off x="6789960" y="1905120"/>
                      <a:ext cx="0" cy="1872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3" name="Line 110"/>
                    <p:cNvSpPr/>
                    <p:nvPr/>
                  </p:nvSpPr>
                  <p:spPr>
                    <a:xfrm flipV="1">
                      <a:off x="6789960" y="186660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4" name="Line 111"/>
                    <p:cNvSpPr/>
                    <p:nvPr/>
                  </p:nvSpPr>
                  <p:spPr>
                    <a:xfrm flipV="1">
                      <a:off x="6791400" y="1834920"/>
                      <a:ext cx="15480" cy="1440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5" name="Line 112"/>
                    <p:cNvSpPr/>
                    <p:nvPr/>
                  </p:nvSpPr>
                  <p:spPr>
                    <a:xfrm flipV="1">
                      <a:off x="6822000" y="1821960"/>
                      <a:ext cx="20520" cy="46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6" name="Line 113"/>
                    <p:cNvSpPr/>
                    <p:nvPr/>
                  </p:nvSpPr>
                  <p:spPr>
                    <a:xfrm flipV="1">
                      <a:off x="6863040" y="1815840"/>
                      <a:ext cx="20520" cy="46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7" name="Line 114"/>
                    <p:cNvSpPr/>
                    <p:nvPr/>
                  </p:nvSpPr>
                  <p:spPr>
                    <a:xfrm flipV="1">
                      <a:off x="6890760" y="1782360"/>
                      <a:ext cx="324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8" name="Line 115"/>
                    <p:cNvSpPr/>
                    <p:nvPr/>
                  </p:nvSpPr>
                  <p:spPr>
                    <a:xfrm flipV="1">
                      <a:off x="6895800" y="1744200"/>
                      <a:ext cx="504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9" name="Line 116"/>
                    <p:cNvSpPr/>
                    <p:nvPr/>
                  </p:nvSpPr>
                  <p:spPr>
                    <a:xfrm flipV="1">
                      <a:off x="6904080" y="1706040"/>
                      <a:ext cx="504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0" name="Line 117"/>
                    <p:cNvSpPr/>
                    <p:nvPr/>
                  </p:nvSpPr>
                  <p:spPr>
                    <a:xfrm flipV="1">
                      <a:off x="6911280" y="1670040"/>
                      <a:ext cx="2880" cy="172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1" name="Freeform 118"/>
                    <p:cNvSpPr/>
                    <p:nvPr/>
                  </p:nvSpPr>
                  <p:spPr>
                    <a:xfrm>
                      <a:off x="6919920" y="1635120"/>
                      <a:ext cx="6480" cy="15840"/>
                    </a:xfrm>
                    <a:custGeom>
                      <a:avLst/>
                      <a:gdLst>
                        <a:gd name="textAreaLeft" fmla="*/ 0 w 6480"/>
                        <a:gd name="textAreaRight" fmla="*/ 6840 w 648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4" h="10">
                          <a:moveTo>
                            <a:pt x="0" y="10"/>
                          </a:moveTo>
                          <a:lnTo>
                            <a:pt x="1" y="1"/>
                          </a:lnTo>
                          <a:lnTo>
                            <a:pt x="4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2" name="Line 119"/>
                    <p:cNvSpPr/>
                    <p:nvPr/>
                  </p:nvSpPr>
                  <p:spPr>
                    <a:xfrm flipV="1">
                      <a:off x="6936840" y="160128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3" name="Line 120"/>
                    <p:cNvSpPr/>
                    <p:nvPr/>
                  </p:nvSpPr>
                  <p:spPr>
                    <a:xfrm flipV="1">
                      <a:off x="6935040" y="156312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4" name="Line 121"/>
                    <p:cNvSpPr/>
                    <p:nvPr/>
                  </p:nvSpPr>
                  <p:spPr>
                    <a:xfrm flipV="1">
                      <a:off x="6935040" y="152532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5" name="Line 122"/>
                    <p:cNvSpPr/>
                    <p:nvPr/>
                  </p:nvSpPr>
                  <p:spPr>
                    <a:xfrm flipV="1">
                      <a:off x="6931800" y="1487520"/>
                      <a:ext cx="0" cy="172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6" name="Line 123"/>
                    <p:cNvSpPr/>
                    <p:nvPr/>
                  </p:nvSpPr>
                  <p:spPr>
                    <a:xfrm flipV="1">
                      <a:off x="6931800" y="1447560"/>
                      <a:ext cx="0" cy="2052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7" name="Line 124"/>
                    <p:cNvSpPr/>
                    <p:nvPr/>
                  </p:nvSpPr>
                  <p:spPr>
                    <a:xfrm flipH="1" flipV="1">
                      <a:off x="6908760" y="1415520"/>
                      <a:ext cx="11880" cy="176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8" name="Line 125"/>
                    <p:cNvSpPr/>
                    <p:nvPr/>
                  </p:nvSpPr>
                  <p:spPr>
                    <a:xfrm flipH="1" flipV="1">
                      <a:off x="6885720" y="1386000"/>
                      <a:ext cx="10080" cy="158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9" name="Line 126"/>
                    <p:cNvSpPr/>
                    <p:nvPr/>
                  </p:nvSpPr>
                  <p:spPr>
                    <a:xfrm flipV="1">
                      <a:off x="6885720" y="1355760"/>
                      <a:ext cx="13320" cy="158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0" name="Line 127"/>
                    <p:cNvSpPr/>
                    <p:nvPr/>
                  </p:nvSpPr>
                  <p:spPr>
                    <a:xfrm flipV="1">
                      <a:off x="6911280" y="1326960"/>
                      <a:ext cx="13320" cy="1440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1" name="Line 128"/>
                    <p:cNvSpPr/>
                    <p:nvPr/>
                  </p:nvSpPr>
                  <p:spPr>
                    <a:xfrm flipV="1">
                      <a:off x="6930000" y="1289160"/>
                      <a:ext cx="1800" cy="1872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2" name="Freeform 129"/>
                    <p:cNvSpPr/>
                    <p:nvPr/>
                  </p:nvSpPr>
                  <p:spPr>
                    <a:xfrm>
                      <a:off x="6931800" y="1266840"/>
                      <a:ext cx="15120" cy="12600"/>
                    </a:xfrm>
                    <a:custGeom>
                      <a:avLst/>
                      <a:gdLst>
                        <a:gd name="textAreaLeft" fmla="*/ 0 w 15120"/>
                        <a:gd name="textAreaRight" fmla="*/ 15480 w 15120"/>
                        <a:gd name="textAreaTop" fmla="*/ 0 h 12600"/>
                        <a:gd name="textAreaBottom" fmla="*/ 12960 h 12600"/>
                      </a:gdLst>
                      <a:ahLst/>
                      <a:rect l="textAreaLeft" t="textAreaTop" r="textAreaRight" b="textAreaBottom"/>
                      <a:pathLst>
                        <a:path w="9" h="8">
                          <a:moveTo>
                            <a:pt x="0" y="2"/>
                          </a:moveTo>
                          <a:lnTo>
                            <a:pt x="2" y="0"/>
                          </a:lnTo>
                          <a:lnTo>
                            <a:pt x="9" y="8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3" name="Line 130"/>
                    <p:cNvSpPr/>
                    <p:nvPr/>
                  </p:nvSpPr>
                  <p:spPr>
                    <a:xfrm>
                      <a:off x="6960960" y="1293840"/>
                      <a:ext cx="15120" cy="1116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4" name="Freeform 131"/>
                    <p:cNvSpPr/>
                    <p:nvPr/>
                  </p:nvSpPr>
                  <p:spPr>
                    <a:xfrm>
                      <a:off x="6991560" y="1319040"/>
                      <a:ext cx="15480" cy="12960"/>
                    </a:xfrm>
                    <a:custGeom>
                      <a:avLst/>
                      <a:gdLst>
                        <a:gd name="textAreaLeft" fmla="*/ 0 w 15480"/>
                        <a:gd name="textAreaRight" fmla="*/ 15840 w 15480"/>
                        <a:gd name="textAreaTop" fmla="*/ 0 h 12960"/>
                        <a:gd name="textAreaBottom" fmla="*/ 13320 h 12960"/>
                      </a:gdLst>
                      <a:ahLst/>
                      <a:rect l="textAreaLeft" t="textAreaTop" r="textAreaRight" b="textAreaBottom"/>
                      <a:pathLst>
                        <a:path w="9" h="8">
                          <a:moveTo>
                            <a:pt x="0" y="0"/>
                          </a:moveTo>
                          <a:lnTo>
                            <a:pt x="4" y="5"/>
                          </a:lnTo>
                          <a:lnTo>
                            <a:pt x="9" y="8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480" bIns="-33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5" name="Line 132"/>
                    <p:cNvSpPr/>
                    <p:nvPr/>
                  </p:nvSpPr>
                  <p:spPr>
                    <a:xfrm>
                      <a:off x="7022160" y="1346040"/>
                      <a:ext cx="15480" cy="1116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6" name="Line 133"/>
                    <p:cNvSpPr/>
                    <p:nvPr/>
                  </p:nvSpPr>
                  <p:spPr>
                    <a:xfrm>
                      <a:off x="7049520" y="1371600"/>
                      <a:ext cx="15480" cy="1440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7" name="Line 134"/>
                    <p:cNvSpPr/>
                    <p:nvPr/>
                  </p:nvSpPr>
                  <p:spPr>
                    <a:xfrm>
                      <a:off x="7080480" y="1395360"/>
                      <a:ext cx="16920" cy="936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8" name="Line 135"/>
                    <p:cNvSpPr/>
                    <p:nvPr/>
                  </p:nvSpPr>
                  <p:spPr>
                    <a:xfrm>
                      <a:off x="7116480" y="1414440"/>
                      <a:ext cx="16920" cy="936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9" name="Freeform 136"/>
                    <p:cNvSpPr/>
                    <p:nvPr/>
                  </p:nvSpPr>
                  <p:spPr>
                    <a:xfrm>
                      <a:off x="7148880" y="1438200"/>
                      <a:ext cx="13320" cy="14400"/>
                    </a:xfrm>
                    <a:custGeom>
                      <a:avLst/>
                      <a:gdLst>
                        <a:gd name="textAreaLeft" fmla="*/ 0 w 13320"/>
                        <a:gd name="textAreaRight" fmla="*/ 13680 w 1332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8" h="9">
                          <a:moveTo>
                            <a:pt x="0" y="0"/>
                          </a:moveTo>
                          <a:lnTo>
                            <a:pt x="3" y="4"/>
                          </a:lnTo>
                          <a:lnTo>
                            <a:pt x="8" y="9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0" name="Line 137"/>
                    <p:cNvSpPr/>
                    <p:nvPr/>
                  </p:nvSpPr>
                  <p:spPr>
                    <a:xfrm>
                      <a:off x="7174440" y="1468440"/>
                      <a:ext cx="13320" cy="1440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1" name="Line 138"/>
                    <p:cNvSpPr/>
                    <p:nvPr/>
                  </p:nvSpPr>
                  <p:spPr>
                    <a:xfrm>
                      <a:off x="7200000" y="1496880"/>
                      <a:ext cx="13320" cy="176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2" name="Line 139"/>
                    <p:cNvSpPr/>
                    <p:nvPr/>
                  </p:nvSpPr>
                  <p:spPr>
                    <a:xfrm>
                      <a:off x="7225560" y="1525680"/>
                      <a:ext cx="20520" cy="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3" name="Line 140"/>
                    <p:cNvSpPr/>
                    <p:nvPr/>
                  </p:nvSpPr>
                  <p:spPr>
                    <a:xfrm>
                      <a:off x="7266960" y="1523880"/>
                      <a:ext cx="20520" cy="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4" name="Line 141"/>
                    <p:cNvSpPr/>
                    <p:nvPr/>
                  </p:nvSpPr>
                  <p:spPr>
                    <a:xfrm>
                      <a:off x="7308000" y="1520640"/>
                      <a:ext cx="20520" cy="792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5" name="Line 142"/>
                    <p:cNvSpPr/>
                    <p:nvPr/>
                  </p:nvSpPr>
                  <p:spPr>
                    <a:xfrm>
                      <a:off x="7345440" y="1533600"/>
                      <a:ext cx="20520" cy="46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6" name="Line 143"/>
                    <p:cNvSpPr/>
                    <p:nvPr/>
                  </p:nvSpPr>
                  <p:spPr>
                    <a:xfrm>
                      <a:off x="7386840" y="1544760"/>
                      <a:ext cx="5040" cy="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7" name="Freeform 144"/>
                    <p:cNvSpPr/>
                    <p:nvPr/>
                  </p:nvSpPr>
                  <p:spPr>
                    <a:xfrm>
                      <a:off x="7451280" y="1449360"/>
                      <a:ext cx="868680" cy="1217520"/>
                    </a:xfrm>
                    <a:custGeom>
                      <a:avLst/>
                      <a:gdLst>
                        <a:gd name="textAreaLeft" fmla="*/ 0 w 868680"/>
                        <a:gd name="textAreaRight" fmla="*/ 869040 w 868680"/>
                        <a:gd name="textAreaTop" fmla="*/ 0 h 1217520"/>
                        <a:gd name="textAreaBottom" fmla="*/ 1217880 h 1217520"/>
                      </a:gdLst>
                      <a:ahLst/>
                      <a:rect l="textAreaLeft" t="textAreaTop" r="textAreaRight" b="textAreaBottom"/>
                      <a:pathLst>
                        <a:path w="508" h="767">
                          <a:moveTo>
                            <a:pt x="260" y="33"/>
                          </a:moveTo>
                          <a:lnTo>
                            <a:pt x="261" y="41"/>
                          </a:lnTo>
                          <a:lnTo>
                            <a:pt x="264" y="51"/>
                          </a:lnTo>
                          <a:lnTo>
                            <a:pt x="267" y="66"/>
                          </a:lnTo>
                          <a:lnTo>
                            <a:pt x="269" y="77"/>
                          </a:lnTo>
                          <a:lnTo>
                            <a:pt x="270" y="81"/>
                          </a:lnTo>
                          <a:lnTo>
                            <a:pt x="273" y="95"/>
                          </a:lnTo>
                          <a:lnTo>
                            <a:pt x="279" y="108"/>
                          </a:lnTo>
                          <a:lnTo>
                            <a:pt x="291" y="117"/>
                          </a:lnTo>
                          <a:lnTo>
                            <a:pt x="297" y="123"/>
                          </a:lnTo>
                          <a:lnTo>
                            <a:pt x="301" y="132"/>
                          </a:lnTo>
                          <a:lnTo>
                            <a:pt x="306" y="138"/>
                          </a:lnTo>
                          <a:lnTo>
                            <a:pt x="309" y="141"/>
                          </a:lnTo>
                          <a:lnTo>
                            <a:pt x="319" y="148"/>
                          </a:lnTo>
                          <a:lnTo>
                            <a:pt x="330" y="157"/>
                          </a:lnTo>
                          <a:lnTo>
                            <a:pt x="325" y="280"/>
                          </a:lnTo>
                          <a:lnTo>
                            <a:pt x="333" y="284"/>
                          </a:lnTo>
                          <a:lnTo>
                            <a:pt x="340" y="289"/>
                          </a:lnTo>
                          <a:lnTo>
                            <a:pt x="343" y="293"/>
                          </a:lnTo>
                          <a:lnTo>
                            <a:pt x="348" y="304"/>
                          </a:lnTo>
                          <a:lnTo>
                            <a:pt x="349" y="310"/>
                          </a:lnTo>
                          <a:lnTo>
                            <a:pt x="357" y="308"/>
                          </a:lnTo>
                          <a:lnTo>
                            <a:pt x="366" y="310"/>
                          </a:lnTo>
                          <a:lnTo>
                            <a:pt x="376" y="308"/>
                          </a:lnTo>
                          <a:lnTo>
                            <a:pt x="388" y="307"/>
                          </a:lnTo>
                          <a:lnTo>
                            <a:pt x="395" y="311"/>
                          </a:lnTo>
                          <a:lnTo>
                            <a:pt x="400" y="319"/>
                          </a:lnTo>
                          <a:lnTo>
                            <a:pt x="407" y="328"/>
                          </a:lnTo>
                          <a:lnTo>
                            <a:pt x="416" y="329"/>
                          </a:lnTo>
                          <a:lnTo>
                            <a:pt x="427" y="326"/>
                          </a:lnTo>
                          <a:lnTo>
                            <a:pt x="434" y="322"/>
                          </a:lnTo>
                          <a:lnTo>
                            <a:pt x="442" y="319"/>
                          </a:lnTo>
                          <a:lnTo>
                            <a:pt x="451" y="320"/>
                          </a:lnTo>
                          <a:lnTo>
                            <a:pt x="455" y="325"/>
                          </a:lnTo>
                          <a:lnTo>
                            <a:pt x="458" y="329"/>
                          </a:lnTo>
                          <a:lnTo>
                            <a:pt x="460" y="340"/>
                          </a:lnTo>
                          <a:lnTo>
                            <a:pt x="461" y="352"/>
                          </a:lnTo>
                          <a:lnTo>
                            <a:pt x="454" y="361"/>
                          </a:lnTo>
                          <a:lnTo>
                            <a:pt x="443" y="368"/>
                          </a:lnTo>
                          <a:lnTo>
                            <a:pt x="437" y="377"/>
                          </a:lnTo>
                          <a:lnTo>
                            <a:pt x="437" y="386"/>
                          </a:lnTo>
                          <a:lnTo>
                            <a:pt x="436" y="403"/>
                          </a:lnTo>
                          <a:lnTo>
                            <a:pt x="436" y="410"/>
                          </a:lnTo>
                          <a:lnTo>
                            <a:pt x="439" y="416"/>
                          </a:lnTo>
                          <a:lnTo>
                            <a:pt x="443" y="429"/>
                          </a:lnTo>
                          <a:lnTo>
                            <a:pt x="449" y="438"/>
                          </a:lnTo>
                          <a:lnTo>
                            <a:pt x="458" y="441"/>
                          </a:lnTo>
                          <a:lnTo>
                            <a:pt x="467" y="438"/>
                          </a:lnTo>
                          <a:lnTo>
                            <a:pt x="476" y="443"/>
                          </a:lnTo>
                          <a:lnTo>
                            <a:pt x="487" y="444"/>
                          </a:lnTo>
                          <a:lnTo>
                            <a:pt x="499" y="446"/>
                          </a:lnTo>
                          <a:lnTo>
                            <a:pt x="505" y="446"/>
                          </a:lnTo>
                          <a:lnTo>
                            <a:pt x="508" y="447"/>
                          </a:lnTo>
                          <a:lnTo>
                            <a:pt x="508" y="452"/>
                          </a:lnTo>
                          <a:lnTo>
                            <a:pt x="505" y="458"/>
                          </a:lnTo>
                          <a:lnTo>
                            <a:pt x="502" y="467"/>
                          </a:lnTo>
                          <a:lnTo>
                            <a:pt x="494" y="476"/>
                          </a:lnTo>
                          <a:lnTo>
                            <a:pt x="491" y="485"/>
                          </a:lnTo>
                          <a:lnTo>
                            <a:pt x="485" y="497"/>
                          </a:lnTo>
                          <a:lnTo>
                            <a:pt x="473" y="497"/>
                          </a:lnTo>
                          <a:lnTo>
                            <a:pt x="460" y="498"/>
                          </a:lnTo>
                          <a:lnTo>
                            <a:pt x="449" y="512"/>
                          </a:lnTo>
                          <a:lnTo>
                            <a:pt x="449" y="527"/>
                          </a:lnTo>
                          <a:lnTo>
                            <a:pt x="449" y="539"/>
                          </a:lnTo>
                          <a:lnTo>
                            <a:pt x="451" y="545"/>
                          </a:lnTo>
                          <a:lnTo>
                            <a:pt x="454" y="564"/>
                          </a:lnTo>
                          <a:lnTo>
                            <a:pt x="454" y="588"/>
                          </a:lnTo>
                          <a:lnTo>
                            <a:pt x="454" y="613"/>
                          </a:lnTo>
                          <a:lnTo>
                            <a:pt x="455" y="637"/>
                          </a:lnTo>
                          <a:lnTo>
                            <a:pt x="452" y="645"/>
                          </a:lnTo>
                          <a:lnTo>
                            <a:pt x="440" y="654"/>
                          </a:lnTo>
                          <a:lnTo>
                            <a:pt x="421" y="649"/>
                          </a:lnTo>
                          <a:lnTo>
                            <a:pt x="388" y="649"/>
                          </a:lnTo>
                          <a:lnTo>
                            <a:pt x="369" y="645"/>
                          </a:lnTo>
                          <a:lnTo>
                            <a:pt x="364" y="642"/>
                          </a:lnTo>
                          <a:lnTo>
                            <a:pt x="339" y="630"/>
                          </a:lnTo>
                          <a:lnTo>
                            <a:pt x="316" y="621"/>
                          </a:lnTo>
                          <a:lnTo>
                            <a:pt x="289" y="633"/>
                          </a:lnTo>
                          <a:lnTo>
                            <a:pt x="285" y="636"/>
                          </a:lnTo>
                          <a:lnTo>
                            <a:pt x="270" y="657"/>
                          </a:lnTo>
                          <a:lnTo>
                            <a:pt x="267" y="682"/>
                          </a:lnTo>
                          <a:lnTo>
                            <a:pt x="267" y="690"/>
                          </a:lnTo>
                          <a:lnTo>
                            <a:pt x="273" y="715"/>
                          </a:lnTo>
                          <a:lnTo>
                            <a:pt x="279" y="739"/>
                          </a:lnTo>
                          <a:lnTo>
                            <a:pt x="271" y="752"/>
                          </a:lnTo>
                          <a:lnTo>
                            <a:pt x="267" y="767"/>
                          </a:lnTo>
                          <a:lnTo>
                            <a:pt x="254" y="758"/>
                          </a:lnTo>
                          <a:lnTo>
                            <a:pt x="243" y="751"/>
                          </a:lnTo>
                          <a:lnTo>
                            <a:pt x="231" y="752"/>
                          </a:lnTo>
                          <a:lnTo>
                            <a:pt x="212" y="757"/>
                          </a:lnTo>
                          <a:lnTo>
                            <a:pt x="200" y="748"/>
                          </a:lnTo>
                          <a:lnTo>
                            <a:pt x="195" y="752"/>
                          </a:lnTo>
                          <a:lnTo>
                            <a:pt x="188" y="754"/>
                          </a:lnTo>
                          <a:lnTo>
                            <a:pt x="177" y="751"/>
                          </a:lnTo>
                          <a:lnTo>
                            <a:pt x="162" y="746"/>
                          </a:lnTo>
                          <a:lnTo>
                            <a:pt x="146" y="739"/>
                          </a:lnTo>
                          <a:lnTo>
                            <a:pt x="134" y="737"/>
                          </a:lnTo>
                          <a:lnTo>
                            <a:pt x="130" y="737"/>
                          </a:lnTo>
                          <a:lnTo>
                            <a:pt x="109" y="743"/>
                          </a:lnTo>
                          <a:lnTo>
                            <a:pt x="89" y="739"/>
                          </a:lnTo>
                          <a:lnTo>
                            <a:pt x="79" y="739"/>
                          </a:lnTo>
                          <a:lnTo>
                            <a:pt x="61" y="743"/>
                          </a:lnTo>
                          <a:lnTo>
                            <a:pt x="46" y="742"/>
                          </a:lnTo>
                          <a:lnTo>
                            <a:pt x="25" y="742"/>
                          </a:lnTo>
                          <a:lnTo>
                            <a:pt x="1" y="737"/>
                          </a:lnTo>
                          <a:lnTo>
                            <a:pt x="0" y="730"/>
                          </a:lnTo>
                          <a:lnTo>
                            <a:pt x="3" y="724"/>
                          </a:lnTo>
                          <a:lnTo>
                            <a:pt x="94" y="618"/>
                          </a:lnTo>
                          <a:lnTo>
                            <a:pt x="94" y="536"/>
                          </a:lnTo>
                          <a:lnTo>
                            <a:pt x="71" y="518"/>
                          </a:lnTo>
                          <a:lnTo>
                            <a:pt x="44" y="497"/>
                          </a:lnTo>
                          <a:lnTo>
                            <a:pt x="40" y="479"/>
                          </a:lnTo>
                          <a:lnTo>
                            <a:pt x="40" y="461"/>
                          </a:lnTo>
                          <a:lnTo>
                            <a:pt x="44" y="438"/>
                          </a:lnTo>
                          <a:lnTo>
                            <a:pt x="62" y="413"/>
                          </a:lnTo>
                          <a:lnTo>
                            <a:pt x="82" y="386"/>
                          </a:lnTo>
                          <a:lnTo>
                            <a:pt x="79" y="364"/>
                          </a:lnTo>
                          <a:lnTo>
                            <a:pt x="88" y="350"/>
                          </a:lnTo>
                          <a:lnTo>
                            <a:pt x="103" y="332"/>
                          </a:lnTo>
                          <a:lnTo>
                            <a:pt x="116" y="316"/>
                          </a:lnTo>
                          <a:lnTo>
                            <a:pt x="121" y="301"/>
                          </a:lnTo>
                          <a:lnTo>
                            <a:pt x="128" y="284"/>
                          </a:lnTo>
                          <a:lnTo>
                            <a:pt x="125" y="271"/>
                          </a:lnTo>
                          <a:lnTo>
                            <a:pt x="136" y="253"/>
                          </a:lnTo>
                          <a:lnTo>
                            <a:pt x="159" y="231"/>
                          </a:lnTo>
                          <a:lnTo>
                            <a:pt x="124" y="205"/>
                          </a:lnTo>
                          <a:lnTo>
                            <a:pt x="104" y="207"/>
                          </a:lnTo>
                          <a:lnTo>
                            <a:pt x="89" y="184"/>
                          </a:lnTo>
                          <a:lnTo>
                            <a:pt x="122" y="115"/>
                          </a:lnTo>
                          <a:lnTo>
                            <a:pt x="109" y="81"/>
                          </a:lnTo>
                          <a:lnTo>
                            <a:pt x="103" y="60"/>
                          </a:lnTo>
                          <a:lnTo>
                            <a:pt x="106" y="59"/>
                          </a:lnTo>
                          <a:lnTo>
                            <a:pt x="119" y="56"/>
                          </a:lnTo>
                          <a:lnTo>
                            <a:pt x="121" y="51"/>
                          </a:lnTo>
                          <a:lnTo>
                            <a:pt x="127" y="3"/>
                          </a:lnTo>
                          <a:lnTo>
                            <a:pt x="133" y="2"/>
                          </a:lnTo>
                          <a:lnTo>
                            <a:pt x="146" y="0"/>
                          </a:lnTo>
                          <a:lnTo>
                            <a:pt x="159" y="5"/>
                          </a:lnTo>
                          <a:lnTo>
                            <a:pt x="165" y="8"/>
                          </a:lnTo>
                          <a:lnTo>
                            <a:pt x="180" y="15"/>
                          </a:lnTo>
                          <a:lnTo>
                            <a:pt x="194" y="23"/>
                          </a:lnTo>
                          <a:lnTo>
                            <a:pt x="210" y="23"/>
                          </a:lnTo>
                          <a:lnTo>
                            <a:pt x="224" y="21"/>
                          </a:lnTo>
                          <a:lnTo>
                            <a:pt x="233" y="26"/>
                          </a:lnTo>
                          <a:lnTo>
                            <a:pt x="237" y="29"/>
                          </a:lnTo>
                          <a:lnTo>
                            <a:pt x="246" y="35"/>
                          </a:lnTo>
                          <a:lnTo>
                            <a:pt x="254" y="33"/>
                          </a:lnTo>
                          <a:lnTo>
                            <a:pt x="260" y="33"/>
                          </a:lnTo>
                          <a:close/>
                        </a:path>
                      </a:pathLst>
                    </a:custGeom>
                    <a:solidFill>
                      <a:srgbClr val="e9ffb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8" name="Freeform 145"/>
                    <p:cNvSpPr/>
                    <p:nvPr/>
                  </p:nvSpPr>
                  <p:spPr>
                    <a:xfrm>
                      <a:off x="7896240" y="1501560"/>
                      <a:ext cx="5040" cy="17640"/>
                    </a:xfrm>
                    <a:custGeom>
                      <a:avLst/>
                      <a:gdLst>
                        <a:gd name="textAreaLeft" fmla="*/ 0 w 5040"/>
                        <a:gd name="textAreaRight" fmla="*/ 5400 w 5040"/>
                        <a:gd name="textAreaTop" fmla="*/ 0 h 17640"/>
                        <a:gd name="textAreaBottom" fmla="*/ 18000 h 17640"/>
                      </a:gdLst>
                      <a:ahLst/>
                      <a:rect l="textAreaLeft" t="textAreaTop" r="textAreaRight" b="textAreaBottom"/>
                      <a:pathLst>
                        <a:path w="3" h="11">
                          <a:moveTo>
                            <a:pt x="0" y="0"/>
                          </a:moveTo>
                          <a:lnTo>
                            <a:pt x="1" y="8"/>
                          </a:lnTo>
                          <a:lnTo>
                            <a:pt x="3" y="11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9" name="Freeform 146"/>
                    <p:cNvSpPr/>
                    <p:nvPr/>
                  </p:nvSpPr>
                  <p:spPr>
                    <a:xfrm>
                      <a:off x="7906320" y="1538280"/>
                      <a:ext cx="1800" cy="19080"/>
                    </a:xfrm>
                    <a:custGeom>
                      <a:avLst/>
                      <a:gdLst>
                        <a:gd name="textAreaLeft" fmla="*/ 0 w 1800"/>
                        <a:gd name="textAreaRight" fmla="*/ 2160 w 180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1" h="12">
                          <a:moveTo>
                            <a:pt x="0" y="0"/>
                          </a:moveTo>
                          <a:lnTo>
                            <a:pt x="1" y="10"/>
                          </a:lnTo>
                          <a:lnTo>
                            <a:pt x="1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0" name="Freeform 147"/>
                    <p:cNvSpPr/>
                    <p:nvPr/>
                  </p:nvSpPr>
                  <p:spPr>
                    <a:xfrm>
                      <a:off x="7911360" y="1576440"/>
                      <a:ext cx="6840" cy="19080"/>
                    </a:xfrm>
                    <a:custGeom>
                      <a:avLst/>
                      <a:gdLst>
                        <a:gd name="textAreaLeft" fmla="*/ 0 w 6840"/>
                        <a:gd name="textAreaRight" fmla="*/ 7200 w 684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4" h="12">
                          <a:moveTo>
                            <a:pt x="0" y="0"/>
                          </a:moveTo>
                          <a:lnTo>
                            <a:pt x="1" y="1"/>
                          </a:lnTo>
                          <a:lnTo>
                            <a:pt x="4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1" name="Freeform 148"/>
                    <p:cNvSpPr/>
                    <p:nvPr/>
                  </p:nvSpPr>
                  <p:spPr>
                    <a:xfrm>
                      <a:off x="7923240" y="1611360"/>
                      <a:ext cx="11880" cy="14040"/>
                    </a:xfrm>
                    <a:custGeom>
                      <a:avLst/>
                      <a:gdLst>
                        <a:gd name="textAreaLeft" fmla="*/ 0 w 11880"/>
                        <a:gd name="textAreaRight" fmla="*/ 12240 w 11880"/>
                        <a:gd name="textAreaTop" fmla="*/ 0 h 14040"/>
                        <a:gd name="textAreaBottom" fmla="*/ 14400 h 14040"/>
                      </a:gdLst>
                      <a:ahLst/>
                      <a:rect l="textAreaLeft" t="textAreaTop" r="textAreaRight" b="textAreaBottom"/>
                      <a:pathLst>
                        <a:path w="7" h="9">
                          <a:moveTo>
                            <a:pt x="0" y="0"/>
                          </a:moveTo>
                          <a:lnTo>
                            <a:pt x="3" y="6"/>
                          </a:lnTo>
                          <a:lnTo>
                            <a:pt x="7" y="9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2" name="Freeform 149"/>
                    <p:cNvSpPr/>
                    <p:nvPr/>
                  </p:nvSpPr>
                  <p:spPr>
                    <a:xfrm>
                      <a:off x="7950960" y="1636560"/>
                      <a:ext cx="13320" cy="17640"/>
                    </a:xfrm>
                    <a:custGeom>
                      <a:avLst/>
                      <a:gdLst>
                        <a:gd name="textAreaLeft" fmla="*/ 0 w 13320"/>
                        <a:gd name="textAreaRight" fmla="*/ 13680 w 13320"/>
                        <a:gd name="textAreaTop" fmla="*/ 0 h 17640"/>
                        <a:gd name="textAreaBottom" fmla="*/ 18000 h 17640"/>
                      </a:gdLst>
                      <a:ahLst/>
                      <a:rect l="textAreaLeft" t="textAreaTop" r="textAreaRight" b="textAreaBottom"/>
                      <a:pathLst>
                        <a:path w="8" h="11">
                          <a:moveTo>
                            <a:pt x="0" y="0"/>
                          </a:moveTo>
                          <a:lnTo>
                            <a:pt x="5" y="5"/>
                          </a:lnTo>
                          <a:lnTo>
                            <a:pt x="8" y="11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3" name="Freeform 150"/>
                    <p:cNvSpPr/>
                    <p:nvPr/>
                  </p:nvSpPr>
                  <p:spPr>
                    <a:xfrm>
                      <a:off x="7975080" y="1670040"/>
                      <a:ext cx="16920" cy="9360"/>
                    </a:xfrm>
                    <a:custGeom>
                      <a:avLst/>
                      <a:gdLst>
                        <a:gd name="textAreaLeft" fmla="*/ 0 w 16920"/>
                        <a:gd name="textAreaRight" fmla="*/ 17280 w 16920"/>
                        <a:gd name="textAreaTop" fmla="*/ 0 h 9360"/>
                        <a:gd name="textAreaBottom" fmla="*/ 9720 h 9360"/>
                      </a:gdLst>
                      <a:ahLst/>
                      <a:rect l="textAreaLeft" t="textAreaTop" r="textAreaRight" b="textAreaBottom"/>
                      <a:pathLst>
                        <a:path w="10" h="6">
                          <a:moveTo>
                            <a:pt x="0" y="0"/>
                          </a:moveTo>
                          <a:lnTo>
                            <a:pt x="3" y="2"/>
                          </a:lnTo>
                          <a:lnTo>
                            <a:pt x="10" y="6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4" name="Freeform 151"/>
                    <p:cNvSpPr/>
                    <p:nvPr/>
                  </p:nvSpPr>
                  <p:spPr>
                    <a:xfrm>
                      <a:off x="8007120" y="1692360"/>
                      <a:ext cx="8280" cy="15840"/>
                    </a:xfrm>
                    <a:custGeom>
                      <a:avLst/>
                      <a:gdLst>
                        <a:gd name="textAreaLeft" fmla="*/ 0 w 8280"/>
                        <a:gd name="textAreaRight" fmla="*/ 8640 w 828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5" h="10">
                          <a:moveTo>
                            <a:pt x="0" y="0"/>
                          </a:moveTo>
                          <a:lnTo>
                            <a:pt x="5" y="4"/>
                          </a:lnTo>
                          <a:lnTo>
                            <a:pt x="5" y="1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5" name="Line 152"/>
                    <p:cNvSpPr/>
                    <p:nvPr/>
                  </p:nvSpPr>
                  <p:spPr>
                    <a:xfrm>
                      <a:off x="8015760" y="172728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6" name="Line 153"/>
                    <p:cNvSpPr/>
                    <p:nvPr/>
                  </p:nvSpPr>
                  <p:spPr>
                    <a:xfrm>
                      <a:off x="8012520" y="176508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7" name="Line 154"/>
                    <p:cNvSpPr/>
                    <p:nvPr/>
                  </p:nvSpPr>
                  <p:spPr>
                    <a:xfrm flipH="1">
                      <a:off x="8010360" y="1803240"/>
                      <a:ext cx="180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8" name="Line 155"/>
                    <p:cNvSpPr/>
                    <p:nvPr/>
                  </p:nvSpPr>
                  <p:spPr>
                    <a:xfrm>
                      <a:off x="8010720" y="184140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9" name="Freeform 156"/>
                    <p:cNvSpPr/>
                    <p:nvPr/>
                  </p:nvSpPr>
                  <p:spPr>
                    <a:xfrm>
                      <a:off x="8007120" y="1879560"/>
                      <a:ext cx="5400" cy="15840"/>
                    </a:xfrm>
                    <a:custGeom>
                      <a:avLst/>
                      <a:gdLst>
                        <a:gd name="textAreaLeft" fmla="*/ 0 w 5400"/>
                        <a:gd name="textAreaRight" fmla="*/ 5760 w 540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3" h="10">
                          <a:moveTo>
                            <a:pt x="2" y="0"/>
                          </a:moveTo>
                          <a:lnTo>
                            <a:pt x="0" y="9"/>
                          </a:lnTo>
                          <a:lnTo>
                            <a:pt x="3" y="1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0" name="Freeform 157"/>
                    <p:cNvSpPr/>
                    <p:nvPr/>
                  </p:nvSpPr>
                  <p:spPr>
                    <a:xfrm>
                      <a:off x="8031240" y="1908000"/>
                      <a:ext cx="10440" cy="14400"/>
                    </a:xfrm>
                    <a:custGeom>
                      <a:avLst/>
                      <a:gdLst>
                        <a:gd name="textAreaLeft" fmla="*/ 0 w 10440"/>
                        <a:gd name="textAreaRight" fmla="*/ 10800 w 1044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6" h="9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4" y="4"/>
                          </a:lnTo>
                          <a:lnTo>
                            <a:pt x="6" y="9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1" name="Freeform 158"/>
                    <p:cNvSpPr/>
                    <p:nvPr/>
                  </p:nvSpPr>
                  <p:spPr>
                    <a:xfrm>
                      <a:off x="8048160" y="1938240"/>
                      <a:ext cx="20520" cy="3240"/>
                    </a:xfrm>
                    <a:custGeom>
                      <a:avLst/>
                      <a:gdLst>
                        <a:gd name="textAreaLeft" fmla="*/ 0 w 20520"/>
                        <a:gd name="textAreaRight" fmla="*/ 20880 w 20520"/>
                        <a:gd name="textAreaTop" fmla="*/ 0 h 3240"/>
                        <a:gd name="textAreaBottom" fmla="*/ 3600 h 3240"/>
                      </a:gdLst>
                      <a:ahLst/>
                      <a:rect l="textAreaLeft" t="textAreaTop" r="textAreaRight" b="textAreaBottom"/>
                      <a:pathLst>
                        <a:path w="12" h="2">
                          <a:moveTo>
                            <a:pt x="0" y="0"/>
                          </a:moveTo>
                          <a:lnTo>
                            <a:pt x="0" y="2"/>
                          </a:lnTo>
                          <a:lnTo>
                            <a:pt x="8" y="0"/>
                          </a:lnTo>
                          <a:lnTo>
                            <a:pt x="12" y="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2" name="Freeform 159"/>
                    <p:cNvSpPr/>
                    <p:nvPr/>
                  </p:nvSpPr>
                  <p:spPr>
                    <a:xfrm>
                      <a:off x="8089200" y="1938240"/>
                      <a:ext cx="2052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" h="0">
                          <a:moveTo>
                            <a:pt x="0" y="0"/>
                          </a:moveTo>
                          <a:lnTo>
                            <a:pt x="3" y="0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3" name="Freeform 160"/>
                    <p:cNvSpPr/>
                    <p:nvPr/>
                  </p:nvSpPr>
                  <p:spPr>
                    <a:xfrm>
                      <a:off x="8130600" y="1942920"/>
                      <a:ext cx="10080" cy="17640"/>
                    </a:xfrm>
                    <a:custGeom>
                      <a:avLst/>
                      <a:gdLst>
                        <a:gd name="textAreaLeft" fmla="*/ 0 w 10080"/>
                        <a:gd name="textAreaRight" fmla="*/ 10440 w 10080"/>
                        <a:gd name="textAreaTop" fmla="*/ 0 h 17640"/>
                        <a:gd name="textAreaBottom" fmla="*/ 18000 h 17640"/>
                      </a:gdLst>
                      <a:ahLst/>
                      <a:rect l="textAreaLeft" t="textAreaTop" r="textAreaRight" b="textAreaBottom"/>
                      <a:pathLst>
                        <a:path w="6" h="11">
                          <a:moveTo>
                            <a:pt x="0" y="0"/>
                          </a:moveTo>
                          <a:lnTo>
                            <a:pt x="3" y="8"/>
                          </a:lnTo>
                          <a:lnTo>
                            <a:pt x="6" y="11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4" name="Freeform 161"/>
                    <p:cNvSpPr/>
                    <p:nvPr/>
                  </p:nvSpPr>
                  <p:spPr>
                    <a:xfrm>
                      <a:off x="8156160" y="1969920"/>
                      <a:ext cx="20520" cy="1800"/>
                    </a:xfrm>
                    <a:custGeom>
                      <a:avLst/>
                      <a:gdLst>
                        <a:gd name="textAreaLeft" fmla="*/ 0 w 20520"/>
                        <a:gd name="textAreaRight" fmla="*/ 20880 w 20520"/>
                        <a:gd name="textAreaTop" fmla="*/ 0 h 1800"/>
                        <a:gd name="textAreaBottom" fmla="*/ 2160 h 1800"/>
                      </a:gdLst>
                      <a:ahLst/>
                      <a:rect l="textAreaLeft" t="textAreaTop" r="textAreaRight" b="textAreaBottom"/>
                      <a:pathLst>
                        <a:path w="12" h="1">
                          <a:moveTo>
                            <a:pt x="0" y="0"/>
                          </a:moveTo>
                          <a:lnTo>
                            <a:pt x="4" y="1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5" name="Freeform 162"/>
                    <p:cNvSpPr/>
                    <p:nvPr/>
                  </p:nvSpPr>
                  <p:spPr>
                    <a:xfrm>
                      <a:off x="8193600" y="1955880"/>
                      <a:ext cx="20520" cy="4680"/>
                    </a:xfrm>
                    <a:custGeom>
                      <a:avLst/>
                      <a:gdLst>
                        <a:gd name="textAreaLeft" fmla="*/ 0 w 20520"/>
                        <a:gd name="textAreaRight" fmla="*/ 20880 w 20520"/>
                        <a:gd name="textAreaTop" fmla="*/ 0 h 4680"/>
                        <a:gd name="textAreaBottom" fmla="*/ 5040 h 4680"/>
                      </a:gdLst>
                      <a:ahLst/>
                      <a:rect l="textAreaLeft" t="textAreaTop" r="textAreaRight" b="textAreaBottom"/>
                      <a:pathLst>
                        <a:path w="12" h="3">
                          <a:moveTo>
                            <a:pt x="0" y="3"/>
                          </a:moveTo>
                          <a:lnTo>
                            <a:pt x="0" y="3"/>
                          </a:lnTo>
                          <a:lnTo>
                            <a:pt x="8" y="0"/>
                          </a:lnTo>
                          <a:lnTo>
                            <a:pt x="12" y="1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6" name="Freeform 163"/>
                    <p:cNvSpPr/>
                    <p:nvPr/>
                  </p:nvSpPr>
                  <p:spPr>
                    <a:xfrm>
                      <a:off x="8232840" y="1965240"/>
                      <a:ext cx="5400" cy="19080"/>
                    </a:xfrm>
                    <a:custGeom>
                      <a:avLst/>
                      <a:gdLst>
                        <a:gd name="textAreaLeft" fmla="*/ 0 w 5400"/>
                        <a:gd name="textAreaRight" fmla="*/ 5760 w 540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3" h="12">
                          <a:moveTo>
                            <a:pt x="0" y="0"/>
                          </a:moveTo>
                          <a:lnTo>
                            <a:pt x="1" y="4"/>
                          </a:lnTo>
                          <a:lnTo>
                            <a:pt x="3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7" name="Freeform 164"/>
                    <p:cNvSpPr/>
                    <p:nvPr/>
                  </p:nvSpPr>
                  <p:spPr>
                    <a:xfrm>
                      <a:off x="8232840" y="2000160"/>
                      <a:ext cx="6840" cy="17640"/>
                    </a:xfrm>
                    <a:custGeom>
                      <a:avLst/>
                      <a:gdLst>
                        <a:gd name="textAreaLeft" fmla="*/ 0 w 6840"/>
                        <a:gd name="textAreaRight" fmla="*/ 7200 w 6840"/>
                        <a:gd name="textAreaTop" fmla="*/ 0 h 17640"/>
                        <a:gd name="textAreaBottom" fmla="*/ 18000 h 17640"/>
                      </a:gdLst>
                      <a:ahLst/>
                      <a:rect l="textAreaLeft" t="textAreaTop" r="textAreaRight" b="textAreaBottom"/>
                      <a:pathLst>
                        <a:path w="4" h="11">
                          <a:moveTo>
                            <a:pt x="4" y="0"/>
                          </a:moveTo>
                          <a:lnTo>
                            <a:pt x="4" y="5"/>
                          </a:lnTo>
                          <a:lnTo>
                            <a:pt x="0" y="11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8" name="Freeform 165"/>
                    <p:cNvSpPr/>
                    <p:nvPr/>
                  </p:nvSpPr>
                  <p:spPr>
                    <a:xfrm>
                      <a:off x="8202240" y="2028600"/>
                      <a:ext cx="11880" cy="14400"/>
                    </a:xfrm>
                    <a:custGeom>
                      <a:avLst/>
                      <a:gdLst>
                        <a:gd name="textAreaLeft" fmla="*/ 0 w 11880"/>
                        <a:gd name="textAreaRight" fmla="*/ 12240 w 1188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7" h="9">
                          <a:moveTo>
                            <a:pt x="7" y="0"/>
                          </a:moveTo>
                          <a:lnTo>
                            <a:pt x="4" y="3"/>
                          </a:lnTo>
                          <a:lnTo>
                            <a:pt x="0" y="9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9" name="Freeform 166"/>
                    <p:cNvSpPr/>
                    <p:nvPr/>
                  </p:nvSpPr>
                  <p:spPr>
                    <a:xfrm>
                      <a:off x="8197200" y="2062080"/>
                      <a:ext cx="1440" cy="19080"/>
                    </a:xfrm>
                    <a:custGeom>
                      <a:avLst/>
                      <a:gdLst>
                        <a:gd name="textAreaLeft" fmla="*/ 0 w 1440"/>
                        <a:gd name="textAreaRight" fmla="*/ 1800 w 144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1" h="12">
                          <a:moveTo>
                            <a:pt x="1" y="0"/>
                          </a:moveTo>
                          <a:lnTo>
                            <a:pt x="1" y="0"/>
                          </a:lnTo>
                          <a:lnTo>
                            <a:pt x="0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0" name="Freeform 167"/>
                    <p:cNvSpPr/>
                    <p:nvPr/>
                  </p:nvSpPr>
                  <p:spPr>
                    <a:xfrm>
                      <a:off x="8197200" y="2100240"/>
                      <a:ext cx="6480" cy="15840"/>
                    </a:xfrm>
                    <a:custGeom>
                      <a:avLst/>
                      <a:gdLst>
                        <a:gd name="textAreaLeft" fmla="*/ 0 w 6480"/>
                        <a:gd name="textAreaRight" fmla="*/ 6840 w 648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4" h="10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3" y="6"/>
                          </a:lnTo>
                          <a:lnTo>
                            <a:pt x="4" y="1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1" name="Freeform 168"/>
                    <p:cNvSpPr/>
                    <p:nvPr/>
                  </p:nvSpPr>
                  <p:spPr>
                    <a:xfrm>
                      <a:off x="8212320" y="2135160"/>
                      <a:ext cx="15480" cy="12600"/>
                    </a:xfrm>
                    <a:custGeom>
                      <a:avLst/>
                      <a:gdLst>
                        <a:gd name="textAreaLeft" fmla="*/ 0 w 15480"/>
                        <a:gd name="textAreaRight" fmla="*/ 15840 w 15480"/>
                        <a:gd name="textAreaTop" fmla="*/ 0 h 12600"/>
                        <a:gd name="textAreaBottom" fmla="*/ 12960 h 12600"/>
                      </a:gdLst>
                      <a:ahLst/>
                      <a:rect l="textAreaLeft" t="textAreaTop" r="textAreaRight" b="textAreaBottom"/>
                      <a:pathLst>
                        <a:path w="9" h="8">
                          <a:moveTo>
                            <a:pt x="0" y="0"/>
                          </a:moveTo>
                          <a:lnTo>
                            <a:pt x="4" y="6"/>
                          </a:lnTo>
                          <a:lnTo>
                            <a:pt x="9" y="8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2" name="Freeform 169"/>
                    <p:cNvSpPr/>
                    <p:nvPr/>
                  </p:nvSpPr>
                  <p:spPr>
                    <a:xfrm>
                      <a:off x="8244720" y="2144520"/>
                      <a:ext cx="20520" cy="7920"/>
                    </a:xfrm>
                    <a:custGeom>
                      <a:avLst/>
                      <a:gdLst>
                        <a:gd name="textAreaLeft" fmla="*/ 0 w 20520"/>
                        <a:gd name="textAreaRight" fmla="*/ 20880 w 20520"/>
                        <a:gd name="textAreaTop" fmla="*/ 0 h 7920"/>
                        <a:gd name="textAreaBottom" fmla="*/ 8280 h 7920"/>
                      </a:gdLst>
                      <a:ahLst/>
                      <a:rect l="textAreaLeft" t="textAreaTop" r="textAreaRight" b="textAreaBottom"/>
                      <a:pathLst>
                        <a:path w="12" h="5">
                          <a:moveTo>
                            <a:pt x="0" y="2"/>
                          </a:moveTo>
                          <a:lnTo>
                            <a:pt x="3" y="0"/>
                          </a:lnTo>
                          <a:lnTo>
                            <a:pt x="12" y="5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3" name="Freeform 170"/>
                    <p:cNvSpPr/>
                    <p:nvPr/>
                  </p:nvSpPr>
                  <p:spPr>
                    <a:xfrm>
                      <a:off x="8286120" y="2154240"/>
                      <a:ext cx="20520" cy="3240"/>
                    </a:xfrm>
                    <a:custGeom>
                      <a:avLst/>
                      <a:gdLst>
                        <a:gd name="textAreaLeft" fmla="*/ 0 w 20520"/>
                        <a:gd name="textAreaRight" fmla="*/ 20880 w 20520"/>
                        <a:gd name="textAreaTop" fmla="*/ 0 h 3240"/>
                        <a:gd name="textAreaBottom" fmla="*/ 3600 h 3240"/>
                      </a:gdLst>
                      <a:ahLst/>
                      <a:rect l="textAreaLeft" t="textAreaTop" r="textAreaRight" b="textAreaBottom"/>
                      <a:pathLst>
                        <a:path w="12" h="2">
                          <a:moveTo>
                            <a:pt x="0" y="0"/>
                          </a:moveTo>
                          <a:lnTo>
                            <a:pt x="11" y="2"/>
                          </a:lnTo>
                          <a:lnTo>
                            <a:pt x="12" y="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4" name="Freeform 171"/>
                    <p:cNvSpPr/>
                    <p:nvPr/>
                  </p:nvSpPr>
                  <p:spPr>
                    <a:xfrm>
                      <a:off x="8311680" y="2163600"/>
                      <a:ext cx="8280" cy="19080"/>
                    </a:xfrm>
                    <a:custGeom>
                      <a:avLst/>
                      <a:gdLst>
                        <a:gd name="textAreaLeft" fmla="*/ 0 w 8280"/>
                        <a:gd name="textAreaRight" fmla="*/ 8640 w 828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5" h="12">
                          <a:moveTo>
                            <a:pt x="5" y="0"/>
                          </a:moveTo>
                          <a:lnTo>
                            <a:pt x="5" y="2"/>
                          </a:lnTo>
                          <a:lnTo>
                            <a:pt x="2" y="8"/>
                          </a:lnTo>
                          <a:lnTo>
                            <a:pt x="0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5" name="Freeform 172"/>
                    <p:cNvSpPr/>
                    <p:nvPr/>
                  </p:nvSpPr>
                  <p:spPr>
                    <a:xfrm>
                      <a:off x="8294400" y="2197080"/>
                      <a:ext cx="6840" cy="19080"/>
                    </a:xfrm>
                    <a:custGeom>
                      <a:avLst/>
                      <a:gdLst>
                        <a:gd name="textAreaLeft" fmla="*/ 0 w 6840"/>
                        <a:gd name="textAreaRight" fmla="*/ 7200 w 684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4" h="12">
                          <a:moveTo>
                            <a:pt x="4" y="0"/>
                          </a:moveTo>
                          <a:lnTo>
                            <a:pt x="1" y="5"/>
                          </a:lnTo>
                          <a:lnTo>
                            <a:pt x="0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6" name="Freeform 173"/>
                    <p:cNvSpPr/>
                    <p:nvPr/>
                  </p:nvSpPr>
                  <p:spPr>
                    <a:xfrm>
                      <a:off x="8265600" y="2233440"/>
                      <a:ext cx="18720" cy="5040"/>
                    </a:xfrm>
                    <a:custGeom>
                      <a:avLst/>
                      <a:gdLst>
                        <a:gd name="textAreaLeft" fmla="*/ 0 w 18720"/>
                        <a:gd name="textAreaRight" fmla="*/ 19080 w 18720"/>
                        <a:gd name="textAreaTop" fmla="*/ 0 h 5040"/>
                        <a:gd name="textAreaBottom" fmla="*/ 5400 h 5040"/>
                      </a:gdLst>
                      <a:ahLst/>
                      <a:rect l="textAreaLeft" t="textAreaTop" r="textAreaRight" b="textAreaBottom"/>
                      <a:pathLst>
                        <a:path w="11" h="3">
                          <a:moveTo>
                            <a:pt x="11" y="0"/>
                          </a:moveTo>
                          <a:lnTo>
                            <a:pt x="9" y="3"/>
                          </a:lnTo>
                          <a:lnTo>
                            <a:pt x="0" y="3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7" name="Freeform 174"/>
                    <p:cNvSpPr/>
                    <p:nvPr/>
                  </p:nvSpPr>
                  <p:spPr>
                    <a:xfrm>
                      <a:off x="8229600" y="2239920"/>
                      <a:ext cx="15120" cy="9360"/>
                    </a:xfrm>
                    <a:custGeom>
                      <a:avLst/>
                      <a:gdLst>
                        <a:gd name="textAreaLeft" fmla="*/ 0 w 15120"/>
                        <a:gd name="textAreaRight" fmla="*/ 15480 w 15120"/>
                        <a:gd name="textAreaTop" fmla="*/ 0 h 9360"/>
                        <a:gd name="textAreaBottom" fmla="*/ 9720 h 9360"/>
                      </a:gdLst>
                      <a:ahLst/>
                      <a:rect l="textAreaLeft" t="textAreaTop" r="textAreaRight" b="textAreaBottom"/>
                      <a:pathLst>
                        <a:path w="9" h="6">
                          <a:moveTo>
                            <a:pt x="9" y="0"/>
                          </a:moveTo>
                          <a:lnTo>
                            <a:pt x="5" y="0"/>
                          </a:lnTo>
                          <a:lnTo>
                            <a:pt x="0" y="6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8" name="Line 175"/>
                    <p:cNvSpPr/>
                    <p:nvPr/>
                  </p:nvSpPr>
                  <p:spPr>
                    <a:xfrm>
                      <a:off x="8219160" y="226368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9" name="Freeform 176"/>
                    <p:cNvSpPr/>
                    <p:nvPr/>
                  </p:nvSpPr>
                  <p:spPr>
                    <a:xfrm>
                      <a:off x="8219160" y="2301840"/>
                      <a:ext cx="5040" cy="19080"/>
                    </a:xfrm>
                    <a:custGeom>
                      <a:avLst/>
                      <a:gdLst>
                        <a:gd name="textAreaLeft" fmla="*/ 0 w 5040"/>
                        <a:gd name="textAreaRight" fmla="*/ 5400 w 504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3" h="12">
                          <a:moveTo>
                            <a:pt x="0" y="0"/>
                          </a:moveTo>
                          <a:lnTo>
                            <a:pt x="0" y="2"/>
                          </a:lnTo>
                          <a:lnTo>
                            <a:pt x="2" y="8"/>
                          </a:lnTo>
                          <a:lnTo>
                            <a:pt x="3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0" name="Freeform 177"/>
                    <p:cNvSpPr/>
                    <p:nvPr/>
                  </p:nvSpPr>
                  <p:spPr>
                    <a:xfrm>
                      <a:off x="8227800" y="2340000"/>
                      <a:ext cx="360" cy="1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12">
                          <a:moveTo>
                            <a:pt x="0" y="0"/>
                          </a:moveTo>
                          <a:lnTo>
                            <a:pt x="0" y="3"/>
                          </a:lnTo>
                          <a:lnTo>
                            <a:pt x="0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1" name="Freeform 178"/>
                    <p:cNvSpPr/>
                    <p:nvPr/>
                  </p:nvSpPr>
                  <p:spPr>
                    <a:xfrm>
                      <a:off x="8227800" y="2378160"/>
                      <a:ext cx="360" cy="1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12">
                          <a:moveTo>
                            <a:pt x="0" y="0"/>
                          </a:moveTo>
                          <a:lnTo>
                            <a:pt x="0" y="3"/>
                          </a:lnTo>
                          <a:lnTo>
                            <a:pt x="0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2" name="Freeform 179"/>
                    <p:cNvSpPr/>
                    <p:nvPr/>
                  </p:nvSpPr>
                  <p:spPr>
                    <a:xfrm>
                      <a:off x="8227800" y="2415960"/>
                      <a:ext cx="360" cy="1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12">
                          <a:moveTo>
                            <a:pt x="0" y="0"/>
                          </a:moveTo>
                          <a:lnTo>
                            <a:pt x="0" y="4"/>
                          </a:lnTo>
                          <a:lnTo>
                            <a:pt x="0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3" name="Freeform 180"/>
                    <p:cNvSpPr/>
                    <p:nvPr/>
                  </p:nvSpPr>
                  <p:spPr>
                    <a:xfrm>
                      <a:off x="8224200" y="2454120"/>
                      <a:ext cx="5400" cy="19080"/>
                    </a:xfrm>
                    <a:custGeom>
                      <a:avLst/>
                      <a:gdLst>
                        <a:gd name="textAreaLeft" fmla="*/ 0 w 5400"/>
                        <a:gd name="textAreaRight" fmla="*/ 5760 w 540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3" h="12">
                          <a:moveTo>
                            <a:pt x="3" y="0"/>
                          </a:moveTo>
                          <a:lnTo>
                            <a:pt x="3" y="4"/>
                          </a:lnTo>
                          <a:lnTo>
                            <a:pt x="0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4" name="Freeform 181"/>
                    <p:cNvSpPr/>
                    <p:nvPr/>
                  </p:nvSpPr>
                  <p:spPr>
                    <a:xfrm>
                      <a:off x="8188560" y="2484360"/>
                      <a:ext cx="18360" cy="3240"/>
                    </a:xfrm>
                    <a:custGeom>
                      <a:avLst/>
                      <a:gdLst>
                        <a:gd name="textAreaLeft" fmla="*/ 0 w 18360"/>
                        <a:gd name="textAreaRight" fmla="*/ 18720 w 18360"/>
                        <a:gd name="textAreaTop" fmla="*/ 0 h 3240"/>
                        <a:gd name="textAreaBottom" fmla="*/ 3600 h 3240"/>
                      </a:gdLst>
                      <a:ahLst/>
                      <a:rect l="textAreaLeft" t="textAreaTop" r="textAreaRight" b="textAreaBottom"/>
                      <a:pathLst>
                        <a:path w="11" h="2">
                          <a:moveTo>
                            <a:pt x="11" y="0"/>
                          </a:moveTo>
                          <a:lnTo>
                            <a:pt x="9" y="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5" name="Line 182"/>
                    <p:cNvSpPr/>
                    <p:nvPr/>
                  </p:nvSpPr>
                  <p:spPr>
                    <a:xfrm flipH="1">
                      <a:off x="8147160" y="2479680"/>
                      <a:ext cx="20520" cy="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6" name="Freeform 183"/>
                    <p:cNvSpPr/>
                    <p:nvPr/>
                  </p:nvSpPr>
                  <p:spPr>
                    <a:xfrm>
                      <a:off x="8107920" y="2477880"/>
                      <a:ext cx="18720" cy="1800"/>
                    </a:xfrm>
                    <a:custGeom>
                      <a:avLst/>
                      <a:gdLst>
                        <a:gd name="textAreaLeft" fmla="*/ 0 w 18720"/>
                        <a:gd name="textAreaRight" fmla="*/ 19080 w 18720"/>
                        <a:gd name="textAreaTop" fmla="*/ 0 h 1800"/>
                        <a:gd name="textAreaBottom" fmla="*/ 2160 h 1800"/>
                      </a:gdLst>
                      <a:ahLst/>
                      <a:rect l="textAreaLeft" t="textAreaTop" r="textAreaRight" b="textAreaBottom"/>
                      <a:pathLst>
                        <a:path w="11" h="1">
                          <a:moveTo>
                            <a:pt x="11" y="1"/>
                          </a:moveTo>
                          <a:lnTo>
                            <a:pt x="4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7" name="Freeform 184"/>
                    <p:cNvSpPr/>
                    <p:nvPr/>
                  </p:nvSpPr>
                  <p:spPr>
                    <a:xfrm>
                      <a:off x="8068680" y="2465280"/>
                      <a:ext cx="18720" cy="9720"/>
                    </a:xfrm>
                    <a:custGeom>
                      <a:avLst/>
                      <a:gdLst>
                        <a:gd name="textAreaLeft" fmla="*/ 0 w 18720"/>
                        <a:gd name="textAreaRight" fmla="*/ 19080 w 18720"/>
                        <a:gd name="textAreaTop" fmla="*/ 0 h 9720"/>
                        <a:gd name="textAreaBottom" fmla="*/ 10080 h 9720"/>
                      </a:gdLst>
                      <a:ahLst/>
                      <a:rect l="textAreaLeft" t="textAreaTop" r="textAreaRight" b="textAreaBottom"/>
                      <a:pathLst>
                        <a:path w="11" h="6">
                          <a:moveTo>
                            <a:pt x="11" y="6"/>
                          </a:moveTo>
                          <a:lnTo>
                            <a:pt x="8" y="5"/>
                          </a:lnTo>
                          <a:lnTo>
                            <a:pt x="3" y="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8" name="Line 185"/>
                    <p:cNvSpPr/>
                    <p:nvPr/>
                  </p:nvSpPr>
                  <p:spPr>
                    <a:xfrm flipH="1" flipV="1">
                      <a:off x="8030880" y="2449080"/>
                      <a:ext cx="16920" cy="972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9" name="Line 186"/>
                    <p:cNvSpPr/>
                    <p:nvPr/>
                  </p:nvSpPr>
                  <p:spPr>
                    <a:xfrm flipH="1" flipV="1">
                      <a:off x="7991640" y="2435040"/>
                      <a:ext cx="20520" cy="64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0" name="Line 187"/>
                    <p:cNvSpPr/>
                    <p:nvPr/>
                  </p:nvSpPr>
                  <p:spPr>
                    <a:xfrm flipH="1">
                      <a:off x="7956000" y="2440080"/>
                      <a:ext cx="18720" cy="936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1" name="Freeform 188"/>
                    <p:cNvSpPr/>
                    <p:nvPr/>
                  </p:nvSpPr>
                  <p:spPr>
                    <a:xfrm>
                      <a:off x="7928280" y="2459160"/>
                      <a:ext cx="10440" cy="15840"/>
                    </a:xfrm>
                    <a:custGeom>
                      <a:avLst/>
                      <a:gdLst>
                        <a:gd name="textAreaLeft" fmla="*/ 0 w 10440"/>
                        <a:gd name="textAreaRight" fmla="*/ 10800 w 1044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6" h="10">
                          <a:moveTo>
                            <a:pt x="6" y="0"/>
                          </a:move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2" name="Freeform 189"/>
                    <p:cNvSpPr/>
                    <p:nvPr/>
                  </p:nvSpPr>
                  <p:spPr>
                    <a:xfrm>
                      <a:off x="7911360" y="2489040"/>
                      <a:ext cx="3240" cy="19080"/>
                    </a:xfrm>
                    <a:custGeom>
                      <a:avLst/>
                      <a:gdLst>
                        <a:gd name="textAreaLeft" fmla="*/ 0 w 3240"/>
                        <a:gd name="textAreaRight" fmla="*/ 3600 w 324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2" h="12">
                          <a:moveTo>
                            <a:pt x="2" y="0"/>
                          </a:moveTo>
                          <a:lnTo>
                            <a:pt x="1" y="2"/>
                          </a:lnTo>
                          <a:lnTo>
                            <a:pt x="0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3" name="Freeform 190"/>
                    <p:cNvSpPr/>
                    <p:nvPr/>
                  </p:nvSpPr>
                  <p:spPr>
                    <a:xfrm>
                      <a:off x="7908120" y="2527200"/>
                      <a:ext cx="2880" cy="19080"/>
                    </a:xfrm>
                    <a:custGeom>
                      <a:avLst/>
                      <a:gdLst>
                        <a:gd name="textAreaLeft" fmla="*/ 0 w 2880"/>
                        <a:gd name="textAreaRight" fmla="*/ 3240 w 288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2" h="12">
                          <a:moveTo>
                            <a:pt x="0" y="0"/>
                          </a:moveTo>
                          <a:lnTo>
                            <a:pt x="0" y="3"/>
                          </a:lnTo>
                          <a:lnTo>
                            <a:pt x="0" y="11"/>
                          </a:lnTo>
                          <a:lnTo>
                            <a:pt x="2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4" name="Line 191"/>
                    <p:cNvSpPr/>
                    <p:nvPr/>
                  </p:nvSpPr>
                  <p:spPr>
                    <a:xfrm>
                      <a:off x="7914960" y="2565360"/>
                      <a:ext cx="324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5" name="Line 192"/>
                    <p:cNvSpPr/>
                    <p:nvPr/>
                  </p:nvSpPr>
                  <p:spPr>
                    <a:xfrm>
                      <a:off x="7923240" y="2603520"/>
                      <a:ext cx="5040" cy="158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6" name="Freeform 193"/>
                    <p:cNvSpPr/>
                    <p:nvPr/>
                  </p:nvSpPr>
                  <p:spPr>
                    <a:xfrm>
                      <a:off x="7911360" y="2638440"/>
                      <a:ext cx="8280" cy="17280"/>
                    </a:xfrm>
                    <a:custGeom>
                      <a:avLst/>
                      <a:gdLst>
                        <a:gd name="textAreaLeft" fmla="*/ 0 w 8280"/>
                        <a:gd name="textAreaRight" fmla="*/ 8640 w 8280"/>
                        <a:gd name="textAreaTop" fmla="*/ 0 h 17280"/>
                        <a:gd name="textAreaBottom" fmla="*/ 17280 h 17280"/>
                      </a:gdLst>
                      <a:ahLst/>
                      <a:rect l="textAreaLeft" t="textAreaTop" r="textAreaRight" b="textAreaBottom"/>
                      <a:pathLst>
                        <a:path w="5" h="11">
                          <a:moveTo>
                            <a:pt x="5" y="0"/>
                          </a:moveTo>
                          <a:lnTo>
                            <a:pt x="2" y="3"/>
                          </a:lnTo>
                          <a:lnTo>
                            <a:pt x="0" y="11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7" name="Freeform 194"/>
                    <p:cNvSpPr/>
                    <p:nvPr/>
                  </p:nvSpPr>
                  <p:spPr>
                    <a:xfrm>
                      <a:off x="7882200" y="2651040"/>
                      <a:ext cx="18720" cy="11160"/>
                    </a:xfrm>
                    <a:custGeom>
                      <a:avLst/>
                      <a:gdLst>
                        <a:gd name="textAreaLeft" fmla="*/ 0 w 18720"/>
                        <a:gd name="textAreaRight" fmla="*/ 19080 w 18720"/>
                        <a:gd name="textAreaTop" fmla="*/ 0 h 11160"/>
                        <a:gd name="textAreaBottom" fmla="*/ 11520 h 11160"/>
                      </a:gdLst>
                      <a:ahLst/>
                      <a:rect l="textAreaLeft" t="textAreaTop" r="textAreaRight" b="textAreaBottom"/>
                      <a:pathLst>
                        <a:path w="11" h="7">
                          <a:moveTo>
                            <a:pt x="11" y="7"/>
                          </a:moveTo>
                          <a:lnTo>
                            <a:pt x="2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8" name="Freeform 195"/>
                    <p:cNvSpPr/>
                    <p:nvPr/>
                  </p:nvSpPr>
                  <p:spPr>
                    <a:xfrm>
                      <a:off x="7844760" y="2641680"/>
                      <a:ext cx="20520" cy="1440"/>
                    </a:xfrm>
                    <a:custGeom>
                      <a:avLst/>
                      <a:gdLst>
                        <a:gd name="textAreaLeft" fmla="*/ 0 w 20520"/>
                        <a:gd name="textAreaRight" fmla="*/ 20880 w 20520"/>
                        <a:gd name="textAreaTop" fmla="*/ 0 h 1440"/>
                        <a:gd name="textAreaBottom" fmla="*/ 1800 h 1440"/>
                      </a:gdLst>
                      <a:ahLst/>
                      <a:rect l="textAreaLeft" t="textAreaTop" r="textAreaRight" b="textAreaBottom"/>
                      <a:pathLst>
                        <a:path w="12" h="1">
                          <a:moveTo>
                            <a:pt x="12" y="0"/>
                          </a:moveTo>
                          <a:lnTo>
                            <a:pt x="1" y="1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9" name="Freeform 196"/>
                    <p:cNvSpPr/>
                    <p:nvPr/>
                  </p:nvSpPr>
                  <p:spPr>
                    <a:xfrm>
                      <a:off x="7805520" y="2646360"/>
                      <a:ext cx="18360" cy="4680"/>
                    </a:xfrm>
                    <a:custGeom>
                      <a:avLst/>
                      <a:gdLst>
                        <a:gd name="textAreaLeft" fmla="*/ 0 w 18360"/>
                        <a:gd name="textAreaRight" fmla="*/ 18720 w 18360"/>
                        <a:gd name="textAreaTop" fmla="*/ 0 h 4680"/>
                        <a:gd name="textAreaBottom" fmla="*/ 5040 h 4680"/>
                      </a:gdLst>
                      <a:ahLst/>
                      <a:rect l="textAreaLeft" t="textAreaTop" r="textAreaRight" b="textAreaBottom"/>
                      <a:pathLst>
                        <a:path w="11" h="3">
                          <a:moveTo>
                            <a:pt x="11" y="1"/>
                          </a:moveTo>
                          <a:lnTo>
                            <a:pt x="5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0" name="Freeform 197"/>
                    <p:cNvSpPr/>
                    <p:nvPr/>
                  </p:nvSpPr>
                  <p:spPr>
                    <a:xfrm>
                      <a:off x="7769520" y="2641680"/>
                      <a:ext cx="18720" cy="4680"/>
                    </a:xfrm>
                    <a:custGeom>
                      <a:avLst/>
                      <a:gdLst>
                        <a:gd name="textAreaLeft" fmla="*/ 0 w 18720"/>
                        <a:gd name="textAreaRight" fmla="*/ 19080 w 18720"/>
                        <a:gd name="textAreaTop" fmla="*/ 0 h 4680"/>
                        <a:gd name="textAreaBottom" fmla="*/ 5040 h 4680"/>
                      </a:gdLst>
                      <a:ahLst/>
                      <a:rect l="textAreaLeft" t="textAreaTop" r="textAreaRight" b="textAreaBottom"/>
                      <a:pathLst>
                        <a:path w="11" h="3">
                          <a:moveTo>
                            <a:pt x="11" y="0"/>
                          </a:moveTo>
                          <a:lnTo>
                            <a:pt x="9" y="1"/>
                          </a:lnTo>
                          <a:lnTo>
                            <a:pt x="2" y="3"/>
                          </a:lnTo>
                          <a:lnTo>
                            <a:pt x="0" y="3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1" name="Line 198"/>
                    <p:cNvSpPr/>
                    <p:nvPr/>
                  </p:nvSpPr>
                  <p:spPr>
                    <a:xfrm flipH="1" flipV="1">
                      <a:off x="7731360" y="2633400"/>
                      <a:ext cx="20520" cy="46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2" name="Freeform 199"/>
                    <p:cNvSpPr/>
                    <p:nvPr/>
                  </p:nvSpPr>
                  <p:spPr>
                    <a:xfrm>
                      <a:off x="7694280" y="2622600"/>
                      <a:ext cx="16920" cy="4680"/>
                    </a:xfrm>
                    <a:custGeom>
                      <a:avLst/>
                      <a:gdLst>
                        <a:gd name="textAreaLeft" fmla="*/ 0 w 16920"/>
                        <a:gd name="textAreaRight" fmla="*/ 17280 w 16920"/>
                        <a:gd name="textAreaTop" fmla="*/ 0 h 4680"/>
                        <a:gd name="textAreaBottom" fmla="*/ 5040 h 4680"/>
                      </a:gdLst>
                      <a:ahLst/>
                      <a:rect l="textAreaLeft" t="textAreaTop" r="textAreaRight" b="textAreaBottom"/>
                      <a:pathLst>
                        <a:path w="10" h="3">
                          <a:moveTo>
                            <a:pt x="10" y="3"/>
                          </a:moveTo>
                          <a:lnTo>
                            <a:pt x="4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3" name="Line 200"/>
                    <p:cNvSpPr/>
                    <p:nvPr/>
                  </p:nvSpPr>
                  <p:spPr>
                    <a:xfrm flipH="1">
                      <a:off x="7652880" y="2619360"/>
                      <a:ext cx="20520" cy="46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4" name="Line 201"/>
                    <p:cNvSpPr/>
                    <p:nvPr/>
                  </p:nvSpPr>
                  <p:spPr>
                    <a:xfrm flipH="1" flipV="1">
                      <a:off x="7611840" y="2622240"/>
                      <a:ext cx="20520" cy="46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5" name="Freeform 202"/>
                    <p:cNvSpPr/>
                    <p:nvPr/>
                  </p:nvSpPr>
                  <p:spPr>
                    <a:xfrm>
                      <a:off x="7572960" y="2622600"/>
                      <a:ext cx="18720" cy="4680"/>
                    </a:xfrm>
                    <a:custGeom>
                      <a:avLst/>
                      <a:gdLst>
                        <a:gd name="textAreaLeft" fmla="*/ 0 w 18720"/>
                        <a:gd name="textAreaRight" fmla="*/ 19080 w 18720"/>
                        <a:gd name="textAreaTop" fmla="*/ 0 h 4680"/>
                        <a:gd name="textAreaBottom" fmla="*/ 5040 h 4680"/>
                      </a:gdLst>
                      <a:ahLst/>
                      <a:rect l="textAreaLeft" t="textAreaTop" r="textAreaRight" b="textAreaBottom"/>
                      <a:pathLst>
                        <a:path w="11" h="3">
                          <a:moveTo>
                            <a:pt x="11" y="0"/>
                          </a:moveTo>
                          <a:lnTo>
                            <a:pt x="8" y="0"/>
                          </a:lnTo>
                          <a:lnTo>
                            <a:pt x="0" y="3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6" name="Line 203"/>
                    <p:cNvSpPr/>
                    <p:nvPr/>
                  </p:nvSpPr>
                  <p:spPr>
                    <a:xfrm flipH="1" flipV="1">
                      <a:off x="7531200" y="2627280"/>
                      <a:ext cx="20520" cy="14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7" name="Freeform 204"/>
                    <p:cNvSpPr/>
                    <p:nvPr/>
                  </p:nvSpPr>
                  <p:spPr>
                    <a:xfrm>
                      <a:off x="7490880" y="2624040"/>
                      <a:ext cx="20160" cy="3240"/>
                    </a:xfrm>
                    <a:custGeom>
                      <a:avLst/>
                      <a:gdLst>
                        <a:gd name="textAreaLeft" fmla="*/ 0 w 20160"/>
                        <a:gd name="textAreaRight" fmla="*/ 20520 w 20160"/>
                        <a:gd name="textAreaTop" fmla="*/ 0 h 3240"/>
                        <a:gd name="textAreaBottom" fmla="*/ 3600 h 3240"/>
                      </a:gdLst>
                      <a:ahLst/>
                      <a:rect l="textAreaLeft" t="textAreaTop" r="textAreaRight" b="textAreaBottom"/>
                      <a:pathLst>
                        <a:path w="12" h="2">
                          <a:moveTo>
                            <a:pt x="12" y="2"/>
                          </a:moveTo>
                          <a:lnTo>
                            <a:pt x="2" y="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8" name="Freeform 205"/>
                    <p:cNvSpPr/>
                    <p:nvPr/>
                  </p:nvSpPr>
                  <p:spPr>
                    <a:xfrm>
                      <a:off x="7453440" y="2617560"/>
                      <a:ext cx="18360" cy="5040"/>
                    </a:xfrm>
                    <a:custGeom>
                      <a:avLst/>
                      <a:gdLst>
                        <a:gd name="textAreaLeft" fmla="*/ 0 w 18360"/>
                        <a:gd name="textAreaRight" fmla="*/ 18720 w 18360"/>
                        <a:gd name="textAreaTop" fmla="*/ 0 h 5040"/>
                        <a:gd name="textAreaBottom" fmla="*/ 5400 h 5040"/>
                      </a:gdLst>
                      <a:ahLst/>
                      <a:rect l="textAreaLeft" t="textAreaTop" r="textAreaRight" b="textAreaBottom"/>
                      <a:pathLst>
                        <a:path w="11" h="3">
                          <a:moveTo>
                            <a:pt x="11" y="3"/>
                          </a:moveTo>
                          <a:lnTo>
                            <a:pt x="0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9" name="Freeform 206"/>
                    <p:cNvSpPr/>
                    <p:nvPr/>
                  </p:nvSpPr>
                  <p:spPr>
                    <a:xfrm>
                      <a:off x="7456320" y="2584440"/>
                      <a:ext cx="11880" cy="14400"/>
                    </a:xfrm>
                    <a:custGeom>
                      <a:avLst/>
                      <a:gdLst>
                        <a:gd name="textAreaLeft" fmla="*/ 0 w 11880"/>
                        <a:gd name="textAreaRight" fmla="*/ 12240 w 1188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7" h="9">
                          <a:moveTo>
                            <a:pt x="0" y="9"/>
                          </a:moveTo>
                          <a:lnTo>
                            <a:pt x="0" y="9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0" name="Line 207"/>
                    <p:cNvSpPr/>
                    <p:nvPr/>
                  </p:nvSpPr>
                  <p:spPr>
                    <a:xfrm flipV="1">
                      <a:off x="7482600" y="2555640"/>
                      <a:ext cx="11520" cy="140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1" name="Line 208"/>
                    <p:cNvSpPr/>
                    <p:nvPr/>
                  </p:nvSpPr>
                  <p:spPr>
                    <a:xfrm flipV="1">
                      <a:off x="7506000" y="2527200"/>
                      <a:ext cx="15480" cy="1440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2" name="Line 209"/>
                    <p:cNvSpPr/>
                    <p:nvPr/>
                  </p:nvSpPr>
                  <p:spPr>
                    <a:xfrm flipV="1">
                      <a:off x="7535160" y="2498400"/>
                      <a:ext cx="11880" cy="140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3" name="Line 210"/>
                    <p:cNvSpPr/>
                    <p:nvPr/>
                  </p:nvSpPr>
                  <p:spPr>
                    <a:xfrm flipV="1">
                      <a:off x="7560720" y="2468520"/>
                      <a:ext cx="15480" cy="1440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4" name="Line 211"/>
                    <p:cNvSpPr/>
                    <p:nvPr/>
                  </p:nvSpPr>
                  <p:spPr>
                    <a:xfrm flipV="1">
                      <a:off x="7588440" y="2439720"/>
                      <a:ext cx="13320" cy="140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5" name="Line 212"/>
                    <p:cNvSpPr/>
                    <p:nvPr/>
                  </p:nvSpPr>
                  <p:spPr>
                    <a:xfrm flipV="1">
                      <a:off x="7612200" y="240300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6" name="Line 213"/>
                    <p:cNvSpPr/>
                    <p:nvPr/>
                  </p:nvSpPr>
                  <p:spPr>
                    <a:xfrm flipV="1">
                      <a:off x="7612200" y="236484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7" name="Line 214"/>
                    <p:cNvSpPr/>
                    <p:nvPr/>
                  </p:nvSpPr>
                  <p:spPr>
                    <a:xfrm flipV="1">
                      <a:off x="7612200" y="232848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8" name="Freeform 215"/>
                    <p:cNvSpPr/>
                    <p:nvPr/>
                  </p:nvSpPr>
                  <p:spPr>
                    <a:xfrm>
                      <a:off x="7603920" y="2295360"/>
                      <a:ext cx="8280" cy="14400"/>
                    </a:xfrm>
                    <a:custGeom>
                      <a:avLst/>
                      <a:gdLst>
                        <a:gd name="textAreaLeft" fmla="*/ 0 w 8280"/>
                        <a:gd name="textAreaRight" fmla="*/ 8640 w 828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5" h="9">
                          <a:moveTo>
                            <a:pt x="5" y="9"/>
                          </a:moveTo>
                          <a:lnTo>
                            <a:pt x="5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9" name="Line 216"/>
                    <p:cNvSpPr/>
                    <p:nvPr/>
                  </p:nvSpPr>
                  <p:spPr>
                    <a:xfrm flipH="1" flipV="1">
                      <a:off x="7572600" y="2271240"/>
                      <a:ext cx="15480" cy="1116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0" name="Line 217"/>
                    <p:cNvSpPr/>
                    <p:nvPr/>
                  </p:nvSpPr>
                  <p:spPr>
                    <a:xfrm flipH="1" flipV="1">
                      <a:off x="7539840" y="2247480"/>
                      <a:ext cx="15480" cy="1116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1" name="Line 218"/>
                    <p:cNvSpPr/>
                    <p:nvPr/>
                  </p:nvSpPr>
                  <p:spPr>
                    <a:xfrm flipH="1" flipV="1">
                      <a:off x="7520040" y="2215800"/>
                      <a:ext cx="504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2" name="Freeform 219"/>
                    <p:cNvSpPr/>
                    <p:nvPr/>
                  </p:nvSpPr>
                  <p:spPr>
                    <a:xfrm>
                      <a:off x="7520040" y="2178000"/>
                      <a:ext cx="360" cy="1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12">
                          <a:moveTo>
                            <a:pt x="0" y="12"/>
                          </a:moveTo>
                          <a:lnTo>
                            <a:pt x="0" y="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3" name="Freeform 220"/>
                    <p:cNvSpPr/>
                    <p:nvPr/>
                  </p:nvSpPr>
                  <p:spPr>
                    <a:xfrm>
                      <a:off x="7525080" y="2139840"/>
                      <a:ext cx="5040" cy="19080"/>
                    </a:xfrm>
                    <a:custGeom>
                      <a:avLst/>
                      <a:gdLst>
                        <a:gd name="textAreaLeft" fmla="*/ 0 w 5040"/>
                        <a:gd name="textAreaRight" fmla="*/ 5400 w 504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3" h="12">
                          <a:moveTo>
                            <a:pt x="0" y="12"/>
                          </a:moveTo>
                          <a:lnTo>
                            <a:pt x="1" y="3"/>
                          </a:lnTo>
                          <a:lnTo>
                            <a:pt x="3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4" name="Line 221"/>
                    <p:cNvSpPr/>
                    <p:nvPr/>
                  </p:nvSpPr>
                  <p:spPr>
                    <a:xfrm flipV="1">
                      <a:off x="7542000" y="2109600"/>
                      <a:ext cx="10080" cy="158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5" name="Line 222"/>
                    <p:cNvSpPr/>
                    <p:nvPr/>
                  </p:nvSpPr>
                  <p:spPr>
                    <a:xfrm flipV="1">
                      <a:off x="7566120" y="2079720"/>
                      <a:ext cx="10080" cy="158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6" name="Freeform 223"/>
                    <p:cNvSpPr/>
                    <p:nvPr/>
                  </p:nvSpPr>
                  <p:spPr>
                    <a:xfrm>
                      <a:off x="7588440" y="2046240"/>
                      <a:ext cx="3240" cy="15840"/>
                    </a:xfrm>
                    <a:custGeom>
                      <a:avLst/>
                      <a:gdLst>
                        <a:gd name="textAreaLeft" fmla="*/ 0 w 3240"/>
                        <a:gd name="textAreaRight" fmla="*/ 3600 w 324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2" h="10">
                          <a:moveTo>
                            <a:pt x="0" y="10"/>
                          </a:moveTo>
                          <a:lnTo>
                            <a:pt x="2" y="1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7" name="Line 224"/>
                    <p:cNvSpPr/>
                    <p:nvPr/>
                  </p:nvSpPr>
                  <p:spPr>
                    <a:xfrm flipV="1">
                      <a:off x="7586640" y="2009880"/>
                      <a:ext cx="11520" cy="172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8" name="Line 225"/>
                    <p:cNvSpPr/>
                    <p:nvPr/>
                  </p:nvSpPr>
                  <p:spPr>
                    <a:xfrm flipV="1">
                      <a:off x="7612200" y="1981080"/>
                      <a:ext cx="11880" cy="1440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9" name="Freeform 226"/>
                    <p:cNvSpPr/>
                    <p:nvPr/>
                  </p:nvSpPr>
                  <p:spPr>
                    <a:xfrm>
                      <a:off x="7638120" y="1950840"/>
                      <a:ext cx="11880" cy="14400"/>
                    </a:xfrm>
                    <a:custGeom>
                      <a:avLst/>
                      <a:gdLst>
                        <a:gd name="textAreaLeft" fmla="*/ 0 w 11880"/>
                        <a:gd name="textAreaRight" fmla="*/ 12240 w 1188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7" h="9">
                          <a:moveTo>
                            <a:pt x="0" y="9"/>
                          </a:move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0" name="Freeform 227"/>
                    <p:cNvSpPr/>
                    <p:nvPr/>
                  </p:nvSpPr>
                  <p:spPr>
                    <a:xfrm>
                      <a:off x="7655040" y="1914480"/>
                      <a:ext cx="8280" cy="19080"/>
                    </a:xfrm>
                    <a:custGeom>
                      <a:avLst/>
                      <a:gdLst>
                        <a:gd name="textAreaLeft" fmla="*/ 0 w 8280"/>
                        <a:gd name="textAreaRight" fmla="*/ 8640 w 828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5" h="12">
                          <a:moveTo>
                            <a:pt x="0" y="12"/>
                          </a:moveTo>
                          <a:lnTo>
                            <a:pt x="2" y="8"/>
                          </a:lnTo>
                          <a:lnTo>
                            <a:pt x="5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1" name="Freeform 228"/>
                    <p:cNvSpPr/>
                    <p:nvPr/>
                  </p:nvSpPr>
                  <p:spPr>
                    <a:xfrm>
                      <a:off x="7665120" y="1879560"/>
                      <a:ext cx="5400" cy="15840"/>
                    </a:xfrm>
                    <a:custGeom>
                      <a:avLst/>
                      <a:gdLst>
                        <a:gd name="textAreaLeft" fmla="*/ 0 w 5400"/>
                        <a:gd name="textAreaRight" fmla="*/ 5760 w 540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3" h="10">
                          <a:moveTo>
                            <a:pt x="3" y="10"/>
                          </a:move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2" name="Freeform 229"/>
                    <p:cNvSpPr/>
                    <p:nvPr/>
                  </p:nvSpPr>
                  <p:spPr>
                    <a:xfrm>
                      <a:off x="7675560" y="1846080"/>
                      <a:ext cx="13320" cy="15840"/>
                    </a:xfrm>
                    <a:custGeom>
                      <a:avLst/>
                      <a:gdLst>
                        <a:gd name="textAreaLeft" fmla="*/ 0 w 13320"/>
                        <a:gd name="textAreaRight" fmla="*/ 13680 w 1332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8" h="10">
                          <a:moveTo>
                            <a:pt x="0" y="10"/>
                          </a:moveTo>
                          <a:lnTo>
                            <a:pt x="5" y="3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3" name="Line 230"/>
                    <p:cNvSpPr/>
                    <p:nvPr/>
                  </p:nvSpPr>
                  <p:spPr>
                    <a:xfrm flipV="1">
                      <a:off x="7701120" y="1820520"/>
                      <a:ext cx="15480" cy="140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4" name="Line 231"/>
                    <p:cNvSpPr/>
                    <p:nvPr/>
                  </p:nvSpPr>
                  <p:spPr>
                    <a:xfrm flipH="1" flipV="1">
                      <a:off x="7695720" y="1798200"/>
                      <a:ext cx="16920" cy="972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5" name="Line 232"/>
                    <p:cNvSpPr/>
                    <p:nvPr/>
                  </p:nvSpPr>
                  <p:spPr>
                    <a:xfrm flipH="1" flipV="1">
                      <a:off x="7663320" y="1774440"/>
                      <a:ext cx="16920" cy="1260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6" name="Freeform 233"/>
                    <p:cNvSpPr/>
                    <p:nvPr/>
                  </p:nvSpPr>
                  <p:spPr>
                    <a:xfrm>
                      <a:off x="7627320" y="1770120"/>
                      <a:ext cx="15480" cy="7920"/>
                    </a:xfrm>
                    <a:custGeom>
                      <a:avLst/>
                      <a:gdLst>
                        <a:gd name="textAreaLeft" fmla="*/ 0 w 15480"/>
                        <a:gd name="textAreaRight" fmla="*/ 15840 w 15480"/>
                        <a:gd name="textAreaTop" fmla="*/ 0 h 7920"/>
                        <a:gd name="textAreaBottom" fmla="*/ 8280 h 7920"/>
                      </a:gdLst>
                      <a:ahLst/>
                      <a:rect l="textAreaLeft" t="textAreaTop" r="textAreaRight" b="textAreaBottom"/>
                      <a:pathLst>
                        <a:path w="9" h="5">
                          <a:moveTo>
                            <a:pt x="9" y="5"/>
                          </a:moveTo>
                          <a:lnTo>
                            <a:pt x="1" y="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7" name="Freeform 234"/>
                    <p:cNvSpPr/>
                    <p:nvPr/>
                  </p:nvSpPr>
                  <p:spPr>
                    <a:xfrm>
                      <a:off x="7603920" y="1739880"/>
                      <a:ext cx="10080" cy="15840"/>
                    </a:xfrm>
                    <a:custGeom>
                      <a:avLst/>
                      <a:gdLst>
                        <a:gd name="textAreaLeft" fmla="*/ 0 w 10080"/>
                        <a:gd name="textAreaRight" fmla="*/ 10440 w 1008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6" h="10">
                          <a:moveTo>
                            <a:pt x="6" y="10"/>
                          </a:moveTo>
                          <a:lnTo>
                            <a:pt x="0" y="1"/>
                          </a:lnTo>
                          <a:lnTo>
                            <a:pt x="2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8" name="Line 235"/>
                    <p:cNvSpPr/>
                    <p:nvPr/>
                  </p:nvSpPr>
                  <p:spPr>
                    <a:xfrm flipV="1">
                      <a:off x="7614000" y="1702800"/>
                      <a:ext cx="10440" cy="176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9" name="Line 236"/>
                    <p:cNvSpPr/>
                    <p:nvPr/>
                  </p:nvSpPr>
                  <p:spPr>
                    <a:xfrm flipV="1">
                      <a:off x="7633080" y="1670040"/>
                      <a:ext cx="6480" cy="172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0" name="Line 237"/>
                    <p:cNvSpPr/>
                    <p:nvPr/>
                  </p:nvSpPr>
                  <p:spPr>
                    <a:xfrm flipV="1">
                      <a:off x="7650000" y="1635120"/>
                      <a:ext cx="8280" cy="158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1" name="Line 238"/>
                    <p:cNvSpPr/>
                    <p:nvPr/>
                  </p:nvSpPr>
                  <p:spPr>
                    <a:xfrm flipH="1" flipV="1">
                      <a:off x="7644240" y="1600200"/>
                      <a:ext cx="8280" cy="158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2" name="Freeform 239"/>
                    <p:cNvSpPr/>
                    <p:nvPr/>
                  </p:nvSpPr>
                  <p:spPr>
                    <a:xfrm>
                      <a:off x="7633080" y="1563480"/>
                      <a:ext cx="6480" cy="17640"/>
                    </a:xfrm>
                    <a:custGeom>
                      <a:avLst/>
                      <a:gdLst>
                        <a:gd name="textAreaLeft" fmla="*/ 0 w 6480"/>
                        <a:gd name="textAreaRight" fmla="*/ 6840 w 6480"/>
                        <a:gd name="textAreaTop" fmla="*/ 0 h 17640"/>
                        <a:gd name="textAreaBottom" fmla="*/ 18000 h 17640"/>
                      </a:gdLst>
                      <a:ahLst/>
                      <a:rect l="textAreaLeft" t="textAreaTop" r="textAreaRight" b="textAreaBottom"/>
                      <a:pathLst>
                        <a:path w="4" h="11">
                          <a:moveTo>
                            <a:pt x="4" y="11"/>
                          </a:moveTo>
                          <a:lnTo>
                            <a:pt x="3" y="9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3" name="Freeform 240"/>
                    <p:cNvSpPr/>
                    <p:nvPr/>
                  </p:nvSpPr>
                  <p:spPr>
                    <a:xfrm>
                      <a:off x="7627320" y="1539720"/>
                      <a:ext cx="16920" cy="5040"/>
                    </a:xfrm>
                    <a:custGeom>
                      <a:avLst/>
                      <a:gdLst>
                        <a:gd name="textAreaLeft" fmla="*/ 0 w 16920"/>
                        <a:gd name="textAreaRight" fmla="*/ 17280 w 16920"/>
                        <a:gd name="textAreaTop" fmla="*/ 0 h 5040"/>
                        <a:gd name="textAreaBottom" fmla="*/ 5400 h 5040"/>
                      </a:gdLst>
                      <a:ahLst/>
                      <a:rect l="textAreaLeft" t="textAreaTop" r="textAreaRight" b="textAreaBottom"/>
                      <a:pathLst>
                        <a:path w="10" h="3">
                          <a:moveTo>
                            <a:pt x="0" y="3"/>
                          </a:moveTo>
                          <a:lnTo>
                            <a:pt x="0" y="3"/>
                          </a:lnTo>
                          <a:lnTo>
                            <a:pt x="3" y="2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4" name="Line 241"/>
                    <p:cNvSpPr/>
                    <p:nvPr/>
                  </p:nvSpPr>
                  <p:spPr>
                    <a:xfrm flipV="1">
                      <a:off x="7658640" y="1509840"/>
                      <a:ext cx="1440" cy="1872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5" name="Line 242"/>
                    <p:cNvSpPr/>
                    <p:nvPr/>
                  </p:nvSpPr>
                  <p:spPr>
                    <a:xfrm flipV="1">
                      <a:off x="7663680" y="1471320"/>
                      <a:ext cx="144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6" name="Freeform 243"/>
                    <p:cNvSpPr/>
                    <p:nvPr/>
                  </p:nvSpPr>
                  <p:spPr>
                    <a:xfrm>
                      <a:off x="7670520" y="1449360"/>
                      <a:ext cx="20520" cy="4680"/>
                    </a:xfrm>
                    <a:custGeom>
                      <a:avLst/>
                      <a:gdLst>
                        <a:gd name="textAreaLeft" fmla="*/ 0 w 20520"/>
                        <a:gd name="textAreaRight" fmla="*/ 20880 w 20520"/>
                        <a:gd name="textAreaTop" fmla="*/ 0 h 4680"/>
                        <a:gd name="textAreaBottom" fmla="*/ 5040 h 4680"/>
                      </a:gdLst>
                      <a:ahLst/>
                      <a:rect l="textAreaLeft" t="textAreaTop" r="textAreaRight" b="textAreaBottom"/>
                      <a:pathLst>
                        <a:path w="12" h="3">
                          <a:moveTo>
                            <a:pt x="0" y="3"/>
                          </a:moveTo>
                          <a:lnTo>
                            <a:pt x="5" y="2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7" name="Freeform 244"/>
                    <p:cNvSpPr/>
                    <p:nvPr/>
                  </p:nvSpPr>
                  <p:spPr>
                    <a:xfrm>
                      <a:off x="7711200" y="1452600"/>
                      <a:ext cx="17280" cy="6120"/>
                    </a:xfrm>
                    <a:custGeom>
                      <a:avLst/>
                      <a:gdLst>
                        <a:gd name="textAreaLeft" fmla="*/ 0 w 17280"/>
                        <a:gd name="textAreaRight" fmla="*/ 17640 w 17280"/>
                        <a:gd name="textAreaTop" fmla="*/ 0 h 6120"/>
                        <a:gd name="textAreaBottom" fmla="*/ 6480 h 6120"/>
                      </a:gdLst>
                      <a:ahLst/>
                      <a:rect l="textAreaLeft" t="textAreaTop" r="textAreaRight" b="textAreaBottom"/>
                      <a:pathLst>
                        <a:path w="10" h="4">
                          <a:moveTo>
                            <a:pt x="0" y="0"/>
                          </a:moveTo>
                          <a:lnTo>
                            <a:pt x="7" y="3"/>
                          </a:lnTo>
                          <a:lnTo>
                            <a:pt x="10" y="4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8" name="Freeform 245"/>
                    <p:cNvSpPr/>
                    <p:nvPr/>
                  </p:nvSpPr>
                  <p:spPr>
                    <a:xfrm>
                      <a:off x="7747200" y="1468440"/>
                      <a:ext cx="16920" cy="7920"/>
                    </a:xfrm>
                    <a:custGeom>
                      <a:avLst/>
                      <a:gdLst>
                        <a:gd name="textAreaLeft" fmla="*/ 0 w 16920"/>
                        <a:gd name="textAreaRight" fmla="*/ 17280 w 16920"/>
                        <a:gd name="textAreaTop" fmla="*/ 0 h 7920"/>
                        <a:gd name="textAreaBottom" fmla="*/ 8280 h 7920"/>
                      </a:gdLst>
                      <a:ahLst/>
                      <a:rect l="textAreaLeft" t="textAreaTop" r="textAreaRight" b="textAreaBottom"/>
                      <a:pathLst>
                        <a:path w="10" h="5">
                          <a:moveTo>
                            <a:pt x="0" y="0"/>
                          </a:moveTo>
                          <a:lnTo>
                            <a:pt x="7" y="3"/>
                          </a:lnTo>
                          <a:lnTo>
                            <a:pt x="10" y="5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9" name="Line 246"/>
                    <p:cNvSpPr/>
                    <p:nvPr/>
                  </p:nvSpPr>
                  <p:spPr>
                    <a:xfrm>
                      <a:off x="7785000" y="1485720"/>
                      <a:ext cx="20520" cy="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0" name="Freeform 247"/>
                    <p:cNvSpPr/>
                    <p:nvPr/>
                  </p:nvSpPr>
                  <p:spPr>
                    <a:xfrm>
                      <a:off x="7826040" y="1482840"/>
                      <a:ext cx="18360" cy="4680"/>
                    </a:xfrm>
                    <a:custGeom>
                      <a:avLst/>
                      <a:gdLst>
                        <a:gd name="textAreaLeft" fmla="*/ 0 w 18360"/>
                        <a:gd name="textAreaRight" fmla="*/ 18720 w 18360"/>
                        <a:gd name="textAreaTop" fmla="*/ 0 h 4680"/>
                        <a:gd name="textAreaBottom" fmla="*/ 5040 h 4680"/>
                      </a:gdLst>
                      <a:ahLst/>
                      <a:rect l="textAreaLeft" t="textAreaTop" r="textAreaRight" b="textAreaBottom"/>
                      <a:pathLst>
                        <a:path w="11" h="3">
                          <a:moveTo>
                            <a:pt x="0" y="0"/>
                          </a:moveTo>
                          <a:lnTo>
                            <a:pt x="5" y="0"/>
                          </a:lnTo>
                          <a:lnTo>
                            <a:pt x="11" y="3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1" name="Freeform 248"/>
                    <p:cNvSpPr/>
                    <p:nvPr/>
                  </p:nvSpPr>
                  <p:spPr>
                    <a:xfrm>
                      <a:off x="7861680" y="1496880"/>
                      <a:ext cx="18720" cy="7920"/>
                    </a:xfrm>
                    <a:custGeom>
                      <a:avLst/>
                      <a:gdLst>
                        <a:gd name="textAreaLeft" fmla="*/ 0 w 18720"/>
                        <a:gd name="textAreaRight" fmla="*/ 19080 w 18720"/>
                        <a:gd name="textAreaTop" fmla="*/ 0 h 7920"/>
                        <a:gd name="textAreaBottom" fmla="*/ 8280 h 7920"/>
                      </a:gdLst>
                      <a:ahLst/>
                      <a:rect l="textAreaLeft" t="textAreaTop" r="textAreaRight" b="textAreaBottom"/>
                      <a:pathLst>
                        <a:path w="11" h="5">
                          <a:moveTo>
                            <a:pt x="0" y="0"/>
                          </a:moveTo>
                          <a:lnTo>
                            <a:pt x="6" y="5"/>
                          </a:lnTo>
                          <a:lnTo>
                            <a:pt x="11" y="5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2" name="Freeform 249"/>
                    <p:cNvSpPr/>
                    <p:nvPr/>
                  </p:nvSpPr>
                  <p:spPr>
                    <a:xfrm>
                      <a:off x="7066800" y="1544760"/>
                      <a:ext cx="656280" cy="1054080"/>
                    </a:xfrm>
                    <a:custGeom>
                      <a:avLst/>
                      <a:gdLst>
                        <a:gd name="textAreaLeft" fmla="*/ 0 w 656280"/>
                        <a:gd name="textAreaRight" fmla="*/ 656640 w 656280"/>
                        <a:gd name="textAreaTop" fmla="*/ 0 h 1054080"/>
                        <a:gd name="textAreaBottom" fmla="*/ 1054080 h 1054080"/>
                      </a:gdLst>
                      <a:ahLst/>
                      <a:rect l="textAreaLeft" t="textAreaTop" r="textAreaRight" b="textAreaBottom"/>
                      <a:pathLst>
                        <a:path w="384" h="664">
                          <a:moveTo>
                            <a:pt x="228" y="664"/>
                          </a:moveTo>
                          <a:lnTo>
                            <a:pt x="226" y="649"/>
                          </a:lnTo>
                          <a:lnTo>
                            <a:pt x="219" y="643"/>
                          </a:lnTo>
                          <a:lnTo>
                            <a:pt x="207" y="634"/>
                          </a:lnTo>
                          <a:lnTo>
                            <a:pt x="199" y="627"/>
                          </a:lnTo>
                          <a:lnTo>
                            <a:pt x="192" y="618"/>
                          </a:lnTo>
                          <a:lnTo>
                            <a:pt x="180" y="612"/>
                          </a:lnTo>
                          <a:lnTo>
                            <a:pt x="169" y="609"/>
                          </a:lnTo>
                          <a:lnTo>
                            <a:pt x="174" y="604"/>
                          </a:lnTo>
                          <a:lnTo>
                            <a:pt x="162" y="604"/>
                          </a:lnTo>
                          <a:lnTo>
                            <a:pt x="148" y="603"/>
                          </a:lnTo>
                          <a:lnTo>
                            <a:pt x="138" y="601"/>
                          </a:lnTo>
                          <a:lnTo>
                            <a:pt x="124" y="607"/>
                          </a:lnTo>
                          <a:lnTo>
                            <a:pt x="114" y="603"/>
                          </a:lnTo>
                          <a:lnTo>
                            <a:pt x="110" y="592"/>
                          </a:lnTo>
                          <a:lnTo>
                            <a:pt x="105" y="583"/>
                          </a:lnTo>
                          <a:lnTo>
                            <a:pt x="96" y="580"/>
                          </a:lnTo>
                          <a:lnTo>
                            <a:pt x="83" y="577"/>
                          </a:lnTo>
                          <a:lnTo>
                            <a:pt x="74" y="573"/>
                          </a:lnTo>
                          <a:lnTo>
                            <a:pt x="66" y="565"/>
                          </a:lnTo>
                          <a:lnTo>
                            <a:pt x="53" y="561"/>
                          </a:lnTo>
                          <a:lnTo>
                            <a:pt x="41" y="553"/>
                          </a:lnTo>
                          <a:lnTo>
                            <a:pt x="27" y="553"/>
                          </a:lnTo>
                          <a:lnTo>
                            <a:pt x="15" y="547"/>
                          </a:lnTo>
                          <a:lnTo>
                            <a:pt x="6" y="537"/>
                          </a:lnTo>
                          <a:lnTo>
                            <a:pt x="0" y="528"/>
                          </a:lnTo>
                          <a:lnTo>
                            <a:pt x="0" y="519"/>
                          </a:lnTo>
                          <a:lnTo>
                            <a:pt x="9" y="513"/>
                          </a:lnTo>
                          <a:lnTo>
                            <a:pt x="20" y="504"/>
                          </a:lnTo>
                          <a:lnTo>
                            <a:pt x="20" y="498"/>
                          </a:lnTo>
                          <a:lnTo>
                            <a:pt x="18" y="486"/>
                          </a:lnTo>
                          <a:lnTo>
                            <a:pt x="15" y="471"/>
                          </a:lnTo>
                          <a:lnTo>
                            <a:pt x="12" y="455"/>
                          </a:lnTo>
                          <a:lnTo>
                            <a:pt x="14" y="434"/>
                          </a:lnTo>
                          <a:lnTo>
                            <a:pt x="18" y="407"/>
                          </a:lnTo>
                          <a:lnTo>
                            <a:pt x="29" y="395"/>
                          </a:lnTo>
                          <a:lnTo>
                            <a:pt x="44" y="380"/>
                          </a:lnTo>
                          <a:lnTo>
                            <a:pt x="54" y="363"/>
                          </a:lnTo>
                          <a:lnTo>
                            <a:pt x="62" y="341"/>
                          </a:lnTo>
                          <a:lnTo>
                            <a:pt x="60" y="325"/>
                          </a:lnTo>
                          <a:lnTo>
                            <a:pt x="54" y="298"/>
                          </a:lnTo>
                          <a:lnTo>
                            <a:pt x="56" y="280"/>
                          </a:lnTo>
                          <a:lnTo>
                            <a:pt x="59" y="260"/>
                          </a:lnTo>
                          <a:lnTo>
                            <a:pt x="65" y="248"/>
                          </a:lnTo>
                          <a:lnTo>
                            <a:pt x="77" y="241"/>
                          </a:lnTo>
                          <a:lnTo>
                            <a:pt x="81" y="232"/>
                          </a:lnTo>
                          <a:lnTo>
                            <a:pt x="86" y="217"/>
                          </a:lnTo>
                          <a:lnTo>
                            <a:pt x="87" y="212"/>
                          </a:lnTo>
                          <a:lnTo>
                            <a:pt x="93" y="193"/>
                          </a:lnTo>
                          <a:lnTo>
                            <a:pt x="96" y="180"/>
                          </a:lnTo>
                          <a:lnTo>
                            <a:pt x="98" y="165"/>
                          </a:lnTo>
                          <a:lnTo>
                            <a:pt x="104" y="160"/>
                          </a:lnTo>
                          <a:lnTo>
                            <a:pt x="110" y="160"/>
                          </a:lnTo>
                          <a:lnTo>
                            <a:pt x="116" y="165"/>
                          </a:lnTo>
                          <a:lnTo>
                            <a:pt x="120" y="160"/>
                          </a:lnTo>
                          <a:lnTo>
                            <a:pt x="127" y="147"/>
                          </a:lnTo>
                          <a:lnTo>
                            <a:pt x="127" y="138"/>
                          </a:lnTo>
                          <a:lnTo>
                            <a:pt x="121" y="39"/>
                          </a:lnTo>
                          <a:lnTo>
                            <a:pt x="190" y="0"/>
                          </a:lnTo>
                          <a:lnTo>
                            <a:pt x="196" y="3"/>
                          </a:lnTo>
                          <a:lnTo>
                            <a:pt x="207" y="6"/>
                          </a:lnTo>
                          <a:lnTo>
                            <a:pt x="219" y="9"/>
                          </a:lnTo>
                          <a:lnTo>
                            <a:pt x="232" y="15"/>
                          </a:lnTo>
                          <a:lnTo>
                            <a:pt x="237" y="18"/>
                          </a:lnTo>
                          <a:lnTo>
                            <a:pt x="248" y="18"/>
                          </a:lnTo>
                          <a:lnTo>
                            <a:pt x="256" y="18"/>
                          </a:lnTo>
                          <a:lnTo>
                            <a:pt x="265" y="17"/>
                          </a:lnTo>
                          <a:lnTo>
                            <a:pt x="269" y="15"/>
                          </a:lnTo>
                          <a:lnTo>
                            <a:pt x="284" y="11"/>
                          </a:lnTo>
                          <a:lnTo>
                            <a:pt x="301" y="5"/>
                          </a:lnTo>
                          <a:lnTo>
                            <a:pt x="316" y="0"/>
                          </a:lnTo>
                          <a:lnTo>
                            <a:pt x="328" y="0"/>
                          </a:lnTo>
                          <a:lnTo>
                            <a:pt x="334" y="21"/>
                          </a:lnTo>
                          <a:lnTo>
                            <a:pt x="347" y="55"/>
                          </a:lnTo>
                          <a:lnTo>
                            <a:pt x="314" y="124"/>
                          </a:lnTo>
                          <a:lnTo>
                            <a:pt x="329" y="147"/>
                          </a:lnTo>
                          <a:lnTo>
                            <a:pt x="349" y="145"/>
                          </a:lnTo>
                          <a:lnTo>
                            <a:pt x="384" y="171"/>
                          </a:lnTo>
                          <a:lnTo>
                            <a:pt x="361" y="193"/>
                          </a:lnTo>
                          <a:lnTo>
                            <a:pt x="350" y="211"/>
                          </a:lnTo>
                          <a:lnTo>
                            <a:pt x="353" y="224"/>
                          </a:lnTo>
                          <a:lnTo>
                            <a:pt x="346" y="241"/>
                          </a:lnTo>
                          <a:lnTo>
                            <a:pt x="341" y="256"/>
                          </a:lnTo>
                          <a:lnTo>
                            <a:pt x="328" y="272"/>
                          </a:lnTo>
                          <a:lnTo>
                            <a:pt x="313" y="290"/>
                          </a:lnTo>
                          <a:lnTo>
                            <a:pt x="304" y="304"/>
                          </a:lnTo>
                          <a:lnTo>
                            <a:pt x="307" y="326"/>
                          </a:lnTo>
                          <a:lnTo>
                            <a:pt x="287" y="353"/>
                          </a:lnTo>
                          <a:lnTo>
                            <a:pt x="269" y="378"/>
                          </a:lnTo>
                          <a:lnTo>
                            <a:pt x="265" y="401"/>
                          </a:lnTo>
                          <a:lnTo>
                            <a:pt x="265" y="419"/>
                          </a:lnTo>
                          <a:lnTo>
                            <a:pt x="269" y="437"/>
                          </a:lnTo>
                          <a:lnTo>
                            <a:pt x="296" y="458"/>
                          </a:lnTo>
                          <a:lnTo>
                            <a:pt x="319" y="476"/>
                          </a:lnTo>
                          <a:lnTo>
                            <a:pt x="319" y="558"/>
                          </a:lnTo>
                          <a:lnTo>
                            <a:pt x="228" y="664"/>
                          </a:lnTo>
                          <a:close/>
                        </a:path>
                      </a:pathLst>
                    </a:custGeom>
                    <a:solidFill>
                      <a:srgbClr val="e9ffb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3" name="Line 250"/>
                    <p:cNvSpPr/>
                    <p:nvPr/>
                  </p:nvSpPr>
                  <p:spPr>
                    <a:xfrm flipH="1" flipV="1">
                      <a:off x="7453440" y="2579400"/>
                      <a:ext cx="288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4" name="Line 251"/>
                    <p:cNvSpPr/>
                    <p:nvPr/>
                  </p:nvSpPr>
                  <p:spPr>
                    <a:xfrm flipH="1" flipV="1">
                      <a:off x="7425360" y="2553840"/>
                      <a:ext cx="15480" cy="1116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5" name="Freeform 252"/>
                    <p:cNvSpPr/>
                    <p:nvPr/>
                  </p:nvSpPr>
                  <p:spPr>
                    <a:xfrm>
                      <a:off x="7395120" y="2527200"/>
                      <a:ext cx="15120" cy="14400"/>
                    </a:xfrm>
                    <a:custGeom>
                      <a:avLst/>
                      <a:gdLst>
                        <a:gd name="textAreaLeft" fmla="*/ 0 w 15120"/>
                        <a:gd name="textAreaRight" fmla="*/ 15480 w 1512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9" h="9">
                          <a:moveTo>
                            <a:pt x="9" y="9"/>
                          </a:moveTo>
                          <a:lnTo>
                            <a:pt x="7" y="8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6" name="Freeform 253"/>
                    <p:cNvSpPr/>
                    <p:nvPr/>
                  </p:nvSpPr>
                  <p:spPr>
                    <a:xfrm>
                      <a:off x="7359120" y="2511360"/>
                      <a:ext cx="16920" cy="6480"/>
                    </a:xfrm>
                    <a:custGeom>
                      <a:avLst/>
                      <a:gdLst>
                        <a:gd name="textAreaLeft" fmla="*/ 0 w 16920"/>
                        <a:gd name="textAreaRight" fmla="*/ 17280 w 16920"/>
                        <a:gd name="textAreaTop" fmla="*/ 0 h 6480"/>
                        <a:gd name="textAreaBottom" fmla="*/ 6840 h 6480"/>
                      </a:gdLst>
                      <a:ahLst/>
                      <a:rect l="textAreaLeft" t="textAreaTop" r="textAreaRight" b="textAreaBottom"/>
                      <a:pathLst>
                        <a:path w="10" h="4">
                          <a:moveTo>
                            <a:pt x="10" y="4"/>
                          </a:moveTo>
                          <a:lnTo>
                            <a:pt x="9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7" name="Freeform 254"/>
                    <p:cNvSpPr/>
                    <p:nvPr/>
                  </p:nvSpPr>
                  <p:spPr>
                    <a:xfrm>
                      <a:off x="7333560" y="2503440"/>
                      <a:ext cx="2052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" h="0">
                          <a:moveTo>
                            <a:pt x="12" y="0"/>
                          </a:moveTo>
                          <a:lnTo>
                            <a:pt x="6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8" name="Freeform 255"/>
                    <p:cNvSpPr/>
                    <p:nvPr/>
                  </p:nvSpPr>
                  <p:spPr>
                    <a:xfrm>
                      <a:off x="7293960" y="2498760"/>
                      <a:ext cx="18720" cy="3240"/>
                    </a:xfrm>
                    <a:custGeom>
                      <a:avLst/>
                      <a:gdLst>
                        <a:gd name="textAreaLeft" fmla="*/ 0 w 18720"/>
                        <a:gd name="textAreaRight" fmla="*/ 19080 w 18720"/>
                        <a:gd name="textAreaTop" fmla="*/ 0 h 3240"/>
                        <a:gd name="textAreaBottom" fmla="*/ 3600 h 3240"/>
                      </a:gdLst>
                      <a:ahLst/>
                      <a:rect l="textAreaLeft" t="textAreaTop" r="textAreaRight" b="textAreaBottom"/>
                      <a:pathLst>
                        <a:path w="11" h="2">
                          <a:moveTo>
                            <a:pt x="11" y="2"/>
                          </a:moveTo>
                          <a:lnTo>
                            <a:pt x="5" y="0"/>
                          </a:lnTo>
                          <a:lnTo>
                            <a:pt x="0" y="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9" name="Freeform 256"/>
                    <p:cNvSpPr/>
                    <p:nvPr/>
                  </p:nvSpPr>
                  <p:spPr>
                    <a:xfrm>
                      <a:off x="7259760" y="2496960"/>
                      <a:ext cx="13680" cy="9720"/>
                    </a:xfrm>
                    <a:custGeom>
                      <a:avLst/>
                      <a:gdLst>
                        <a:gd name="textAreaLeft" fmla="*/ 0 w 13680"/>
                        <a:gd name="textAreaRight" fmla="*/ 14040 w 13680"/>
                        <a:gd name="textAreaTop" fmla="*/ 0 h 9720"/>
                        <a:gd name="textAreaBottom" fmla="*/ 10080 h 9720"/>
                      </a:gdLst>
                      <a:ahLst/>
                      <a:rect l="textAreaLeft" t="textAreaTop" r="textAreaRight" b="textAreaBottom"/>
                      <a:pathLst>
                        <a:path w="8" h="6">
                          <a:moveTo>
                            <a:pt x="8" y="6"/>
                          </a:moveTo>
                          <a:lnTo>
                            <a:pt x="1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0" name="Freeform 257"/>
                    <p:cNvSpPr/>
                    <p:nvPr/>
                  </p:nvSpPr>
                  <p:spPr>
                    <a:xfrm>
                      <a:off x="7236360" y="2468520"/>
                      <a:ext cx="15120" cy="9360"/>
                    </a:xfrm>
                    <a:custGeom>
                      <a:avLst/>
                      <a:gdLst>
                        <a:gd name="textAreaLeft" fmla="*/ 0 w 15120"/>
                        <a:gd name="textAreaRight" fmla="*/ 15480 w 15120"/>
                        <a:gd name="textAreaTop" fmla="*/ 0 h 9360"/>
                        <a:gd name="textAreaBottom" fmla="*/ 9720 h 9360"/>
                      </a:gdLst>
                      <a:ahLst/>
                      <a:rect l="textAreaLeft" t="textAreaTop" r="textAreaRight" b="textAreaBottom"/>
                      <a:pathLst>
                        <a:path w="9" h="6">
                          <a:moveTo>
                            <a:pt x="9" y="6"/>
                          </a:moveTo>
                          <a:lnTo>
                            <a:pt x="6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1" name="Freeform 258"/>
                    <p:cNvSpPr/>
                    <p:nvPr/>
                  </p:nvSpPr>
                  <p:spPr>
                    <a:xfrm>
                      <a:off x="7198560" y="2455920"/>
                      <a:ext cx="16920" cy="7920"/>
                    </a:xfrm>
                    <a:custGeom>
                      <a:avLst/>
                      <a:gdLst>
                        <a:gd name="textAreaLeft" fmla="*/ 0 w 16920"/>
                        <a:gd name="textAreaRight" fmla="*/ 17280 w 16920"/>
                        <a:gd name="textAreaTop" fmla="*/ 0 h 7920"/>
                        <a:gd name="textAreaBottom" fmla="*/ 8280 h 7920"/>
                      </a:gdLst>
                      <a:ahLst/>
                      <a:rect l="textAreaLeft" t="textAreaTop" r="textAreaRight" b="textAreaBottom"/>
                      <a:pathLst>
                        <a:path w="10" h="5">
                          <a:moveTo>
                            <a:pt x="10" y="5"/>
                          </a:moveTo>
                          <a:lnTo>
                            <a:pt x="6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2" name="Freeform 259"/>
                    <p:cNvSpPr/>
                    <p:nvPr/>
                  </p:nvSpPr>
                  <p:spPr>
                    <a:xfrm>
                      <a:off x="7162560" y="2436840"/>
                      <a:ext cx="20520" cy="7920"/>
                    </a:xfrm>
                    <a:custGeom>
                      <a:avLst/>
                      <a:gdLst>
                        <a:gd name="textAreaLeft" fmla="*/ 0 w 20520"/>
                        <a:gd name="textAreaRight" fmla="*/ 20880 w 20520"/>
                        <a:gd name="textAreaTop" fmla="*/ 0 h 7920"/>
                        <a:gd name="textAreaBottom" fmla="*/ 8280 h 7920"/>
                      </a:gdLst>
                      <a:ahLst/>
                      <a:rect l="textAreaLeft" t="textAreaTop" r="textAreaRight" b="textAreaBottom"/>
                      <a:pathLst>
                        <a:path w="12" h="5">
                          <a:moveTo>
                            <a:pt x="12" y="5"/>
                          </a:moveTo>
                          <a:lnTo>
                            <a:pt x="10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3" name="Freeform 260"/>
                    <p:cNvSpPr/>
                    <p:nvPr/>
                  </p:nvSpPr>
                  <p:spPr>
                    <a:xfrm>
                      <a:off x="7126560" y="2422440"/>
                      <a:ext cx="16920" cy="4680"/>
                    </a:xfrm>
                    <a:custGeom>
                      <a:avLst/>
                      <a:gdLst>
                        <a:gd name="textAreaLeft" fmla="*/ 0 w 16920"/>
                        <a:gd name="textAreaRight" fmla="*/ 17280 w 16920"/>
                        <a:gd name="textAreaTop" fmla="*/ 0 h 4680"/>
                        <a:gd name="textAreaBottom" fmla="*/ 5040 h 4680"/>
                      </a:gdLst>
                      <a:ahLst/>
                      <a:rect l="textAreaLeft" t="textAreaTop" r="textAreaRight" b="textAreaBottom"/>
                      <a:pathLst>
                        <a:path w="10" h="3">
                          <a:moveTo>
                            <a:pt x="10" y="3"/>
                          </a:moveTo>
                          <a:lnTo>
                            <a:pt x="6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4" name="Freeform 261"/>
                    <p:cNvSpPr/>
                    <p:nvPr/>
                  </p:nvSpPr>
                  <p:spPr>
                    <a:xfrm>
                      <a:off x="7087320" y="2408040"/>
                      <a:ext cx="18360" cy="12960"/>
                    </a:xfrm>
                    <a:custGeom>
                      <a:avLst/>
                      <a:gdLst>
                        <a:gd name="textAreaLeft" fmla="*/ 0 w 18360"/>
                        <a:gd name="textAreaRight" fmla="*/ 18720 w 18360"/>
                        <a:gd name="textAreaTop" fmla="*/ 0 h 12960"/>
                        <a:gd name="textAreaBottom" fmla="*/ 13320 h 12960"/>
                      </a:gdLst>
                      <a:ahLst/>
                      <a:rect l="textAreaLeft" t="textAreaTop" r="textAreaRight" b="textAreaBottom"/>
                      <a:pathLst>
                        <a:path w="11" h="8">
                          <a:moveTo>
                            <a:pt x="11" y="8"/>
                          </a:moveTo>
                          <a:lnTo>
                            <a:pt x="3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480" bIns="-33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5" name="Freeform 262"/>
                    <p:cNvSpPr/>
                    <p:nvPr/>
                  </p:nvSpPr>
                  <p:spPr>
                    <a:xfrm>
                      <a:off x="7066800" y="2378160"/>
                      <a:ext cx="8280" cy="15840"/>
                    </a:xfrm>
                    <a:custGeom>
                      <a:avLst/>
                      <a:gdLst>
                        <a:gd name="textAreaLeft" fmla="*/ 0 w 8280"/>
                        <a:gd name="textAreaRight" fmla="*/ 8640 w 828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5" h="10">
                          <a:moveTo>
                            <a:pt x="5" y="10"/>
                          </a:moveTo>
                          <a:lnTo>
                            <a:pt x="0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866" name="Freeform 263"/>
                  <p:cNvSpPr/>
                  <p:nvPr/>
                </p:nvSpPr>
                <p:spPr>
                  <a:xfrm>
                    <a:off x="7075440" y="2352600"/>
                    <a:ext cx="15480" cy="11160"/>
                  </a:xfrm>
                  <a:custGeom>
                    <a:avLst/>
                    <a:gdLst>
                      <a:gd name="textAreaLeft" fmla="*/ 0 w 15480"/>
                      <a:gd name="textAreaRight" fmla="*/ 15840 w 15480"/>
                      <a:gd name="textAreaTop" fmla="*/ 0 h 11160"/>
                      <a:gd name="textAreaBottom" fmla="*/ 11520 h 11160"/>
                    </a:gdLst>
                    <a:ahLst/>
                    <a:rect l="textAreaLeft" t="textAreaTop" r="textAreaRight" b="textAreaBottom"/>
                    <a:pathLst>
                      <a:path w="9" h="7">
                        <a:moveTo>
                          <a:pt x="0" y="7"/>
                        </a:moveTo>
                        <a:lnTo>
                          <a:pt x="4" y="4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7" name="Line 264"/>
                  <p:cNvSpPr/>
                  <p:nvPr/>
                </p:nvSpPr>
                <p:spPr>
                  <a:xfrm flipH="1" flipV="1">
                    <a:off x="7097040" y="2315880"/>
                    <a:ext cx="324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8" name="Freeform 265"/>
                  <p:cNvSpPr/>
                  <p:nvPr/>
                </p:nvSpPr>
                <p:spPr>
                  <a:xfrm>
                    <a:off x="7090920" y="2281320"/>
                    <a:ext cx="5040" cy="19080"/>
                  </a:xfrm>
                  <a:custGeom>
                    <a:avLst/>
                    <a:gdLst>
                      <a:gd name="textAreaLeft" fmla="*/ 0 w 5040"/>
                      <a:gd name="textAreaRight" fmla="*/ 5400 w 5040"/>
                      <a:gd name="textAreaTop" fmla="*/ 0 h 19080"/>
                      <a:gd name="textAreaBottom" fmla="*/ 19440 h 19080"/>
                    </a:gdLst>
                    <a:ahLst/>
                    <a:rect l="textAreaLeft" t="textAreaTop" r="textAreaRight" b="textAreaBottom"/>
                    <a:pathLst>
                      <a:path w="3" h="12">
                        <a:moveTo>
                          <a:pt x="3" y="12"/>
                        </a:moveTo>
                        <a:lnTo>
                          <a:pt x="1" y="7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9" name="Line 266"/>
                  <p:cNvSpPr/>
                  <p:nvPr/>
                </p:nvSpPr>
                <p:spPr>
                  <a:xfrm flipV="1">
                    <a:off x="7087320" y="2242800"/>
                    <a:ext cx="324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0" name="Line 267"/>
                  <p:cNvSpPr/>
                  <p:nvPr/>
                </p:nvSpPr>
                <p:spPr>
                  <a:xfrm flipV="1">
                    <a:off x="7092360" y="2204640"/>
                    <a:ext cx="324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1" name="Line 268"/>
                  <p:cNvSpPr/>
                  <p:nvPr/>
                </p:nvSpPr>
                <p:spPr>
                  <a:xfrm flipV="1">
                    <a:off x="7102800" y="2172960"/>
                    <a:ext cx="13320" cy="1404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2" name="Freeform 269"/>
                  <p:cNvSpPr/>
                  <p:nvPr/>
                </p:nvSpPr>
                <p:spPr>
                  <a:xfrm>
                    <a:off x="7131960" y="2144520"/>
                    <a:ext cx="11520" cy="14400"/>
                  </a:xfrm>
                  <a:custGeom>
                    <a:avLst/>
                    <a:gdLst>
                      <a:gd name="textAreaLeft" fmla="*/ 0 w 11520"/>
                      <a:gd name="textAreaRight" fmla="*/ 11880 w 1152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7" h="9">
                        <a:moveTo>
                          <a:pt x="0" y="9"/>
                        </a:moveTo>
                        <a:lnTo>
                          <a:pt x="6" y="2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3" name="Freeform 270"/>
                  <p:cNvSpPr/>
                  <p:nvPr/>
                </p:nvSpPr>
                <p:spPr>
                  <a:xfrm>
                    <a:off x="7154280" y="2111400"/>
                    <a:ext cx="10080" cy="1728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7280"/>
                      <a:gd name="textAreaBottom" fmla="*/ 17280 h 17280"/>
                    </a:gdLst>
                    <a:ahLst/>
                    <a:rect l="textAreaLeft" t="textAreaTop" r="textAreaRight" b="textAreaBottom"/>
                    <a:pathLst>
                      <a:path w="6" h="11">
                        <a:moveTo>
                          <a:pt x="0" y="11"/>
                        </a:moveTo>
                        <a:lnTo>
                          <a:pt x="3" y="6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4" name="Freeform 271"/>
                  <p:cNvSpPr/>
                  <p:nvPr/>
                </p:nvSpPr>
                <p:spPr>
                  <a:xfrm>
                    <a:off x="7169760" y="2074680"/>
                    <a:ext cx="2880" cy="19080"/>
                  </a:xfrm>
                  <a:custGeom>
                    <a:avLst/>
                    <a:gdLst>
                      <a:gd name="textAreaLeft" fmla="*/ 0 w 2880"/>
                      <a:gd name="textAreaRight" fmla="*/ 3240 w 2880"/>
                      <a:gd name="textAreaTop" fmla="*/ 0 h 19080"/>
                      <a:gd name="textAreaBottom" fmla="*/ 19440 h 19080"/>
                    </a:gdLst>
                    <a:ahLst/>
                    <a:rect l="textAreaLeft" t="textAreaTop" r="textAreaRight" b="textAreaBottom"/>
                    <a:pathLst>
                      <a:path w="2" h="12">
                        <a:moveTo>
                          <a:pt x="0" y="12"/>
                        </a:moveTo>
                        <a:lnTo>
                          <a:pt x="2" y="7"/>
                        </a:lnTo>
                        <a:lnTo>
                          <a:pt x="2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5" name="Line 272"/>
                  <p:cNvSpPr/>
                  <p:nvPr/>
                </p:nvSpPr>
                <p:spPr>
                  <a:xfrm flipH="1" flipV="1">
                    <a:off x="7164000" y="2038320"/>
                    <a:ext cx="5400" cy="172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6" name="Freeform 273"/>
                  <p:cNvSpPr/>
                  <p:nvPr/>
                </p:nvSpPr>
                <p:spPr>
                  <a:xfrm>
                    <a:off x="7159320" y="2000160"/>
                    <a:ext cx="3240" cy="19080"/>
                  </a:xfrm>
                  <a:custGeom>
                    <a:avLst/>
                    <a:gdLst>
                      <a:gd name="textAreaLeft" fmla="*/ 0 w 3240"/>
                      <a:gd name="textAreaRight" fmla="*/ 3600 w 3240"/>
                      <a:gd name="textAreaTop" fmla="*/ 0 h 19080"/>
                      <a:gd name="textAreaBottom" fmla="*/ 19440 h 19080"/>
                    </a:gdLst>
                    <a:ahLst/>
                    <a:rect l="textAreaLeft" t="textAreaTop" r="textAreaRight" b="textAreaBottom"/>
                    <a:pathLst>
                      <a:path w="2" h="12">
                        <a:moveTo>
                          <a:pt x="0" y="12"/>
                        </a:moveTo>
                        <a:lnTo>
                          <a:pt x="0" y="11"/>
                        </a:lnTo>
                        <a:lnTo>
                          <a:pt x="2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7" name="Line 274"/>
                  <p:cNvSpPr/>
                  <p:nvPr/>
                </p:nvSpPr>
                <p:spPr>
                  <a:xfrm flipV="1">
                    <a:off x="7162560" y="1961640"/>
                    <a:ext cx="504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8" name="Freeform 275"/>
                  <p:cNvSpPr/>
                  <p:nvPr/>
                </p:nvSpPr>
                <p:spPr>
                  <a:xfrm>
                    <a:off x="7174800" y="1931760"/>
                    <a:ext cx="13320" cy="14400"/>
                  </a:xfrm>
                  <a:custGeom>
                    <a:avLst/>
                    <a:gdLst>
                      <a:gd name="textAreaLeft" fmla="*/ 0 w 13320"/>
                      <a:gd name="textAreaRight" fmla="*/ 13680 w 1332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8" h="9">
                        <a:moveTo>
                          <a:pt x="0" y="9"/>
                        </a:moveTo>
                        <a:lnTo>
                          <a:pt x="2" y="4"/>
                        </a:lnTo>
                        <a:lnTo>
                          <a:pt x="8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9" name="Freeform 276"/>
                  <p:cNvSpPr/>
                  <p:nvPr/>
                </p:nvSpPr>
                <p:spPr>
                  <a:xfrm>
                    <a:off x="7203600" y="1900080"/>
                    <a:ext cx="5040" cy="19080"/>
                  </a:xfrm>
                  <a:custGeom>
                    <a:avLst/>
                    <a:gdLst>
                      <a:gd name="textAreaLeft" fmla="*/ 0 w 5040"/>
                      <a:gd name="textAreaRight" fmla="*/ 5400 w 5040"/>
                      <a:gd name="textAreaTop" fmla="*/ 0 h 19080"/>
                      <a:gd name="textAreaBottom" fmla="*/ 19440 h 19080"/>
                    </a:gdLst>
                    <a:ahLst/>
                    <a:rect l="textAreaLeft" t="textAreaTop" r="textAreaRight" b="textAreaBottom"/>
                    <a:pathLst>
                      <a:path w="3" h="12">
                        <a:moveTo>
                          <a:pt x="0" y="12"/>
                        </a:moveTo>
                        <a:lnTo>
                          <a:pt x="1" y="8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0" name="Freeform 277"/>
                  <p:cNvSpPr/>
                  <p:nvPr/>
                </p:nvSpPr>
                <p:spPr>
                  <a:xfrm>
                    <a:off x="7215840" y="1865160"/>
                    <a:ext cx="5040" cy="15840"/>
                  </a:xfrm>
                  <a:custGeom>
                    <a:avLst/>
                    <a:gdLst>
                      <a:gd name="textAreaLeft" fmla="*/ 0 w 5040"/>
                      <a:gd name="textAreaRight" fmla="*/ 5400 w 5040"/>
                      <a:gd name="textAreaTop" fmla="*/ 0 h 15840"/>
                      <a:gd name="textAreaBottom" fmla="*/ 16200 h 15840"/>
                    </a:gdLst>
                    <a:ahLst/>
                    <a:rect l="textAreaLeft" t="textAreaTop" r="textAreaRight" b="textAreaBottom"/>
                    <a:pathLst>
                      <a:path w="3" h="10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1" name="Freeform 278"/>
                  <p:cNvSpPr/>
                  <p:nvPr/>
                </p:nvSpPr>
                <p:spPr>
                  <a:xfrm>
                    <a:off x="7225920" y="1827000"/>
                    <a:ext cx="5040" cy="19080"/>
                  </a:xfrm>
                  <a:custGeom>
                    <a:avLst/>
                    <a:gdLst>
                      <a:gd name="textAreaLeft" fmla="*/ 0 w 5040"/>
                      <a:gd name="textAreaRight" fmla="*/ 5400 w 5040"/>
                      <a:gd name="textAreaTop" fmla="*/ 0 h 19080"/>
                      <a:gd name="textAreaBottom" fmla="*/ 19440 h 19080"/>
                    </a:gdLst>
                    <a:ahLst/>
                    <a:rect l="textAreaLeft" t="textAreaTop" r="textAreaRight" b="textAreaBottom"/>
                    <a:pathLst>
                      <a:path w="3" h="12">
                        <a:moveTo>
                          <a:pt x="0" y="12"/>
                        </a:moveTo>
                        <a:lnTo>
                          <a:pt x="3" y="2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2" name="Freeform 279"/>
                  <p:cNvSpPr/>
                  <p:nvPr/>
                </p:nvSpPr>
                <p:spPr>
                  <a:xfrm>
                    <a:off x="7234560" y="1798560"/>
                    <a:ext cx="15480" cy="9720"/>
                  </a:xfrm>
                  <a:custGeom>
                    <a:avLst/>
                    <a:gdLst>
                      <a:gd name="textAreaLeft" fmla="*/ 0 w 15480"/>
                      <a:gd name="textAreaRight" fmla="*/ 15840 w 15480"/>
                      <a:gd name="textAreaTop" fmla="*/ 0 h 9720"/>
                      <a:gd name="textAreaBottom" fmla="*/ 10080 h 9720"/>
                    </a:gdLst>
                    <a:ahLst/>
                    <a:rect l="textAreaLeft" t="textAreaTop" r="textAreaRight" b="textAreaBottom"/>
                    <a:pathLst>
                      <a:path w="9" h="6">
                        <a:moveTo>
                          <a:pt x="0" y="6"/>
                        </a:moveTo>
                        <a:lnTo>
                          <a:pt x="0" y="5"/>
                        </a:lnTo>
                        <a:lnTo>
                          <a:pt x="6" y="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3" name="Freeform 280"/>
                  <p:cNvSpPr/>
                  <p:nvPr/>
                </p:nvSpPr>
                <p:spPr>
                  <a:xfrm>
                    <a:off x="7266960" y="1789200"/>
                    <a:ext cx="10080" cy="1404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4040"/>
                      <a:gd name="textAreaBottom" fmla="*/ 14400 h 14040"/>
                    </a:gdLst>
                    <a:ahLst/>
                    <a:rect l="textAreaLeft" t="textAreaTop" r="textAreaRight" b="textAreaBottom"/>
                    <a:pathLst>
                      <a:path w="6" h="9">
                        <a:moveTo>
                          <a:pt x="0" y="9"/>
                        </a:moveTo>
                        <a:lnTo>
                          <a:pt x="3" y="6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4" name="Freeform 281"/>
                  <p:cNvSpPr/>
                  <p:nvPr/>
                </p:nvSpPr>
                <p:spPr>
                  <a:xfrm>
                    <a:off x="7284240" y="1751040"/>
                    <a:ext cx="36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12">
                        <a:moveTo>
                          <a:pt x="0" y="12"/>
                        </a:moveTo>
                        <a:lnTo>
                          <a:pt x="0" y="8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5" name="Line 282"/>
                  <p:cNvSpPr/>
                  <p:nvPr/>
                </p:nvSpPr>
                <p:spPr>
                  <a:xfrm flipH="1" flipV="1">
                    <a:off x="7282440" y="1712520"/>
                    <a:ext cx="144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6" name="Line 283"/>
                  <p:cNvSpPr/>
                  <p:nvPr/>
                </p:nvSpPr>
                <p:spPr>
                  <a:xfrm flipH="1" flipV="1">
                    <a:off x="7278840" y="1674360"/>
                    <a:ext cx="324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7" name="Line 284"/>
                  <p:cNvSpPr/>
                  <p:nvPr/>
                </p:nvSpPr>
                <p:spPr>
                  <a:xfrm flipH="1" flipV="1">
                    <a:off x="7276680" y="1636200"/>
                    <a:ext cx="180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8" name="Freeform 285"/>
                  <p:cNvSpPr/>
                  <p:nvPr/>
                </p:nvSpPr>
                <p:spPr>
                  <a:xfrm>
                    <a:off x="7274160" y="1604880"/>
                    <a:ext cx="8280" cy="12600"/>
                  </a:xfrm>
                  <a:custGeom>
                    <a:avLst/>
                    <a:gdLst>
                      <a:gd name="textAreaLeft" fmla="*/ 0 w 8280"/>
                      <a:gd name="textAreaRight" fmla="*/ 8640 w 828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5" h="8">
                        <a:moveTo>
                          <a:pt x="2" y="8"/>
                        </a:moveTo>
                        <a:lnTo>
                          <a:pt x="0" y="1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9" name="Line 286"/>
                  <p:cNvSpPr/>
                  <p:nvPr/>
                </p:nvSpPr>
                <p:spPr>
                  <a:xfrm flipV="1">
                    <a:off x="7299720" y="1585440"/>
                    <a:ext cx="18360" cy="972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0" name="Line 287"/>
                  <p:cNvSpPr/>
                  <p:nvPr/>
                </p:nvSpPr>
                <p:spPr>
                  <a:xfrm flipV="1">
                    <a:off x="7335360" y="1566360"/>
                    <a:ext cx="18720" cy="972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1" name="Line 288"/>
                  <p:cNvSpPr/>
                  <p:nvPr/>
                </p:nvSpPr>
                <p:spPr>
                  <a:xfrm flipV="1">
                    <a:off x="7371360" y="1547280"/>
                    <a:ext cx="18360" cy="972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2" name="Freeform 289"/>
                  <p:cNvSpPr/>
                  <p:nvPr/>
                </p:nvSpPr>
                <p:spPr>
                  <a:xfrm>
                    <a:off x="7410600" y="1552680"/>
                    <a:ext cx="16920" cy="4680"/>
                  </a:xfrm>
                  <a:custGeom>
                    <a:avLst/>
                    <a:gdLst>
                      <a:gd name="textAreaLeft" fmla="*/ 0 w 16920"/>
                      <a:gd name="textAreaRight" fmla="*/ 17280 w 16920"/>
                      <a:gd name="textAreaTop" fmla="*/ 0 h 4680"/>
                      <a:gd name="textAreaBottom" fmla="*/ 5040 h 4680"/>
                    </a:gdLst>
                    <a:ahLst/>
                    <a:rect l="textAreaLeft" t="textAreaTop" r="textAreaRight" b="textAreaBottom"/>
                    <a:pathLst>
                      <a:path w="10" h="3">
                        <a:moveTo>
                          <a:pt x="0" y="0"/>
                        </a:moveTo>
                        <a:lnTo>
                          <a:pt x="6" y="1"/>
                        </a:lnTo>
                        <a:lnTo>
                          <a:pt x="10" y="3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3" name="Freeform 290"/>
                  <p:cNvSpPr/>
                  <p:nvPr/>
                </p:nvSpPr>
                <p:spPr>
                  <a:xfrm>
                    <a:off x="7448040" y="1562040"/>
                    <a:ext cx="18720" cy="9360"/>
                  </a:xfrm>
                  <a:custGeom>
                    <a:avLst/>
                    <a:gdLst>
                      <a:gd name="textAreaLeft" fmla="*/ 0 w 18720"/>
                      <a:gd name="textAreaRight" fmla="*/ 19080 w 18720"/>
                      <a:gd name="textAreaTop" fmla="*/ 0 h 9360"/>
                      <a:gd name="textAreaBottom" fmla="*/ 9720 h 9360"/>
                    </a:gdLst>
                    <a:ahLst/>
                    <a:rect l="textAreaLeft" t="textAreaTop" r="textAreaRight" b="textAreaBottom"/>
                    <a:pathLst>
                      <a:path w="11" h="6">
                        <a:moveTo>
                          <a:pt x="0" y="0"/>
                        </a:moveTo>
                        <a:lnTo>
                          <a:pt x="9" y="4"/>
                        </a:lnTo>
                        <a:lnTo>
                          <a:pt x="11" y="6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4" name="Freeform 291"/>
                  <p:cNvSpPr/>
                  <p:nvPr/>
                </p:nvSpPr>
                <p:spPr>
                  <a:xfrm>
                    <a:off x="7487640" y="1573200"/>
                    <a:ext cx="18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0">
                        <a:moveTo>
                          <a:pt x="0" y="0"/>
                        </a:moveTo>
                        <a:lnTo>
                          <a:pt x="2" y="0"/>
                        </a:lnTo>
                        <a:lnTo>
                          <a:pt x="10" y="0"/>
                        </a:lnTo>
                        <a:lnTo>
                          <a:pt x="11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5" name="Freeform 292"/>
                  <p:cNvSpPr/>
                  <p:nvPr/>
                </p:nvSpPr>
                <p:spPr>
                  <a:xfrm>
                    <a:off x="7526880" y="1563480"/>
                    <a:ext cx="18720" cy="7920"/>
                  </a:xfrm>
                  <a:custGeom>
                    <a:avLst/>
                    <a:gdLst>
                      <a:gd name="textAreaLeft" fmla="*/ 0 w 18720"/>
                      <a:gd name="textAreaRight" fmla="*/ 19080 w 18720"/>
                      <a:gd name="textAreaTop" fmla="*/ 0 h 7920"/>
                      <a:gd name="textAreaBottom" fmla="*/ 8280 h 7920"/>
                    </a:gdLst>
                    <a:ahLst/>
                    <a:rect l="textAreaLeft" t="textAreaTop" r="textAreaRight" b="textAreaBottom"/>
                    <a:pathLst>
                      <a:path w="11" h="5">
                        <a:moveTo>
                          <a:pt x="0" y="5"/>
                        </a:moveTo>
                        <a:lnTo>
                          <a:pt x="0" y="3"/>
                        </a:lnTo>
                        <a:lnTo>
                          <a:pt x="11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6" name="Freeform 293"/>
                  <p:cNvSpPr/>
                  <p:nvPr/>
                </p:nvSpPr>
                <p:spPr>
                  <a:xfrm>
                    <a:off x="7566480" y="1552680"/>
                    <a:ext cx="20520" cy="468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4680"/>
                      <a:gd name="textAreaBottom" fmla="*/ 5040 h 4680"/>
                    </a:gdLst>
                    <a:ahLst/>
                    <a:rect l="textAreaLeft" t="textAreaTop" r="textAreaRight" b="textAreaBottom"/>
                    <a:pathLst>
                      <a:path w="12" h="3">
                        <a:moveTo>
                          <a:pt x="0" y="3"/>
                        </a:moveTo>
                        <a:lnTo>
                          <a:pt x="9" y="0"/>
                        </a:lnTo>
                        <a:lnTo>
                          <a:pt x="12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7" name="Freeform 294"/>
                  <p:cNvSpPr/>
                  <p:nvPr/>
                </p:nvSpPr>
                <p:spPr>
                  <a:xfrm>
                    <a:off x="7603920" y="1544760"/>
                    <a:ext cx="20520" cy="288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2880"/>
                      <a:gd name="textAreaBottom" fmla="*/ 3240 h 2880"/>
                    </a:gdLst>
                    <a:ahLst/>
                    <a:rect l="textAreaLeft" t="textAreaTop" r="textAreaRight" b="textAreaBottom"/>
                    <a:pathLst>
                      <a:path w="12" h="2">
                        <a:moveTo>
                          <a:pt x="0" y="2"/>
                        </a:moveTo>
                        <a:lnTo>
                          <a:pt x="2" y="0"/>
                        </a:lnTo>
                        <a:lnTo>
                          <a:pt x="12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8" name="Freeform 295"/>
                  <p:cNvSpPr/>
                  <p:nvPr/>
                </p:nvSpPr>
                <p:spPr>
                  <a:xfrm>
                    <a:off x="7633080" y="1562040"/>
                    <a:ext cx="6480" cy="19080"/>
                  </a:xfrm>
                  <a:custGeom>
                    <a:avLst/>
                    <a:gdLst>
                      <a:gd name="textAreaLeft" fmla="*/ 0 w 6480"/>
                      <a:gd name="textAreaRight" fmla="*/ 6840 w 6480"/>
                      <a:gd name="textAreaTop" fmla="*/ 0 h 19080"/>
                      <a:gd name="textAreaBottom" fmla="*/ 19440 h 19080"/>
                    </a:gdLst>
                    <a:ahLst/>
                    <a:rect l="textAreaLeft" t="textAreaTop" r="textAreaRight" b="textAreaBottom"/>
                    <a:pathLst>
                      <a:path w="4" h="12">
                        <a:moveTo>
                          <a:pt x="0" y="0"/>
                        </a:moveTo>
                        <a:lnTo>
                          <a:pt x="3" y="10"/>
                        </a:lnTo>
                        <a:lnTo>
                          <a:pt x="4" y="12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9" name="Line 296"/>
                  <p:cNvSpPr/>
                  <p:nvPr/>
                </p:nvSpPr>
                <p:spPr>
                  <a:xfrm>
                    <a:off x="7644960" y="1596960"/>
                    <a:ext cx="828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0" name="Line 297"/>
                  <p:cNvSpPr/>
                  <p:nvPr/>
                </p:nvSpPr>
                <p:spPr>
                  <a:xfrm flipH="1">
                    <a:off x="7650000" y="1631880"/>
                    <a:ext cx="828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1" name="Line 298"/>
                  <p:cNvSpPr/>
                  <p:nvPr/>
                </p:nvSpPr>
                <p:spPr>
                  <a:xfrm flipH="1">
                    <a:off x="7633080" y="1668240"/>
                    <a:ext cx="10080" cy="1620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2" name="Line 299"/>
                  <p:cNvSpPr/>
                  <p:nvPr/>
                </p:nvSpPr>
                <p:spPr>
                  <a:xfrm flipH="1">
                    <a:off x="7617240" y="1703160"/>
                    <a:ext cx="6840" cy="1764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3" name="Freeform 300"/>
                  <p:cNvSpPr/>
                  <p:nvPr/>
                </p:nvSpPr>
                <p:spPr>
                  <a:xfrm>
                    <a:off x="7603920" y="1736640"/>
                    <a:ext cx="10080" cy="1764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7640"/>
                      <a:gd name="textAreaBottom" fmla="*/ 18000 h 17640"/>
                    </a:gdLst>
                    <a:ahLst/>
                    <a:rect l="textAreaLeft" t="textAreaTop" r="textAreaRight" b="textAreaBottom"/>
                    <a:pathLst>
                      <a:path w="6" h="11">
                        <a:moveTo>
                          <a:pt x="2" y="0"/>
                        </a:moveTo>
                        <a:lnTo>
                          <a:pt x="0" y="3"/>
                        </a:lnTo>
                        <a:lnTo>
                          <a:pt x="6" y="11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4" name="Freeform 301"/>
                  <p:cNvSpPr/>
                  <p:nvPr/>
                </p:nvSpPr>
                <p:spPr>
                  <a:xfrm>
                    <a:off x="7624440" y="1770120"/>
                    <a:ext cx="18360" cy="7920"/>
                  </a:xfrm>
                  <a:custGeom>
                    <a:avLst/>
                    <a:gdLst>
                      <a:gd name="textAreaLeft" fmla="*/ 0 w 18360"/>
                      <a:gd name="textAreaRight" fmla="*/ 18720 w 18360"/>
                      <a:gd name="textAreaTop" fmla="*/ 0 h 7920"/>
                      <a:gd name="textAreaBottom" fmla="*/ 8280 h 7920"/>
                    </a:gdLst>
                    <a:ahLst/>
                    <a:rect l="textAreaLeft" t="textAreaTop" r="textAreaRight" b="textAreaBottom"/>
                    <a:pathLst>
                      <a:path w="11" h="5">
                        <a:moveTo>
                          <a:pt x="0" y="0"/>
                        </a:moveTo>
                        <a:lnTo>
                          <a:pt x="3" y="5"/>
                        </a:lnTo>
                        <a:lnTo>
                          <a:pt x="11" y="5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5" name="Freeform 302"/>
                  <p:cNvSpPr/>
                  <p:nvPr/>
                </p:nvSpPr>
                <p:spPr>
                  <a:xfrm>
                    <a:off x="7663680" y="1774800"/>
                    <a:ext cx="15480" cy="12600"/>
                  </a:xfrm>
                  <a:custGeom>
                    <a:avLst/>
                    <a:gdLst>
                      <a:gd name="textAreaLeft" fmla="*/ 0 w 15480"/>
                      <a:gd name="textAreaRight" fmla="*/ 15840 w 1548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9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9" y="8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6" name="Line 303"/>
                  <p:cNvSpPr/>
                  <p:nvPr/>
                </p:nvSpPr>
                <p:spPr>
                  <a:xfrm>
                    <a:off x="7696440" y="1797120"/>
                    <a:ext cx="16920" cy="1116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7" name="Line 304"/>
                  <p:cNvSpPr/>
                  <p:nvPr/>
                </p:nvSpPr>
                <p:spPr>
                  <a:xfrm flipH="1">
                    <a:off x="7702560" y="1820880"/>
                    <a:ext cx="15480" cy="1404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8" name="Freeform 305"/>
                  <p:cNvSpPr/>
                  <p:nvPr/>
                </p:nvSpPr>
                <p:spPr>
                  <a:xfrm>
                    <a:off x="7675920" y="1846080"/>
                    <a:ext cx="13320" cy="14400"/>
                  </a:xfrm>
                  <a:custGeom>
                    <a:avLst/>
                    <a:gdLst>
                      <a:gd name="textAreaLeft" fmla="*/ 0 w 13320"/>
                      <a:gd name="textAreaRight" fmla="*/ 13680 w 1332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8" h="9">
                        <a:moveTo>
                          <a:pt x="8" y="0"/>
                        </a:moveTo>
                        <a:lnTo>
                          <a:pt x="5" y="3"/>
                        </a:lnTo>
                        <a:lnTo>
                          <a:pt x="0" y="9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9" name="Freeform 306"/>
                  <p:cNvSpPr/>
                  <p:nvPr/>
                </p:nvSpPr>
                <p:spPr>
                  <a:xfrm>
                    <a:off x="7665480" y="1876320"/>
                    <a:ext cx="5400" cy="19080"/>
                  </a:xfrm>
                  <a:custGeom>
                    <a:avLst/>
                    <a:gdLst>
                      <a:gd name="textAreaLeft" fmla="*/ 0 w 5400"/>
                      <a:gd name="textAreaRight" fmla="*/ 5760 w 5400"/>
                      <a:gd name="textAreaTop" fmla="*/ 0 h 19080"/>
                      <a:gd name="textAreaBottom" fmla="*/ 19440 h 19080"/>
                    </a:gdLst>
                    <a:ahLst/>
                    <a:rect l="textAreaLeft" t="textAreaTop" r="textAreaRight" b="textAreaBottom"/>
                    <a:pathLst>
                      <a:path w="3" h="12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0" name="Freeform 307"/>
                  <p:cNvSpPr/>
                  <p:nvPr/>
                </p:nvSpPr>
                <p:spPr>
                  <a:xfrm>
                    <a:off x="7655400" y="1914480"/>
                    <a:ext cx="8280" cy="17280"/>
                  </a:xfrm>
                  <a:custGeom>
                    <a:avLst/>
                    <a:gdLst>
                      <a:gd name="textAreaLeft" fmla="*/ 0 w 8280"/>
                      <a:gd name="textAreaRight" fmla="*/ 8640 w 8280"/>
                      <a:gd name="textAreaTop" fmla="*/ 0 h 17280"/>
                      <a:gd name="textAreaBottom" fmla="*/ 17280 h 17280"/>
                    </a:gdLst>
                    <a:ahLst/>
                    <a:rect l="textAreaLeft" t="textAreaTop" r="textAreaRight" b="textAreaBottom"/>
                    <a:pathLst>
                      <a:path w="5" h="11">
                        <a:moveTo>
                          <a:pt x="5" y="0"/>
                        </a:moveTo>
                        <a:lnTo>
                          <a:pt x="2" y="8"/>
                        </a:lnTo>
                        <a:lnTo>
                          <a:pt x="0" y="11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1" name="Freeform 308"/>
                  <p:cNvSpPr/>
                  <p:nvPr/>
                </p:nvSpPr>
                <p:spPr>
                  <a:xfrm>
                    <a:off x="7638120" y="1950840"/>
                    <a:ext cx="11880" cy="14400"/>
                  </a:xfrm>
                  <a:custGeom>
                    <a:avLst/>
                    <a:gdLst>
                      <a:gd name="textAreaLeft" fmla="*/ 0 w 11880"/>
                      <a:gd name="textAreaRight" fmla="*/ 12240 w 1188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7" h="9">
                        <a:moveTo>
                          <a:pt x="7" y="0"/>
                        </a:moveTo>
                        <a:lnTo>
                          <a:pt x="7" y="0"/>
                        </a:lnTo>
                        <a:lnTo>
                          <a:pt x="0" y="9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2" name="Line 309"/>
                  <p:cNvSpPr/>
                  <p:nvPr/>
                </p:nvSpPr>
                <p:spPr>
                  <a:xfrm flipH="1">
                    <a:off x="7612200" y="1979640"/>
                    <a:ext cx="11880" cy="1404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3" name="Line 310"/>
                  <p:cNvSpPr/>
                  <p:nvPr/>
                </p:nvSpPr>
                <p:spPr>
                  <a:xfrm flipH="1">
                    <a:off x="7588440" y="2009880"/>
                    <a:ext cx="10080" cy="1404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4" name="Freeform 311"/>
                  <p:cNvSpPr/>
                  <p:nvPr/>
                </p:nvSpPr>
                <p:spPr>
                  <a:xfrm>
                    <a:off x="7588440" y="2043000"/>
                    <a:ext cx="3240" cy="19080"/>
                  </a:xfrm>
                  <a:custGeom>
                    <a:avLst/>
                    <a:gdLst>
                      <a:gd name="textAreaLeft" fmla="*/ 0 w 3240"/>
                      <a:gd name="textAreaRight" fmla="*/ 3600 w 3240"/>
                      <a:gd name="textAreaTop" fmla="*/ 0 h 19080"/>
                      <a:gd name="textAreaBottom" fmla="*/ 19440 h 19080"/>
                    </a:gdLst>
                    <a:ahLst/>
                    <a:rect l="textAreaLeft" t="textAreaTop" r="textAreaRight" b="textAreaBottom"/>
                    <a:pathLst>
                      <a:path w="2" h="12">
                        <a:moveTo>
                          <a:pt x="0" y="0"/>
                        </a:moveTo>
                        <a:lnTo>
                          <a:pt x="2" y="12"/>
                        </a:lnTo>
                        <a:lnTo>
                          <a:pt x="0" y="12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5" name="Line 312"/>
                  <p:cNvSpPr/>
                  <p:nvPr/>
                </p:nvSpPr>
                <p:spPr>
                  <a:xfrm flipH="1">
                    <a:off x="7566480" y="2079720"/>
                    <a:ext cx="11520" cy="1404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6" name="Line 313"/>
                  <p:cNvSpPr/>
                  <p:nvPr/>
                </p:nvSpPr>
                <p:spPr>
                  <a:xfrm flipH="1">
                    <a:off x="7542000" y="2109600"/>
                    <a:ext cx="13320" cy="1440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7" name="Freeform 314"/>
                  <p:cNvSpPr/>
                  <p:nvPr/>
                </p:nvSpPr>
                <p:spPr>
                  <a:xfrm>
                    <a:off x="7525440" y="2139840"/>
                    <a:ext cx="5040" cy="19080"/>
                  </a:xfrm>
                  <a:custGeom>
                    <a:avLst/>
                    <a:gdLst>
                      <a:gd name="textAreaLeft" fmla="*/ 0 w 5040"/>
                      <a:gd name="textAreaRight" fmla="*/ 5400 w 5040"/>
                      <a:gd name="textAreaTop" fmla="*/ 0 h 19080"/>
                      <a:gd name="textAreaBottom" fmla="*/ 19440 h 19080"/>
                    </a:gdLst>
                    <a:ahLst/>
                    <a:rect l="textAreaLeft" t="textAreaTop" r="textAreaRight" b="textAreaBottom"/>
                    <a:pathLst>
                      <a:path w="3" h="12">
                        <a:moveTo>
                          <a:pt x="3" y="0"/>
                        </a:moveTo>
                        <a:lnTo>
                          <a:pt x="1" y="3"/>
                        </a:lnTo>
                        <a:lnTo>
                          <a:pt x="0" y="12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8" name="Freeform 315"/>
                  <p:cNvSpPr/>
                  <p:nvPr/>
                </p:nvSpPr>
                <p:spPr>
                  <a:xfrm>
                    <a:off x="7520400" y="2176560"/>
                    <a:ext cx="36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13">
                        <a:moveTo>
                          <a:pt x="0" y="0"/>
                        </a:moveTo>
                        <a:lnTo>
                          <a:pt x="0" y="3"/>
                        </a:lnTo>
                        <a:lnTo>
                          <a:pt x="0" y="13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9" name="Line 316"/>
                  <p:cNvSpPr/>
                  <p:nvPr/>
                </p:nvSpPr>
                <p:spPr>
                  <a:xfrm>
                    <a:off x="7520400" y="2214360"/>
                    <a:ext cx="504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0" name="Line 317"/>
                  <p:cNvSpPr/>
                  <p:nvPr/>
                </p:nvSpPr>
                <p:spPr>
                  <a:xfrm>
                    <a:off x="7537320" y="2247840"/>
                    <a:ext cx="18360" cy="1116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1" name="Freeform 318"/>
                  <p:cNvSpPr/>
                  <p:nvPr/>
                </p:nvSpPr>
                <p:spPr>
                  <a:xfrm>
                    <a:off x="7571520" y="2268360"/>
                    <a:ext cx="16920" cy="12960"/>
                  </a:xfrm>
                  <a:custGeom>
                    <a:avLst/>
                    <a:gdLst>
                      <a:gd name="textAreaLeft" fmla="*/ 0 w 16920"/>
                      <a:gd name="textAreaRight" fmla="*/ 17280 w 16920"/>
                      <a:gd name="textAreaTop" fmla="*/ 0 h 12960"/>
                      <a:gd name="textAreaBottom" fmla="*/ 13320 h 12960"/>
                    </a:gdLst>
                    <a:ahLst/>
                    <a:rect l="textAreaLeft" t="textAreaTop" r="textAreaRight" b="textAreaBottom"/>
                    <a:pathLst>
                      <a:path w="10" h="8">
                        <a:moveTo>
                          <a:pt x="0" y="0"/>
                        </a:moveTo>
                        <a:lnTo>
                          <a:pt x="1" y="2"/>
                        </a:lnTo>
                        <a:lnTo>
                          <a:pt x="10" y="8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2" name="Freeform 319"/>
                  <p:cNvSpPr/>
                  <p:nvPr/>
                </p:nvSpPr>
                <p:spPr>
                  <a:xfrm>
                    <a:off x="7603920" y="2292120"/>
                    <a:ext cx="8280" cy="17640"/>
                  </a:xfrm>
                  <a:custGeom>
                    <a:avLst/>
                    <a:gdLst>
                      <a:gd name="textAreaLeft" fmla="*/ 0 w 8280"/>
                      <a:gd name="textAreaRight" fmla="*/ 8640 w 8280"/>
                      <a:gd name="textAreaTop" fmla="*/ 0 h 17640"/>
                      <a:gd name="textAreaBottom" fmla="*/ 18000 h 17640"/>
                    </a:gdLst>
                    <a:ahLst/>
                    <a:rect l="textAreaLeft" t="textAreaTop" r="textAreaRight" b="textAreaBottom"/>
                    <a:pathLst>
                      <a:path w="5" h="11">
                        <a:moveTo>
                          <a:pt x="0" y="0"/>
                        </a:moveTo>
                        <a:lnTo>
                          <a:pt x="5" y="5"/>
                        </a:lnTo>
                        <a:lnTo>
                          <a:pt x="5" y="11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3" name="Line 320"/>
                  <p:cNvSpPr/>
                  <p:nvPr/>
                </p:nvSpPr>
                <p:spPr>
                  <a:xfrm>
                    <a:off x="7612560" y="2328840"/>
                    <a:ext cx="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4" name="Line 321"/>
                  <p:cNvSpPr/>
                  <p:nvPr/>
                </p:nvSpPr>
                <p:spPr>
                  <a:xfrm>
                    <a:off x="7612560" y="2365200"/>
                    <a:ext cx="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5" name="Line 322"/>
                  <p:cNvSpPr/>
                  <p:nvPr/>
                </p:nvSpPr>
                <p:spPr>
                  <a:xfrm>
                    <a:off x="7612560" y="2403360"/>
                    <a:ext cx="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6" name="Line 323"/>
                  <p:cNvSpPr/>
                  <p:nvPr/>
                </p:nvSpPr>
                <p:spPr>
                  <a:xfrm flipH="1">
                    <a:off x="7588080" y="2440080"/>
                    <a:ext cx="13320" cy="1404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7" name="Line 324"/>
                  <p:cNvSpPr/>
                  <p:nvPr/>
                </p:nvSpPr>
                <p:spPr>
                  <a:xfrm flipH="1">
                    <a:off x="7562520" y="2468520"/>
                    <a:ext cx="13320" cy="1440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8" name="Line 325"/>
                  <p:cNvSpPr/>
                  <p:nvPr/>
                </p:nvSpPr>
                <p:spPr>
                  <a:xfrm flipH="1">
                    <a:off x="7535160" y="2496960"/>
                    <a:ext cx="11880" cy="1440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9" name="Line 326"/>
                  <p:cNvSpPr/>
                  <p:nvPr/>
                </p:nvSpPr>
                <p:spPr>
                  <a:xfrm flipH="1">
                    <a:off x="7509600" y="2525760"/>
                    <a:ext cx="11880" cy="1404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0" name="Line 327"/>
                  <p:cNvSpPr/>
                  <p:nvPr/>
                </p:nvSpPr>
                <p:spPr>
                  <a:xfrm flipH="1">
                    <a:off x="7482600" y="2554200"/>
                    <a:ext cx="11520" cy="1584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1" name="Line 328"/>
                  <p:cNvSpPr/>
                  <p:nvPr/>
                </p:nvSpPr>
                <p:spPr>
                  <a:xfrm flipH="1">
                    <a:off x="7456320" y="2584440"/>
                    <a:ext cx="11880" cy="1440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932" name="Freeform 329"/>
            <p:cNvSpPr/>
            <p:nvPr/>
          </p:nvSpPr>
          <p:spPr>
            <a:xfrm>
              <a:off x="6870960" y="1654200"/>
              <a:ext cx="1370160" cy="804960"/>
            </a:xfrm>
            <a:custGeom>
              <a:avLst/>
              <a:gdLst>
                <a:gd name="textAreaLeft" fmla="*/ 0 w 1370160"/>
                <a:gd name="textAreaRight" fmla="*/ 1370520 w 1370160"/>
                <a:gd name="textAreaTop" fmla="*/ 0 h 804960"/>
                <a:gd name="textAreaBottom" fmla="*/ 805320 h 804960"/>
              </a:gdLst>
              <a:ahLst/>
              <a:rect l="textAreaLeft" t="textAreaTop" r="textAreaRight" b="textAreaBottom"/>
              <a:pathLst>
                <a:path w="801" h="507">
                  <a:moveTo>
                    <a:pt x="0" y="102"/>
                  </a:moveTo>
                  <a:cubicBezTo>
                    <a:pt x="57" y="51"/>
                    <a:pt x="114" y="0"/>
                    <a:pt x="148" y="5"/>
                  </a:cubicBezTo>
                  <a:cubicBezTo>
                    <a:pt x="182" y="10"/>
                    <a:pt x="193" y="62"/>
                    <a:pt x="205" y="131"/>
                  </a:cubicBezTo>
                  <a:cubicBezTo>
                    <a:pt x="217" y="200"/>
                    <a:pt x="191" y="378"/>
                    <a:pt x="222" y="422"/>
                  </a:cubicBezTo>
                  <a:cubicBezTo>
                    <a:pt x="253" y="466"/>
                    <a:pt x="340" y="412"/>
                    <a:pt x="393" y="393"/>
                  </a:cubicBezTo>
                  <a:cubicBezTo>
                    <a:pt x="446" y="374"/>
                    <a:pt x="494" y="318"/>
                    <a:pt x="542" y="307"/>
                  </a:cubicBezTo>
                  <a:cubicBezTo>
                    <a:pt x="590" y="296"/>
                    <a:pt x="642" y="312"/>
                    <a:pt x="684" y="325"/>
                  </a:cubicBezTo>
                  <a:cubicBezTo>
                    <a:pt x="726" y="338"/>
                    <a:pt x="785" y="357"/>
                    <a:pt x="793" y="387"/>
                  </a:cubicBezTo>
                  <a:cubicBezTo>
                    <a:pt x="801" y="417"/>
                    <a:pt x="765" y="462"/>
                    <a:pt x="730" y="507"/>
                  </a:cubicBezTo>
                </a:path>
              </a:pathLst>
            </a:custGeom>
            <a:noFill/>
            <a:ln w="9360">
              <a:solidFill>
                <a:srgbClr val="eeece1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Freeform 330"/>
            <p:cNvSpPr/>
            <p:nvPr/>
          </p:nvSpPr>
          <p:spPr>
            <a:xfrm>
              <a:off x="7293240" y="1581120"/>
              <a:ext cx="718200" cy="468360"/>
            </a:xfrm>
            <a:custGeom>
              <a:avLst/>
              <a:gdLst>
                <a:gd name="textAreaLeft" fmla="*/ 0 w 718200"/>
                <a:gd name="textAreaRight" fmla="*/ 718560 w 718200"/>
                <a:gd name="textAreaTop" fmla="*/ 0 h 468360"/>
                <a:gd name="textAreaBottom" fmla="*/ 468720 h 468360"/>
              </a:gdLst>
              <a:ahLst/>
              <a:rect l="textAreaLeft" t="textAreaTop" r="textAreaRight" b="textAreaBottom"/>
              <a:pathLst>
                <a:path w="420" h="295">
                  <a:moveTo>
                    <a:pt x="95" y="0"/>
                  </a:moveTo>
                  <a:cubicBezTo>
                    <a:pt x="93" y="22"/>
                    <a:pt x="92" y="44"/>
                    <a:pt x="78" y="85"/>
                  </a:cubicBezTo>
                  <a:cubicBezTo>
                    <a:pt x="64" y="126"/>
                    <a:pt x="0" y="217"/>
                    <a:pt x="10" y="245"/>
                  </a:cubicBezTo>
                  <a:cubicBezTo>
                    <a:pt x="20" y="273"/>
                    <a:pt x="96" y="245"/>
                    <a:pt x="141" y="251"/>
                  </a:cubicBezTo>
                  <a:cubicBezTo>
                    <a:pt x="186" y="257"/>
                    <a:pt x="249" y="295"/>
                    <a:pt x="283" y="279"/>
                  </a:cubicBezTo>
                  <a:cubicBezTo>
                    <a:pt x="317" y="263"/>
                    <a:pt x="323" y="180"/>
                    <a:pt x="346" y="154"/>
                  </a:cubicBezTo>
                  <a:cubicBezTo>
                    <a:pt x="369" y="128"/>
                    <a:pt x="408" y="126"/>
                    <a:pt x="420" y="120"/>
                  </a:cubicBezTo>
                </a:path>
              </a:pathLst>
            </a:custGeom>
            <a:noFill/>
            <a:ln w="9360">
              <a:solidFill>
                <a:srgbClr val="eeece1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4" name="TextBox 313"/>
          <p:cNvSpPr/>
          <p:nvPr/>
        </p:nvSpPr>
        <p:spPr>
          <a:xfrm>
            <a:off x="383040" y="136224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5" name="Group 340"/>
          <p:cNvGrpSpPr/>
          <p:nvPr/>
        </p:nvGrpSpPr>
        <p:grpSpPr>
          <a:xfrm>
            <a:off x="361440" y="5540400"/>
            <a:ext cx="8209440" cy="1212120"/>
            <a:chOff x="361440" y="5540400"/>
            <a:chExt cx="8209440" cy="1212120"/>
          </a:xfrm>
        </p:grpSpPr>
        <p:sp>
          <p:nvSpPr>
            <p:cNvPr id="1936" name="Text Box 30"/>
            <p:cNvSpPr/>
            <p:nvPr/>
          </p:nvSpPr>
          <p:spPr>
            <a:xfrm>
              <a:off x="361440" y="5810400"/>
              <a:ext cx="820944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Household/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Community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Characteriz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ross-country data harmonization challenges.  </a:t>
              </a:r>
              <a:r>
                <a:rPr b="1" i="1" lang="en-US" sz="1400" spc="-1" strike="noStrike">
                  <a:solidFill>
                    <a:srgbClr val="ff0000"/>
                  </a:solidFill>
                  <a:latin typeface="Verdana"/>
                </a:rPr>
                <a:t>Livelihoods, Assets, Gender &amp; Access Foc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TextBox 314"/>
            <p:cNvSpPr/>
            <p:nvPr/>
          </p:nvSpPr>
          <p:spPr>
            <a:xfrm>
              <a:off x="375840" y="5540400"/>
              <a:ext cx="94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MICR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8" name="Group 335"/>
          <p:cNvGrpSpPr/>
          <p:nvPr/>
        </p:nvGrpSpPr>
        <p:grpSpPr>
          <a:xfrm>
            <a:off x="380880" y="3319560"/>
            <a:ext cx="8276760" cy="2000160"/>
            <a:chOff x="380880" y="3319560"/>
            <a:chExt cx="8276760" cy="2000160"/>
          </a:xfrm>
        </p:grpSpPr>
        <p:sp>
          <p:nvSpPr>
            <p:cNvPr id="1939" name="Text Box 32"/>
            <p:cNvSpPr/>
            <p:nvPr/>
          </p:nvSpPr>
          <p:spPr>
            <a:xfrm>
              <a:off x="380880" y="3941640"/>
              <a:ext cx="4571640" cy="128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Production/Market Context &amp; Impa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Gridcells/pixels as units of analysi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atural/Human landscape patterns as well as resourc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nd product flows are unifying concepts and objects of analysi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0000"/>
                  </a:solidFill>
                  <a:latin typeface="Verdana"/>
                </a:rPr>
                <a:t>Systems focus</a:t>
              </a:r>
              <a:r>
                <a:rPr b="1" lang="en-US" sz="1400" spc="-1" strike="noStrike">
                  <a:solidFill>
                    <a:srgbClr val="ff0000"/>
                  </a:solidFill>
                  <a:latin typeface="Verdana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TextBox 315"/>
            <p:cNvSpPr/>
            <p:nvPr/>
          </p:nvSpPr>
          <p:spPr>
            <a:xfrm>
              <a:off x="389160" y="3640320"/>
              <a:ext cx="85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MES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1" name="Group 332"/>
            <p:cNvGrpSpPr/>
            <p:nvPr/>
          </p:nvGrpSpPr>
          <p:grpSpPr>
            <a:xfrm>
              <a:off x="4157640" y="3319560"/>
              <a:ext cx="4500000" cy="2000160"/>
              <a:chOff x="4157640" y="3319560"/>
              <a:chExt cx="4500000" cy="2000160"/>
            </a:xfrm>
          </p:grpSpPr>
          <p:sp>
            <p:nvSpPr>
              <p:cNvPr id="1942" name="Line 34"/>
              <p:cNvSpPr/>
              <p:nvPr/>
            </p:nvSpPr>
            <p:spPr>
              <a:xfrm>
                <a:off x="5343120" y="4157640"/>
                <a:ext cx="1271880" cy="1162080"/>
              </a:xfrm>
              <a:prstGeom prst="line">
                <a:avLst/>
              </a:prstGeom>
              <a:ln w="9360">
                <a:solidFill>
                  <a:srgbClr val="eeece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Line 35"/>
              <p:cNvSpPr/>
              <p:nvPr/>
            </p:nvSpPr>
            <p:spPr>
              <a:xfrm>
                <a:off x="4342680" y="4138560"/>
                <a:ext cx="1219320" cy="1152000"/>
              </a:xfrm>
              <a:prstGeom prst="line">
                <a:avLst/>
              </a:prstGeom>
              <a:ln w="9360">
                <a:solidFill>
                  <a:srgbClr val="eeece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Line 36"/>
              <p:cNvSpPr/>
              <p:nvPr/>
            </p:nvSpPr>
            <p:spPr>
              <a:xfrm flipV="1">
                <a:off x="4699800" y="4966560"/>
                <a:ext cx="3266640" cy="4320"/>
              </a:xfrm>
              <a:prstGeom prst="line">
                <a:avLst/>
              </a:prstGeom>
              <a:ln w="9360">
                <a:solidFill>
                  <a:srgbClr val="eeece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Line 37"/>
              <p:cNvSpPr/>
              <p:nvPr/>
            </p:nvSpPr>
            <p:spPr>
              <a:xfrm flipV="1">
                <a:off x="4157640" y="4344480"/>
                <a:ext cx="3266640" cy="4320"/>
              </a:xfrm>
              <a:prstGeom prst="line">
                <a:avLst/>
              </a:prstGeom>
              <a:ln w="9360">
                <a:solidFill>
                  <a:srgbClr val="eeece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Line 38"/>
              <p:cNvSpPr/>
              <p:nvPr/>
            </p:nvSpPr>
            <p:spPr>
              <a:xfrm>
                <a:off x="5020200" y="3319560"/>
                <a:ext cx="0" cy="1753560"/>
              </a:xfrm>
              <a:prstGeom prst="line">
                <a:avLst/>
              </a:prstGeom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Line 39"/>
              <p:cNvSpPr/>
              <p:nvPr/>
            </p:nvSpPr>
            <p:spPr>
              <a:xfrm>
                <a:off x="5540040" y="3319560"/>
                <a:ext cx="0" cy="1753560"/>
              </a:xfrm>
              <a:prstGeom prst="line">
                <a:avLst/>
              </a:prstGeom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Line 40"/>
              <p:cNvSpPr/>
              <p:nvPr/>
            </p:nvSpPr>
            <p:spPr>
              <a:xfrm>
                <a:off x="5767560" y="3459600"/>
                <a:ext cx="0" cy="1753560"/>
              </a:xfrm>
              <a:prstGeom prst="line">
                <a:avLst/>
              </a:prstGeom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AutoShape 43"/>
              <p:cNvSpPr/>
              <p:nvPr/>
            </p:nvSpPr>
            <p:spPr>
              <a:xfrm flipV="1" rot="10800000">
                <a:off x="5003640" y="4617360"/>
                <a:ext cx="766440" cy="344520"/>
              </a:xfrm>
              <a:prstGeom prst="cube">
                <a:avLst>
                  <a:gd name="adj" fmla="val 64611"/>
                </a:avLst>
              </a:prstGeom>
              <a:solidFill>
                <a:srgbClr val="ff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Text Box 45"/>
              <p:cNvSpPr/>
              <p:nvPr/>
            </p:nvSpPr>
            <p:spPr>
              <a:xfrm>
                <a:off x="5965920" y="4069800"/>
                <a:ext cx="1689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8000"/>
                    </a:solidFill>
                    <a:latin typeface="Verdana"/>
                  </a:rPr>
                  <a:t>Production System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Text Box 46"/>
              <p:cNvSpPr/>
              <p:nvPr/>
            </p:nvSpPr>
            <p:spPr>
              <a:xfrm>
                <a:off x="6021720" y="4402440"/>
                <a:ext cx="2081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6b6bcf"/>
                    </a:solidFill>
                    <a:latin typeface="Verdana"/>
                  </a:rPr>
                  <a:t>Ecosystems &amp; ES Servic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Text Box 47"/>
              <p:cNvSpPr/>
              <p:nvPr/>
            </p:nvSpPr>
            <p:spPr>
              <a:xfrm>
                <a:off x="5876280" y="3754800"/>
                <a:ext cx="278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ff"/>
                    </a:solidFill>
                    <a:latin typeface="Verdana"/>
                  </a:rPr>
                  <a:t>Infrastructure/Market Acces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Line 48"/>
              <p:cNvSpPr/>
              <p:nvPr/>
            </p:nvSpPr>
            <p:spPr>
              <a:xfrm flipV="1">
                <a:off x="4406400" y="4542480"/>
                <a:ext cx="3266640" cy="4320"/>
              </a:xfrm>
              <a:prstGeom prst="line">
                <a:avLst/>
              </a:prstGeom>
              <a:ln w="9360">
                <a:solidFill>
                  <a:srgbClr val="eeece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Line 49"/>
              <p:cNvSpPr/>
              <p:nvPr/>
            </p:nvSpPr>
            <p:spPr>
              <a:xfrm>
                <a:off x="4838040" y="4148280"/>
                <a:ext cx="1239120" cy="1157040"/>
              </a:xfrm>
              <a:prstGeom prst="line">
                <a:avLst/>
              </a:prstGeom>
              <a:ln w="9360">
                <a:solidFill>
                  <a:srgbClr val="eeece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Line 48"/>
              <p:cNvSpPr/>
              <p:nvPr/>
            </p:nvSpPr>
            <p:spPr>
              <a:xfrm flipV="1">
                <a:off x="4587480" y="4742640"/>
                <a:ext cx="3266640" cy="4320"/>
              </a:xfrm>
              <a:prstGeom prst="line">
                <a:avLst/>
              </a:prstGeom>
              <a:ln w="9360">
                <a:solidFill>
                  <a:srgbClr val="eeece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AutoShape 42"/>
              <p:cNvSpPr/>
              <p:nvPr/>
            </p:nvSpPr>
            <p:spPr>
              <a:xfrm flipV="1" rot="10800000">
                <a:off x="5017320" y="4286880"/>
                <a:ext cx="765000" cy="345960"/>
              </a:xfrm>
              <a:prstGeom prst="cube">
                <a:avLst>
                  <a:gd name="adj" fmla="val 64611"/>
                </a:avLst>
              </a:prstGeom>
              <a:solidFill>
                <a:srgbClr val="fac09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AutoShape 41"/>
              <p:cNvSpPr/>
              <p:nvPr/>
            </p:nvSpPr>
            <p:spPr>
              <a:xfrm flipV="1" rot="10800000">
                <a:off x="5028120" y="3964320"/>
                <a:ext cx="766440" cy="344520"/>
              </a:xfrm>
              <a:prstGeom prst="cube">
                <a:avLst>
                  <a:gd name="adj" fmla="val 64611"/>
                </a:avLst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AutoShape 41"/>
              <p:cNvSpPr/>
              <p:nvPr/>
            </p:nvSpPr>
            <p:spPr>
              <a:xfrm flipV="1" rot="10800000">
                <a:off x="5018400" y="3640320"/>
                <a:ext cx="766440" cy="344520"/>
              </a:xfrm>
              <a:prstGeom prst="cube">
                <a:avLst>
                  <a:gd name="adj" fmla="val 64611"/>
                </a:avLst>
              </a:prstGeom>
              <a:solidFill>
                <a:srgbClr val="9933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Text Box 46"/>
              <p:cNvSpPr/>
              <p:nvPr/>
            </p:nvSpPr>
            <p:spPr>
              <a:xfrm>
                <a:off x="6015240" y="4745520"/>
                <a:ext cx="2536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6f0d"/>
                    </a:solidFill>
                    <a:latin typeface="Verdana"/>
                  </a:rPr>
                  <a:t>Demographics/Human Welfa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Line 44"/>
              <p:cNvSpPr/>
              <p:nvPr/>
            </p:nvSpPr>
            <p:spPr>
              <a:xfrm>
                <a:off x="5248080" y="3459600"/>
                <a:ext cx="0" cy="1753560"/>
              </a:xfrm>
              <a:prstGeom prst="line">
                <a:avLst/>
              </a:prstGeom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61" name="TextBox 322"/>
          <p:cNvSpPr/>
          <p:nvPr/>
        </p:nvSpPr>
        <p:spPr>
          <a:xfrm>
            <a:off x="193680" y="163440"/>
            <a:ext cx="870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inking Data &amp; Analysis Across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SA Farming Sys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3" name="Content Placeholder 3" descr="fs.png"/>
          <p:cNvPicPr/>
          <p:nvPr/>
        </p:nvPicPr>
        <p:blipFill>
          <a:blip r:embed="rId1"/>
          <a:stretch/>
        </p:blipFill>
        <p:spPr>
          <a:xfrm>
            <a:off x="-23760" y="914400"/>
            <a:ext cx="5468760" cy="5791320"/>
          </a:xfrm>
          <a:prstGeom prst="rect">
            <a:avLst/>
          </a:prstGeom>
          <a:ln w="0">
            <a:noFill/>
          </a:ln>
        </p:spPr>
      </p:pic>
      <p:pic>
        <p:nvPicPr>
          <p:cNvPr id="1964" name="Content Placeholder 3" descr="fs.png"/>
          <p:cNvPicPr/>
          <p:nvPr/>
        </p:nvPicPr>
        <p:blipFill>
          <a:blip r:embed="rId2"/>
          <a:stretch/>
        </p:blipFill>
        <p:spPr>
          <a:xfrm>
            <a:off x="5459400" y="1708200"/>
            <a:ext cx="3106800" cy="4656240"/>
          </a:xfrm>
          <a:prstGeom prst="rect">
            <a:avLst/>
          </a:prstGeom>
          <a:ln w="0">
            <a:noFill/>
          </a:ln>
        </p:spPr>
      </p:pic>
      <p:sp>
        <p:nvSpPr>
          <p:cNvPr id="1965" name="Rectangle 2"/>
          <p:cNvSpPr/>
          <p:nvPr/>
        </p:nvSpPr>
        <p:spPr>
          <a:xfrm>
            <a:off x="241200" y="3505320"/>
            <a:ext cx="189252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TextBox 7"/>
          <p:cNvSpPr/>
          <p:nvPr/>
        </p:nvSpPr>
        <p:spPr>
          <a:xfrm>
            <a:off x="253080" y="6305400"/>
            <a:ext cx="24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rce: Dixon el al.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5087520" y="32040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electing SI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ocus Are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8" name="Content Placeholder 3" descr="africa_poppng.png"/>
          <p:cNvPicPr/>
          <p:nvPr/>
        </p:nvPicPr>
        <p:blipFill>
          <a:blip r:embed="rId1"/>
          <a:stretch/>
        </p:blipFill>
        <p:spPr>
          <a:xfrm>
            <a:off x="162000" y="380880"/>
            <a:ext cx="427500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69" name="TextBox 8"/>
          <p:cNvSpPr/>
          <p:nvPr/>
        </p:nvSpPr>
        <p:spPr>
          <a:xfrm>
            <a:off x="142920" y="4332240"/>
            <a:ext cx="121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n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TextBox 12"/>
          <p:cNvSpPr/>
          <p:nvPr/>
        </p:nvSpPr>
        <p:spPr>
          <a:xfrm>
            <a:off x="3450240" y="378000"/>
            <a:ext cx="101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UMP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5087520" y="32040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electing SI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ocus Are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72" name="Group 16"/>
          <p:cNvGrpSpPr/>
          <p:nvPr/>
        </p:nvGrpSpPr>
        <p:grpSpPr>
          <a:xfrm>
            <a:off x="886680" y="1065240"/>
            <a:ext cx="4592520" cy="4591800"/>
            <a:chOff x="886680" y="1065240"/>
            <a:chExt cx="4592520" cy="4591800"/>
          </a:xfrm>
        </p:grpSpPr>
        <p:grpSp>
          <p:nvGrpSpPr>
            <p:cNvPr id="1973" name="Group 2"/>
            <p:cNvGrpSpPr/>
            <p:nvPr/>
          </p:nvGrpSpPr>
          <p:grpSpPr>
            <a:xfrm>
              <a:off x="936720" y="1067040"/>
              <a:ext cx="4526280" cy="4525560"/>
              <a:chOff x="936720" y="1067040"/>
              <a:chExt cx="4526280" cy="4525560"/>
            </a:xfrm>
          </p:grpSpPr>
          <p:pic>
            <p:nvPicPr>
              <p:cNvPr id="1974" name="Content Placeholder 5" descr="headcount $1.25 per day.png"/>
              <p:cNvPicPr/>
              <p:nvPr/>
            </p:nvPicPr>
            <p:blipFill>
              <a:blip r:embed="rId1"/>
              <a:stretch/>
            </p:blipFill>
            <p:spPr>
              <a:xfrm>
                <a:off x="936720" y="1067040"/>
                <a:ext cx="4526280" cy="45255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975" name="Picture 7" descr="legend headcount $1.25 per day.png"/>
              <p:cNvPicPr/>
              <p:nvPr/>
            </p:nvPicPr>
            <p:blipFill>
              <a:blip r:embed="rId2"/>
              <a:stretch/>
            </p:blipFill>
            <p:spPr>
              <a:xfrm>
                <a:off x="1319760" y="2880360"/>
                <a:ext cx="1346400" cy="2547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76" name="TextBox 9"/>
            <p:cNvSpPr/>
            <p:nvPr/>
          </p:nvSpPr>
          <p:spPr>
            <a:xfrm>
              <a:off x="886680" y="5288760"/>
              <a:ext cx="91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Pover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TextBox 13"/>
            <p:cNvSpPr/>
            <p:nvPr/>
          </p:nvSpPr>
          <p:spPr>
            <a:xfrm>
              <a:off x="4269600" y="1065240"/>
              <a:ext cx="1209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Wood et al 200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(now replaced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5087520" y="32040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electing SI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ocus Are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79" name="Group 17"/>
          <p:cNvGrpSpPr/>
          <p:nvPr/>
        </p:nvGrpSpPr>
        <p:grpSpPr>
          <a:xfrm>
            <a:off x="1988640" y="1636560"/>
            <a:ext cx="4336920" cy="4629960"/>
            <a:chOff x="1988640" y="1636560"/>
            <a:chExt cx="4336920" cy="4629960"/>
          </a:xfrm>
        </p:grpSpPr>
        <p:pic>
          <p:nvPicPr>
            <p:cNvPr id="1980" name="Content Placeholder 6" descr="Africa Cropland density.png"/>
            <p:cNvPicPr/>
            <p:nvPr/>
          </p:nvPicPr>
          <p:blipFill>
            <a:blip r:embed="rId1"/>
            <a:stretch/>
          </p:blipFill>
          <p:spPr>
            <a:xfrm>
              <a:off x="2031120" y="1675440"/>
              <a:ext cx="4275360" cy="4526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81" name="TextBox 10"/>
            <p:cNvSpPr/>
            <p:nvPr/>
          </p:nvSpPr>
          <p:spPr>
            <a:xfrm>
              <a:off x="1988640" y="5898240"/>
              <a:ext cx="104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ropla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TextBox 14"/>
            <p:cNvSpPr/>
            <p:nvPr/>
          </p:nvSpPr>
          <p:spPr>
            <a:xfrm>
              <a:off x="5094720" y="163656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Ramankutty et 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(2008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5087520" y="32040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electing SI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ocus Are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4" name="Content Placeholder 3" descr="africa_mkt.png"/>
          <p:cNvPicPr/>
          <p:nvPr/>
        </p:nvPicPr>
        <p:blipFill>
          <a:blip r:embed="rId1"/>
          <a:stretch/>
        </p:blipFill>
        <p:spPr>
          <a:xfrm>
            <a:off x="3457440" y="2390760"/>
            <a:ext cx="4121280" cy="4332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985" name="Group 18"/>
          <p:cNvGrpSpPr/>
          <p:nvPr/>
        </p:nvGrpSpPr>
        <p:grpSpPr>
          <a:xfrm>
            <a:off x="3414960" y="2384280"/>
            <a:ext cx="4158000" cy="4407480"/>
            <a:chOff x="3414960" y="2384280"/>
            <a:chExt cx="4158000" cy="4407480"/>
          </a:xfrm>
        </p:grpSpPr>
        <p:sp>
          <p:nvSpPr>
            <p:cNvPr id="1986" name="TextBox 11"/>
            <p:cNvSpPr/>
            <p:nvPr/>
          </p:nvSpPr>
          <p:spPr>
            <a:xfrm>
              <a:off x="3414960" y="6423480"/>
              <a:ext cx="197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ime to &gt;50K tow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TextBox 15"/>
            <p:cNvSpPr/>
            <p:nvPr/>
          </p:nvSpPr>
          <p:spPr>
            <a:xfrm>
              <a:off x="6499080" y="2384280"/>
              <a:ext cx="1073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HarvestCho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Guo 20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22:17:45Z</dcterms:created>
  <dc:creator>locadmin</dc:creator>
  <dc:description/>
  <dc:language>en-US</dc:language>
  <cp:lastModifiedBy>PBallantyne</cp:lastModifiedBy>
  <dcterms:modified xsi:type="dcterms:W3CDTF">2012-01-11T15:03:52Z</dcterms:modified>
  <cp:revision>33</cp:revision>
  <dc:subject/>
  <dc:title>PowerPoint Presentation</dc:title>
</cp:coreProperties>
</file>